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0B419-8D0E-4789-8B0D-1A980B64D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DADA8-A5EE-4815-9C72-257891350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F3B7A6-B810-44E3-A637-FA97C79890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D27385-E33E-4E2B-9BFB-299B036A0A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A79431-A227-4560-98C3-1BD8C4FC65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CDF92A-CEF4-4D4C-B3A0-0B2B8015AC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F7ABCB-D47A-4D81-BBF0-0659CC165C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0"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99901C-B357-437D-9A77-BC9A771502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92"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3"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04ED8B-0E01-4837-8140-DBC04EB427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3A71EA-9237-47A9-8BF1-B56B4F453E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00"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3"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67AF40-E86A-4761-A8DA-4C2FD1B9CC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CF9832-8B96-4374-9DB5-E16FE7FA48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7A951-A7CB-417E-83B2-278F6ADF3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44C60F-F3B8-44A1-AC73-941614B376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ACFB98-28E1-4B61-9391-E701752185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B6C888-B53F-4F64-A22C-C42DA122DA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2F7C05-131C-4EDE-BD75-CE7F76F7A7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869CF0-BBE0-4813-B780-CCF754EDA5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7EAA7F-6DA5-4AFA-8FBF-A775DB5492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27"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68AA8A-CFFB-431A-A6CD-A31F20C4CE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1"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2852F5-1120-4BD5-A3CF-A762ECEE07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33"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4"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A98266-9E5C-4DEE-AFF9-E626325F20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9"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E3B300-9F92-46EA-B72C-61D6890B09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03FFD-D88D-4C74-A3F0-A4A057028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41"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2"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3"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4"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5"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6"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877DCE-31B5-4EE3-9EA5-991B116EFA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57"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68"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2"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9C3F4-F7B1-4997-9AF3-8B45FCA39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74"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5"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0"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82"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3"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4"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5"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6"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7"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FA1C0-F511-4AB3-A7FC-1B886CDDE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6531E-76EF-46C5-8211-B554772E4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4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6"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0"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52"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3"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8"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60"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1"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2"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3"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4"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5"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0C334-82C2-46F4-8AF5-54CFC227F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27DC3-7460-429A-9D3C-EB91B2604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A9DD8-0B6A-46E1-ABC9-B833A0B77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DE40F-E1D9-4919-A311-725518FB1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6F1F0-5D13-4218-BB65-3B6E2FD68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20B89-732C-4E70-9EFA-7D8AE8BCF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4CD2D-EE0A-43B0-BC8D-73CE30D96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F408B-6AFD-425B-BF21-2EE083EDE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B6C09-EDDD-445E-BB53-0E01785C5D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E240C-A25F-45FA-BF10-8397F8CEC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C4865-07A9-4F9F-BB30-11F90BECD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F2DFC-2E27-4E3E-829B-87C4BCE13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55D9AB-035C-4985-B985-8CA03567E0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C2A6B-35AC-43CF-B6E5-5C684AA5D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44617F-6537-44F6-9C4B-0877B097E7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0135F-6405-40DD-BE5C-FDBA63758B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05D2E1-8CE5-4292-A82A-0F3B2E9DCB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FE8721-BBA0-4CA7-9EEE-2E7081F03B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A3ECCE-319C-46CE-AA07-25755AC6AB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9474F-F73C-4E16-8D04-ABD5202F78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6863EB-3297-46D8-B8D6-F17627A53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0A49B-14D5-4F1B-9E3A-C50AE5BCE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C02EC9-AD9F-458D-8EF0-50314A6F0D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021197-8487-470D-8EE1-DDFFFC562E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F37D0-903B-47FA-8F0F-9ACA36EB7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C175E4-C214-40A3-86EE-3755999EA4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09C890-6357-42B7-94EF-59967AAE94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ADC28E-C849-4241-BF94-379C45E8BF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74E26A-FABE-4BE7-8B89-DBAB12DFE1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B79010-E2B3-41E1-A3CD-BFA15DF8EC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BFB507-57CD-4462-AF4F-00AA3CFE29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C27B9A-A412-4E56-BBFA-C4E68289D5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D84965-F714-4378-AB94-CDBADD766A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F10FBF-B5B0-42CB-B272-F2FE280499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9CF092-1933-4F02-9C74-7411D62438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6A2B9-B346-4A56-8029-8844C9141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1BE445-1DF6-4309-8149-CF3B3DD30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E01807-7C2A-41DE-9AD8-09CD8D878C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7AA266-1FA6-46AC-84F1-E4D1EBEBB7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5D712A-0DF1-4123-B0BA-21E056D876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F806E8-02FF-4283-B8E3-FBE06869C6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39E41D-181E-4435-92DA-20AF68BDED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886198-F7B2-42A2-AE04-C981DF5575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01DB91-146A-49FF-956E-D1C92143C0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78D123-7C17-48C5-8C2A-07AB2DCE09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282C6D-2AE8-409A-B944-579EF291B1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A70A0-8CE0-409A-AEBD-5FD511CC5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0B79E8-ED67-4DEB-8641-0FBC625DFF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9384B0-4644-4719-8D83-3D0F3EF49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07735A-AA9C-4E95-86EF-0540F4EE8B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030F68-2A3F-4AFF-ADBA-62143113C9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B936AC-681D-49AA-A6AE-B813042883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217E56-B9CC-48EA-9CD7-8886901CB4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7D65BC-A43A-4C47-86B9-362F57379B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245753-29FB-490F-8F3D-638F448B29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B830A1-29E0-439C-A925-73846BC8F8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0B40C1-A59D-46EC-B0A1-C7726F2E1D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7BF28-6187-456D-A162-51AE52100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F34636-D8D2-4A53-BC27-063EF45E0D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82A867-0CDE-4EE8-BA05-180F35D074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D45238-821D-406A-9DC7-A590CFA2D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7EC8CA-DDDB-4B2C-8AFF-5CAF6ED07F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CED676-A515-4EAA-ACDF-9857CF248E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090DDD-5771-495A-9A9A-C893A4C5D9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0F3F22-EB7F-4E46-889E-BE3CD4E3F0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447947-141C-4799-A702-803BBBED51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4B7D3C-11EA-4B1D-8478-9CA7AD1A68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E2FD60-2E32-4642-B76D-79C016346E6F}"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35FE8-B12D-4F3A-9DDD-65D7EB7DD2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8"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9"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0"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0A33-7DFE-4344-B9E9-3E5AB248BC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0" y="981000"/>
            <a:ext cx="9144000" cy="554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0" name="PlaceHolder 2"/>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51" name=""/>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 </a:t>
            </a:r>
            <a:r>
              <a:rPr b="1" lang="de-DE" sz="1000" spc="-1" strike="noStrike">
                <a:solidFill>
                  <a:srgbClr val="000000"/>
                </a:solidFill>
                <a:latin typeface="MS UI Gothic"/>
              </a:rPr>
              <a:t></a:t>
            </a:r>
            <a:r>
              <a:rPr b="1" lang="de-DE" sz="1000" spc="-1" strike="noStrike">
                <a:solidFill>
                  <a:srgbClr val="000000"/>
                </a:solidFill>
                <a:latin typeface="Arial"/>
              </a:rPr>
              <a:t> </a:t>
            </a:r>
            <a:fld id="{16A47B67-D58C-4B37-8535-0D802369EDFB}" type="slidenum">
              <a:rPr b="1"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PlaceHolder 1"/>
          <p:cNvSpPr>
            <a:spLocks noGrp="1"/>
          </p:cNvSpPr>
          <p:nvPr>
            <p:ph type="title"/>
          </p:nvPr>
        </p:nvSpPr>
        <p:spPr>
          <a:xfrm>
            <a:off x="468360" y="2276280"/>
            <a:ext cx="8207280" cy="96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Arial"/>
              </a:rPr>
              <a:t>Click to edit the title text format</a:t>
            </a:r>
            <a:endParaRPr b="1" lang="en-US" sz="3400" spc="-1" strike="noStrike">
              <a:solidFill>
                <a:srgbClr val="000099"/>
              </a:solidFill>
              <a:latin typeface="Arial"/>
            </a:endParaRPr>
          </a:p>
        </p:txBody>
      </p:sp>
      <p:sp>
        <p:nvSpPr>
          <p:cNvPr id="4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lick to edit the outline text format</a:t>
            </a:r>
            <a:endParaRPr b="1" lang="en-US" sz="1800" spc="-1" strike="noStrike">
              <a:solidFill>
                <a:srgbClr val="000099"/>
              </a:solidFill>
              <a:latin typeface="Arial"/>
            </a:endParaRPr>
          </a:p>
          <a:p>
            <a:pPr lvl="1" marL="457200"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120000"/>
              </a:lnSpc>
              <a:spcBef>
                <a:spcPts val="400"/>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120000"/>
              </a:lnSpc>
              <a:spcBef>
                <a:spcPts val="349"/>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矩形 3"/>
          <p:cNvSpPr/>
          <p:nvPr/>
        </p:nvSpPr>
        <p:spPr>
          <a:xfrm>
            <a:off x="0" y="0"/>
            <a:ext cx="9171000" cy="6858000"/>
          </a:xfrm>
          <a:prstGeom prst="rect">
            <a:avLst/>
          </a:prstGeom>
          <a:solidFill>
            <a:srgbClr val="fde6d3"/>
          </a:solidFill>
          <a:ln w="0">
            <a:noFill/>
          </a:ln>
        </p:spPr>
        <p:style>
          <a:lnRef idx="0"/>
          <a:fillRef idx="0"/>
          <a:effectRef idx="0"/>
          <a:fontRef idx="minor"/>
        </p:style>
        <p:txBody>
          <a:bodyPr lIns="121680" rIns="12168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6000" spc="-1" strike="noStrike">
                <a:solidFill>
                  <a:srgbClr val="000000"/>
                </a:solidFill>
                <a:latin typeface="Impact"/>
              </a:rPr>
              <a:t>Click to edit the title text format</a:t>
            </a:r>
            <a:endParaRPr b="0" lang="en-US" sz="6000" spc="-1" strike="noStrike">
              <a:solidFill>
                <a:srgbClr val="000000"/>
              </a:solidFill>
              <a:latin typeface="Impact"/>
            </a:endParaRPr>
          </a:p>
        </p:txBody>
      </p:sp>
      <p:sp>
        <p:nvSpPr>
          <p:cNvPr id="529" name="PlaceHolder 2"/>
          <p:cNvSpPr>
            <a:spLocks noGrp="1"/>
          </p:cNvSpPr>
          <p:nvPr>
            <p:ph type="body"/>
          </p:nvPr>
        </p:nvSpPr>
        <p:spPr>
          <a:xfrm>
            <a:off x="457200" y="1600200"/>
            <a:ext cx="8229600" cy="4525920"/>
          </a:xfrm>
          <a:prstGeom prst="rect">
            <a:avLst/>
          </a:prstGeom>
          <a:noFill/>
          <a:ln w="0">
            <a:noFill/>
          </a:ln>
        </p:spPr>
        <p:txBody>
          <a:bodyPr lIns="122040" rIns="122040" tIns="60840" bIns="60840" anchor="t">
            <a:normAutofit fontScale="81000"/>
          </a:bodyPr>
          <a:p>
            <a:pPr marL="370080" indent="-370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Click to edit the outline text format</a:t>
            </a:r>
            <a:endParaRPr b="0" lang="en-US" sz="4300" spc="-1" strike="noStrike">
              <a:solidFill>
                <a:srgbClr val="000000"/>
              </a:solidFill>
              <a:latin typeface="Impact"/>
            </a:endParaRPr>
          </a:p>
          <a:p>
            <a:pPr lvl="1" marL="802440" indent="-308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Second Outline Level</a:t>
            </a:r>
            <a:endParaRPr b="0" lang="en-US" sz="4300" spc="-1" strike="noStrike">
              <a:solidFill>
                <a:srgbClr val="000000"/>
              </a:solidFill>
              <a:latin typeface="Impact"/>
            </a:endParaRPr>
          </a:p>
          <a:p>
            <a:pPr lvl="2" marL="1233000" indent="-24696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Third Outline Level</a:t>
            </a:r>
            <a:endParaRPr b="0" lang="en-US" sz="4300" spc="-1" strike="noStrike">
              <a:solidFill>
                <a:srgbClr val="000000"/>
              </a:solidFill>
              <a:latin typeface="Impact"/>
            </a:endParaRPr>
          </a:p>
          <a:p>
            <a:pPr lvl="3" marL="1726560" indent="-2466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Fourth Outline Level</a:t>
            </a:r>
            <a:endParaRPr b="0" lang="en-US" sz="4300" spc="-1" strike="noStrike">
              <a:solidFill>
                <a:srgbClr val="000000"/>
              </a:solidFill>
              <a:latin typeface="Impact"/>
            </a:endParaRPr>
          </a:p>
          <a:p>
            <a:pPr lvl="4" marL="2220480" indent="-24804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Fifth Outline Level</a:t>
            </a:r>
            <a:endParaRPr b="0" lang="en-US" sz="4300" spc="-1" strike="noStrike">
              <a:solidFill>
                <a:srgbClr val="000000"/>
              </a:solidFill>
              <a:latin typeface="Impact"/>
            </a:endParaRPr>
          </a:p>
          <a:p>
            <a:pPr lvl="5" marL="2220480" indent="-24804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Sixth Outline Level</a:t>
            </a:r>
            <a:endParaRPr b="0" lang="en-US" sz="4300" spc="-1" strike="noStrike">
              <a:solidFill>
                <a:srgbClr val="000000"/>
              </a:solidFill>
              <a:latin typeface="Impact"/>
            </a:endParaRPr>
          </a:p>
          <a:p>
            <a:pPr lvl="6" marL="2220480" indent="-24804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Seventh Outline Level</a:t>
            </a:r>
            <a:endParaRPr b="0" lang="en-US" sz="4300" spc="-1" strike="noStrike">
              <a:solidFill>
                <a:srgbClr val="000000"/>
              </a:solidFill>
              <a:latin typeface="Impac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960A-29D8-463C-9EFD-81037792E6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981000"/>
            <a:ext cx="9144000" cy="554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7" name="PlaceHolder 2"/>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8" name=""/>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 </a:t>
            </a:r>
            <a:r>
              <a:rPr b="1" lang="de-DE" sz="1000" spc="-1" strike="noStrike">
                <a:solidFill>
                  <a:srgbClr val="000000"/>
                </a:solidFill>
                <a:latin typeface="MS UI Gothic"/>
              </a:rPr>
              <a:t></a:t>
            </a:r>
            <a:r>
              <a:rPr b="1" lang="de-DE" sz="1000" spc="-1" strike="noStrike">
                <a:solidFill>
                  <a:srgbClr val="000000"/>
                </a:solidFill>
                <a:latin typeface="Arial"/>
              </a:rPr>
              <a:t> </a:t>
            </a:r>
            <a:fld id="{1B310D45-099E-409B-8C6F-2188F8105AB0}" type="slidenum">
              <a:rPr b="1"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468360" y="2276280"/>
            <a:ext cx="8207280" cy="96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Arial"/>
              </a:rPr>
              <a:t>Click to edit the title text format</a:t>
            </a:r>
            <a:endParaRPr b="1" lang="en-US" sz="3400" spc="-1" strike="noStrike">
              <a:solidFill>
                <a:srgbClr val="000099"/>
              </a:solidFill>
              <a:latin typeface="Arial"/>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lick to edit the outline text format</a:t>
            </a:r>
            <a:endParaRPr b="1" lang="en-US" sz="1800" spc="-1" strike="noStrike">
              <a:solidFill>
                <a:srgbClr val="000099"/>
              </a:solidFill>
              <a:latin typeface="Arial"/>
            </a:endParaRPr>
          </a:p>
          <a:p>
            <a:pPr lvl="1" marL="457200"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120000"/>
              </a:lnSpc>
              <a:spcBef>
                <a:spcPts val="400"/>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120000"/>
              </a:lnSpc>
              <a:spcBef>
                <a:spcPts val="349"/>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65" name="PlaceHolder 2"/>
          <p:cNvSpPr>
            <a:spLocks noGrp="1"/>
          </p:cNvSpPr>
          <p:nvPr>
            <p:ph type="body"/>
          </p:nvPr>
        </p:nvSpPr>
        <p:spPr>
          <a:xfrm>
            <a:off x="466560" y="1773000"/>
            <a:ext cx="8229600" cy="43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AFBD-CB29-48B0-AF11-ED721B5C8B7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0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6DA9-28EB-46DB-9B90-4382912D671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480960" y="5308560"/>
            <a:ext cx="1076040" cy="1080720"/>
            <a:chOff x="480960" y="5308560"/>
            <a:chExt cx="1076040" cy="1080720"/>
          </a:xfrm>
        </p:grpSpPr>
        <p:sp>
          <p:nvSpPr>
            <p:cNvPr id="246" name="未知"/>
            <p:cNvSpPr/>
            <p:nvPr/>
          </p:nvSpPr>
          <p:spPr>
            <a:xfrm>
              <a:off x="480960" y="5308560"/>
              <a:ext cx="1076040" cy="1080720"/>
            </a:xfrm>
            <a:custGeom>
              <a:avLst/>
              <a:gdLst/>
              <a:ahLst/>
              <a:rect l="l" t="t" r="r" b="b"/>
              <a:pathLst>
                <a:path w="21600" h="21600">
                  <a:moveTo>
                    <a:pt x="21600" y="10800"/>
                  </a:moveTo>
                  <a:lnTo>
                    <a:pt x="21600" y="10800"/>
                  </a:lnTo>
                  <a:lnTo>
                    <a:pt x="21523" y="11864"/>
                  </a:lnTo>
                  <a:lnTo>
                    <a:pt x="21370" y="12929"/>
                  </a:lnTo>
                  <a:lnTo>
                    <a:pt x="21065" y="13918"/>
                  </a:lnTo>
                  <a:lnTo>
                    <a:pt x="20684" y="14982"/>
                  </a:lnTo>
                  <a:lnTo>
                    <a:pt x="20302" y="15895"/>
                  </a:lnTo>
                  <a:lnTo>
                    <a:pt x="19691" y="16732"/>
                  </a:lnTo>
                  <a:lnTo>
                    <a:pt x="19157" y="17644"/>
                  </a:lnTo>
                  <a:lnTo>
                    <a:pt x="18394" y="18405"/>
                  </a:lnTo>
                  <a:lnTo>
                    <a:pt x="17707" y="19089"/>
                  </a:lnTo>
                  <a:lnTo>
                    <a:pt x="16715" y="19698"/>
                  </a:lnTo>
                  <a:lnTo>
                    <a:pt x="15875" y="20307"/>
                  </a:lnTo>
                  <a:lnTo>
                    <a:pt x="15035" y="20687"/>
                  </a:lnTo>
                  <a:lnTo>
                    <a:pt x="13967" y="21067"/>
                  </a:lnTo>
                  <a:lnTo>
                    <a:pt x="12898" y="21371"/>
                  </a:lnTo>
                  <a:lnTo>
                    <a:pt x="11830" y="21523"/>
                  </a:lnTo>
                  <a:lnTo>
                    <a:pt x="10761" y="21600"/>
                  </a:lnTo>
                  <a:lnTo>
                    <a:pt x="10761" y="21600"/>
                  </a:lnTo>
                  <a:lnTo>
                    <a:pt x="9616" y="21523"/>
                  </a:lnTo>
                  <a:lnTo>
                    <a:pt x="8548" y="21371"/>
                  </a:lnTo>
                  <a:lnTo>
                    <a:pt x="7556" y="21067"/>
                  </a:lnTo>
                  <a:lnTo>
                    <a:pt x="6487" y="20687"/>
                  </a:lnTo>
                  <a:lnTo>
                    <a:pt x="5571" y="20307"/>
                  </a:lnTo>
                  <a:lnTo>
                    <a:pt x="4731" y="19698"/>
                  </a:lnTo>
                  <a:lnTo>
                    <a:pt x="3892" y="19089"/>
                  </a:lnTo>
                  <a:lnTo>
                    <a:pt x="3129" y="18405"/>
                  </a:lnTo>
                  <a:lnTo>
                    <a:pt x="2442" y="17644"/>
                  </a:lnTo>
                  <a:lnTo>
                    <a:pt x="1755" y="16732"/>
                  </a:lnTo>
                  <a:lnTo>
                    <a:pt x="1297" y="15895"/>
                  </a:lnTo>
                  <a:lnTo>
                    <a:pt x="839" y="14982"/>
                  </a:lnTo>
                  <a:lnTo>
                    <a:pt x="457" y="13918"/>
                  </a:lnTo>
                  <a:lnTo>
                    <a:pt x="152" y="12929"/>
                  </a:lnTo>
                  <a:lnTo>
                    <a:pt x="0" y="11864"/>
                  </a:lnTo>
                  <a:lnTo>
                    <a:pt x="0" y="10800"/>
                  </a:lnTo>
                  <a:lnTo>
                    <a:pt x="0" y="10800"/>
                  </a:lnTo>
                  <a:lnTo>
                    <a:pt x="0" y="9582"/>
                  </a:lnTo>
                  <a:lnTo>
                    <a:pt x="152" y="8518"/>
                  </a:lnTo>
                  <a:lnTo>
                    <a:pt x="457" y="7529"/>
                  </a:lnTo>
                  <a:lnTo>
                    <a:pt x="839" y="6540"/>
                  </a:lnTo>
                  <a:lnTo>
                    <a:pt x="1297" y="5551"/>
                  </a:lnTo>
                  <a:lnTo>
                    <a:pt x="1755" y="4715"/>
                  </a:lnTo>
                  <a:lnTo>
                    <a:pt x="2442" y="3878"/>
                  </a:lnTo>
                  <a:lnTo>
                    <a:pt x="3129" y="3118"/>
                  </a:lnTo>
                  <a:lnTo>
                    <a:pt x="3892" y="2433"/>
                  </a:lnTo>
                  <a:lnTo>
                    <a:pt x="4731" y="1749"/>
                  </a:lnTo>
                  <a:lnTo>
                    <a:pt x="5571" y="1292"/>
                  </a:lnTo>
                  <a:lnTo>
                    <a:pt x="6487" y="836"/>
                  </a:lnTo>
                  <a:lnTo>
                    <a:pt x="7556" y="456"/>
                  </a:lnTo>
                  <a:lnTo>
                    <a:pt x="8548" y="151"/>
                  </a:lnTo>
                  <a:lnTo>
                    <a:pt x="9616" y="0"/>
                  </a:lnTo>
                  <a:lnTo>
                    <a:pt x="10761" y="0"/>
                  </a:lnTo>
                  <a:lnTo>
                    <a:pt x="10761" y="0"/>
                  </a:lnTo>
                  <a:lnTo>
                    <a:pt x="11830" y="0"/>
                  </a:lnTo>
                  <a:lnTo>
                    <a:pt x="12898" y="151"/>
                  </a:lnTo>
                  <a:lnTo>
                    <a:pt x="13967" y="456"/>
                  </a:lnTo>
                  <a:lnTo>
                    <a:pt x="15035" y="836"/>
                  </a:lnTo>
                  <a:lnTo>
                    <a:pt x="15875" y="1292"/>
                  </a:lnTo>
                  <a:lnTo>
                    <a:pt x="16715" y="1749"/>
                  </a:lnTo>
                  <a:lnTo>
                    <a:pt x="17707" y="2433"/>
                  </a:lnTo>
                  <a:lnTo>
                    <a:pt x="18394" y="3118"/>
                  </a:lnTo>
                  <a:lnTo>
                    <a:pt x="19157" y="3878"/>
                  </a:lnTo>
                  <a:lnTo>
                    <a:pt x="19691" y="4715"/>
                  </a:lnTo>
                  <a:lnTo>
                    <a:pt x="20302" y="5551"/>
                  </a:lnTo>
                  <a:lnTo>
                    <a:pt x="20684" y="6540"/>
                  </a:lnTo>
                  <a:lnTo>
                    <a:pt x="21065" y="7529"/>
                  </a:lnTo>
                  <a:lnTo>
                    <a:pt x="21370" y="8518"/>
                  </a:lnTo>
                  <a:lnTo>
                    <a:pt x="21523" y="9582"/>
                  </a:lnTo>
                  <a:lnTo>
                    <a:pt x="21600" y="10800"/>
                  </a:lnTo>
                  <a:lnTo>
                    <a:pt x="21600" y="10800"/>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47" name="未知"/>
            <p:cNvSpPr/>
            <p:nvPr/>
          </p:nvSpPr>
          <p:spPr>
            <a:xfrm>
              <a:off x="613440" y="5446080"/>
              <a:ext cx="807480" cy="805320"/>
            </a:xfrm>
            <a:custGeom>
              <a:avLst/>
              <a:gdLst/>
              <a:ahLst/>
              <a:rect l="l" t="t" r="r" b="b"/>
              <a:pathLst>
                <a:path w="21600" h="21600">
                  <a:moveTo>
                    <a:pt x="21600" y="10800"/>
                  </a:moveTo>
                  <a:lnTo>
                    <a:pt x="21600" y="10800"/>
                  </a:lnTo>
                  <a:lnTo>
                    <a:pt x="21600" y="11920"/>
                  </a:lnTo>
                  <a:lnTo>
                    <a:pt x="21497" y="12939"/>
                  </a:lnTo>
                  <a:lnTo>
                    <a:pt x="21192" y="14060"/>
                  </a:lnTo>
                  <a:lnTo>
                    <a:pt x="20784" y="15079"/>
                  </a:lnTo>
                  <a:lnTo>
                    <a:pt x="20275" y="15995"/>
                  </a:lnTo>
                  <a:lnTo>
                    <a:pt x="19765" y="16811"/>
                  </a:lnTo>
                  <a:lnTo>
                    <a:pt x="19154" y="17727"/>
                  </a:lnTo>
                  <a:lnTo>
                    <a:pt x="18441" y="18441"/>
                  </a:lnTo>
                  <a:lnTo>
                    <a:pt x="17727" y="19154"/>
                  </a:lnTo>
                  <a:lnTo>
                    <a:pt x="16811" y="19765"/>
                  </a:lnTo>
                  <a:lnTo>
                    <a:pt x="15995" y="20275"/>
                  </a:lnTo>
                  <a:lnTo>
                    <a:pt x="15079" y="20784"/>
                  </a:lnTo>
                  <a:lnTo>
                    <a:pt x="14060" y="21192"/>
                  </a:lnTo>
                  <a:lnTo>
                    <a:pt x="12939" y="21497"/>
                  </a:lnTo>
                  <a:lnTo>
                    <a:pt x="11920" y="21600"/>
                  </a:lnTo>
                  <a:lnTo>
                    <a:pt x="10800" y="21600"/>
                  </a:lnTo>
                  <a:lnTo>
                    <a:pt x="10800" y="21600"/>
                  </a:lnTo>
                  <a:lnTo>
                    <a:pt x="9679" y="21600"/>
                  </a:lnTo>
                  <a:lnTo>
                    <a:pt x="8660" y="21497"/>
                  </a:lnTo>
                  <a:lnTo>
                    <a:pt x="7641" y="21192"/>
                  </a:lnTo>
                  <a:lnTo>
                    <a:pt x="6622" y="20784"/>
                  </a:lnTo>
                  <a:lnTo>
                    <a:pt x="5705" y="20275"/>
                  </a:lnTo>
                  <a:lnTo>
                    <a:pt x="4788" y="19765"/>
                  </a:lnTo>
                  <a:lnTo>
                    <a:pt x="3871" y="19154"/>
                  </a:lnTo>
                  <a:lnTo>
                    <a:pt x="3158" y="18441"/>
                  </a:lnTo>
                  <a:lnTo>
                    <a:pt x="2445" y="17727"/>
                  </a:lnTo>
                  <a:lnTo>
                    <a:pt x="1833" y="16811"/>
                  </a:lnTo>
                  <a:lnTo>
                    <a:pt x="1426" y="15995"/>
                  </a:lnTo>
                  <a:lnTo>
                    <a:pt x="815" y="15079"/>
                  </a:lnTo>
                  <a:lnTo>
                    <a:pt x="509" y="14060"/>
                  </a:lnTo>
                  <a:lnTo>
                    <a:pt x="203" y="12939"/>
                  </a:lnTo>
                  <a:lnTo>
                    <a:pt x="0" y="11920"/>
                  </a:lnTo>
                  <a:lnTo>
                    <a:pt x="0" y="10800"/>
                  </a:lnTo>
                  <a:lnTo>
                    <a:pt x="0" y="10800"/>
                  </a:lnTo>
                  <a:lnTo>
                    <a:pt x="0" y="9679"/>
                  </a:lnTo>
                  <a:lnTo>
                    <a:pt x="203" y="8660"/>
                  </a:lnTo>
                  <a:lnTo>
                    <a:pt x="509" y="7641"/>
                  </a:lnTo>
                  <a:lnTo>
                    <a:pt x="815" y="6622"/>
                  </a:lnTo>
                  <a:lnTo>
                    <a:pt x="1426" y="5705"/>
                  </a:lnTo>
                  <a:lnTo>
                    <a:pt x="1833" y="4788"/>
                  </a:lnTo>
                  <a:lnTo>
                    <a:pt x="2445" y="3871"/>
                  </a:lnTo>
                  <a:lnTo>
                    <a:pt x="3158" y="3158"/>
                  </a:lnTo>
                  <a:lnTo>
                    <a:pt x="3871" y="2445"/>
                  </a:lnTo>
                  <a:lnTo>
                    <a:pt x="4788" y="1833"/>
                  </a:lnTo>
                  <a:lnTo>
                    <a:pt x="5705" y="1426"/>
                  </a:lnTo>
                  <a:lnTo>
                    <a:pt x="6622" y="815"/>
                  </a:lnTo>
                  <a:lnTo>
                    <a:pt x="7641" y="509"/>
                  </a:lnTo>
                  <a:lnTo>
                    <a:pt x="8660" y="203"/>
                  </a:lnTo>
                  <a:lnTo>
                    <a:pt x="9679" y="0"/>
                  </a:lnTo>
                  <a:lnTo>
                    <a:pt x="10800" y="0"/>
                  </a:lnTo>
                  <a:lnTo>
                    <a:pt x="10800" y="0"/>
                  </a:lnTo>
                  <a:lnTo>
                    <a:pt x="11920" y="0"/>
                  </a:lnTo>
                  <a:lnTo>
                    <a:pt x="12939" y="203"/>
                  </a:lnTo>
                  <a:lnTo>
                    <a:pt x="14060" y="509"/>
                  </a:lnTo>
                  <a:lnTo>
                    <a:pt x="15079" y="815"/>
                  </a:lnTo>
                  <a:lnTo>
                    <a:pt x="15995" y="1426"/>
                  </a:lnTo>
                  <a:lnTo>
                    <a:pt x="16811" y="1833"/>
                  </a:lnTo>
                  <a:lnTo>
                    <a:pt x="17727" y="2445"/>
                  </a:lnTo>
                  <a:lnTo>
                    <a:pt x="18441" y="3158"/>
                  </a:lnTo>
                  <a:lnTo>
                    <a:pt x="19154" y="3871"/>
                  </a:lnTo>
                  <a:lnTo>
                    <a:pt x="19765" y="4788"/>
                  </a:lnTo>
                  <a:lnTo>
                    <a:pt x="20275" y="5705"/>
                  </a:lnTo>
                  <a:lnTo>
                    <a:pt x="20784" y="6622"/>
                  </a:lnTo>
                  <a:lnTo>
                    <a:pt x="21192" y="7641"/>
                  </a:lnTo>
                  <a:lnTo>
                    <a:pt x="21497" y="8660"/>
                  </a:lnTo>
                  <a:lnTo>
                    <a:pt x="21600" y="9679"/>
                  </a:lnTo>
                  <a:lnTo>
                    <a:pt x="21600" y="10800"/>
                  </a:lnTo>
                  <a:lnTo>
                    <a:pt x="21600" y="1080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48" name="未知"/>
            <p:cNvSpPr/>
            <p:nvPr/>
          </p:nvSpPr>
          <p:spPr>
            <a:xfrm>
              <a:off x="754560" y="5585400"/>
              <a:ext cx="525240" cy="525240"/>
            </a:xfrm>
            <a:custGeom>
              <a:avLst/>
              <a:gdLst/>
              <a:ahLst/>
              <a:rect l="l" t="t" r="r" b="b"/>
              <a:pathLst>
                <a:path w="21600" h="21600">
                  <a:moveTo>
                    <a:pt x="21600" y="10800"/>
                  </a:moveTo>
                  <a:lnTo>
                    <a:pt x="21600" y="10800"/>
                  </a:lnTo>
                  <a:lnTo>
                    <a:pt x="21600" y="11895"/>
                  </a:lnTo>
                  <a:lnTo>
                    <a:pt x="21443" y="12834"/>
                  </a:lnTo>
                  <a:lnTo>
                    <a:pt x="21286" y="13930"/>
                  </a:lnTo>
                  <a:lnTo>
                    <a:pt x="20817" y="15182"/>
                  </a:lnTo>
                  <a:lnTo>
                    <a:pt x="20347" y="15965"/>
                  </a:lnTo>
                  <a:lnTo>
                    <a:pt x="19721" y="16904"/>
                  </a:lnTo>
                  <a:lnTo>
                    <a:pt x="19095" y="17686"/>
                  </a:lnTo>
                  <a:lnTo>
                    <a:pt x="18469" y="18313"/>
                  </a:lnTo>
                  <a:lnTo>
                    <a:pt x="17686" y="19095"/>
                  </a:lnTo>
                  <a:lnTo>
                    <a:pt x="16904" y="19721"/>
                  </a:lnTo>
                  <a:lnTo>
                    <a:pt x="15965" y="20347"/>
                  </a:lnTo>
                  <a:lnTo>
                    <a:pt x="15182" y="20817"/>
                  </a:lnTo>
                  <a:lnTo>
                    <a:pt x="13930" y="21130"/>
                  </a:lnTo>
                  <a:lnTo>
                    <a:pt x="12991" y="21443"/>
                  </a:lnTo>
                  <a:lnTo>
                    <a:pt x="11895" y="21600"/>
                  </a:lnTo>
                  <a:lnTo>
                    <a:pt x="10800" y="21600"/>
                  </a:lnTo>
                  <a:lnTo>
                    <a:pt x="10800" y="21600"/>
                  </a:lnTo>
                  <a:lnTo>
                    <a:pt x="9704" y="21600"/>
                  </a:lnTo>
                  <a:lnTo>
                    <a:pt x="8608" y="21443"/>
                  </a:lnTo>
                  <a:lnTo>
                    <a:pt x="7669" y="21130"/>
                  </a:lnTo>
                  <a:lnTo>
                    <a:pt x="6573" y="20817"/>
                  </a:lnTo>
                  <a:lnTo>
                    <a:pt x="5634" y="20347"/>
                  </a:lnTo>
                  <a:lnTo>
                    <a:pt x="4851" y="19721"/>
                  </a:lnTo>
                  <a:lnTo>
                    <a:pt x="3912" y="19095"/>
                  </a:lnTo>
                  <a:lnTo>
                    <a:pt x="3130" y="18313"/>
                  </a:lnTo>
                  <a:lnTo>
                    <a:pt x="2347" y="17686"/>
                  </a:lnTo>
                  <a:lnTo>
                    <a:pt x="1878" y="16904"/>
                  </a:lnTo>
                  <a:lnTo>
                    <a:pt x="1252" y="15965"/>
                  </a:lnTo>
                  <a:lnTo>
                    <a:pt x="939" y="15182"/>
                  </a:lnTo>
                  <a:lnTo>
                    <a:pt x="469" y="13930"/>
                  </a:lnTo>
                  <a:lnTo>
                    <a:pt x="156" y="12834"/>
                  </a:lnTo>
                  <a:lnTo>
                    <a:pt x="0" y="11895"/>
                  </a:lnTo>
                  <a:lnTo>
                    <a:pt x="0" y="10800"/>
                  </a:lnTo>
                  <a:lnTo>
                    <a:pt x="0" y="10800"/>
                  </a:lnTo>
                  <a:lnTo>
                    <a:pt x="0" y="9704"/>
                  </a:lnTo>
                  <a:lnTo>
                    <a:pt x="156" y="8608"/>
                  </a:lnTo>
                  <a:lnTo>
                    <a:pt x="469" y="7513"/>
                  </a:lnTo>
                  <a:lnTo>
                    <a:pt x="939" y="6573"/>
                  </a:lnTo>
                  <a:lnTo>
                    <a:pt x="1252" y="5634"/>
                  </a:lnTo>
                  <a:lnTo>
                    <a:pt x="1878" y="4695"/>
                  </a:lnTo>
                  <a:lnTo>
                    <a:pt x="2347" y="3912"/>
                  </a:lnTo>
                  <a:lnTo>
                    <a:pt x="3130" y="3130"/>
                  </a:lnTo>
                  <a:lnTo>
                    <a:pt x="3912" y="2347"/>
                  </a:lnTo>
                  <a:lnTo>
                    <a:pt x="4851" y="1878"/>
                  </a:lnTo>
                  <a:lnTo>
                    <a:pt x="5634" y="1252"/>
                  </a:lnTo>
                  <a:lnTo>
                    <a:pt x="6573" y="939"/>
                  </a:lnTo>
                  <a:lnTo>
                    <a:pt x="7669" y="469"/>
                  </a:lnTo>
                  <a:lnTo>
                    <a:pt x="8608" y="156"/>
                  </a:lnTo>
                  <a:lnTo>
                    <a:pt x="9704" y="0"/>
                  </a:lnTo>
                  <a:lnTo>
                    <a:pt x="10800" y="0"/>
                  </a:lnTo>
                  <a:lnTo>
                    <a:pt x="10800" y="0"/>
                  </a:lnTo>
                  <a:lnTo>
                    <a:pt x="11895" y="0"/>
                  </a:lnTo>
                  <a:lnTo>
                    <a:pt x="12991" y="156"/>
                  </a:lnTo>
                  <a:lnTo>
                    <a:pt x="13930" y="469"/>
                  </a:lnTo>
                  <a:lnTo>
                    <a:pt x="15182" y="939"/>
                  </a:lnTo>
                  <a:lnTo>
                    <a:pt x="15965" y="1252"/>
                  </a:lnTo>
                  <a:lnTo>
                    <a:pt x="16904" y="1878"/>
                  </a:lnTo>
                  <a:lnTo>
                    <a:pt x="17686" y="2347"/>
                  </a:lnTo>
                  <a:lnTo>
                    <a:pt x="18469" y="3130"/>
                  </a:lnTo>
                  <a:lnTo>
                    <a:pt x="19095" y="3912"/>
                  </a:lnTo>
                  <a:lnTo>
                    <a:pt x="19721" y="4695"/>
                  </a:lnTo>
                  <a:lnTo>
                    <a:pt x="20347" y="5634"/>
                  </a:lnTo>
                  <a:lnTo>
                    <a:pt x="20817" y="6573"/>
                  </a:lnTo>
                  <a:lnTo>
                    <a:pt x="21286" y="7513"/>
                  </a:lnTo>
                  <a:lnTo>
                    <a:pt x="21443" y="8608"/>
                  </a:lnTo>
                  <a:lnTo>
                    <a:pt x="21600" y="9704"/>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249" name=""/>
          <p:cNvGrpSpPr/>
          <p:nvPr/>
        </p:nvGrpSpPr>
        <p:grpSpPr>
          <a:xfrm>
            <a:off x="407880" y="2660760"/>
            <a:ext cx="1077840" cy="1072800"/>
            <a:chOff x="407880" y="2660760"/>
            <a:chExt cx="1077840" cy="1072800"/>
          </a:xfrm>
        </p:grpSpPr>
        <p:sp>
          <p:nvSpPr>
            <p:cNvPr id="250" name="未知"/>
            <p:cNvSpPr/>
            <p:nvPr/>
          </p:nvSpPr>
          <p:spPr>
            <a:xfrm>
              <a:off x="407880" y="2660760"/>
              <a:ext cx="1077840" cy="1072800"/>
            </a:xfrm>
            <a:custGeom>
              <a:avLst/>
              <a:gdLst/>
              <a:ahLst/>
              <a:rect l="l" t="t" r="r" b="b"/>
              <a:pathLst>
                <a:path w="21600" h="21600">
                  <a:moveTo>
                    <a:pt x="21600" y="10800"/>
                  </a:moveTo>
                  <a:lnTo>
                    <a:pt x="21600" y="10800"/>
                  </a:lnTo>
                  <a:lnTo>
                    <a:pt x="21523" y="11948"/>
                  </a:lnTo>
                  <a:lnTo>
                    <a:pt x="21370" y="13021"/>
                  </a:lnTo>
                  <a:lnTo>
                    <a:pt x="21065" y="14016"/>
                  </a:lnTo>
                  <a:lnTo>
                    <a:pt x="20684" y="15012"/>
                  </a:lnTo>
                  <a:lnTo>
                    <a:pt x="20302" y="15931"/>
                  </a:lnTo>
                  <a:lnTo>
                    <a:pt x="19691" y="16850"/>
                  </a:lnTo>
                  <a:lnTo>
                    <a:pt x="19157" y="17693"/>
                  </a:lnTo>
                  <a:lnTo>
                    <a:pt x="18394" y="18459"/>
                  </a:lnTo>
                  <a:lnTo>
                    <a:pt x="17631" y="19148"/>
                  </a:lnTo>
                  <a:lnTo>
                    <a:pt x="16715" y="19761"/>
                  </a:lnTo>
                  <a:lnTo>
                    <a:pt x="15875" y="20297"/>
                  </a:lnTo>
                  <a:lnTo>
                    <a:pt x="15035" y="20757"/>
                  </a:lnTo>
                  <a:lnTo>
                    <a:pt x="13967" y="21063"/>
                  </a:lnTo>
                  <a:lnTo>
                    <a:pt x="12898" y="21369"/>
                  </a:lnTo>
                  <a:lnTo>
                    <a:pt x="11830" y="21523"/>
                  </a:lnTo>
                  <a:lnTo>
                    <a:pt x="10761" y="21600"/>
                  </a:lnTo>
                  <a:lnTo>
                    <a:pt x="10761" y="21600"/>
                  </a:lnTo>
                  <a:lnTo>
                    <a:pt x="9616" y="21523"/>
                  </a:lnTo>
                  <a:lnTo>
                    <a:pt x="8548" y="21369"/>
                  </a:lnTo>
                  <a:lnTo>
                    <a:pt x="7556" y="21063"/>
                  </a:lnTo>
                  <a:lnTo>
                    <a:pt x="6563" y="20757"/>
                  </a:lnTo>
                  <a:lnTo>
                    <a:pt x="5571" y="20297"/>
                  </a:lnTo>
                  <a:lnTo>
                    <a:pt x="4731" y="19761"/>
                  </a:lnTo>
                  <a:lnTo>
                    <a:pt x="3892" y="19148"/>
                  </a:lnTo>
                  <a:lnTo>
                    <a:pt x="3129" y="18459"/>
                  </a:lnTo>
                  <a:lnTo>
                    <a:pt x="2442" y="17693"/>
                  </a:lnTo>
                  <a:lnTo>
                    <a:pt x="1755" y="16850"/>
                  </a:lnTo>
                  <a:lnTo>
                    <a:pt x="1297" y="15931"/>
                  </a:lnTo>
                  <a:lnTo>
                    <a:pt x="839" y="15012"/>
                  </a:lnTo>
                  <a:lnTo>
                    <a:pt x="457" y="14016"/>
                  </a:lnTo>
                  <a:lnTo>
                    <a:pt x="152" y="13021"/>
                  </a:lnTo>
                  <a:lnTo>
                    <a:pt x="0" y="11948"/>
                  </a:lnTo>
                  <a:lnTo>
                    <a:pt x="0" y="10800"/>
                  </a:lnTo>
                  <a:lnTo>
                    <a:pt x="0" y="10800"/>
                  </a:lnTo>
                  <a:lnTo>
                    <a:pt x="0" y="9651"/>
                  </a:lnTo>
                  <a:lnTo>
                    <a:pt x="152" y="8578"/>
                  </a:lnTo>
                  <a:lnTo>
                    <a:pt x="457" y="7582"/>
                  </a:lnTo>
                  <a:lnTo>
                    <a:pt x="839" y="6587"/>
                  </a:lnTo>
                  <a:lnTo>
                    <a:pt x="1297" y="5667"/>
                  </a:lnTo>
                  <a:lnTo>
                    <a:pt x="1755" y="4672"/>
                  </a:lnTo>
                  <a:lnTo>
                    <a:pt x="2442" y="3906"/>
                  </a:lnTo>
                  <a:lnTo>
                    <a:pt x="3129" y="3140"/>
                  </a:lnTo>
                  <a:lnTo>
                    <a:pt x="3892" y="2450"/>
                  </a:lnTo>
                  <a:lnTo>
                    <a:pt x="4731" y="1838"/>
                  </a:lnTo>
                  <a:lnTo>
                    <a:pt x="5571" y="1301"/>
                  </a:lnTo>
                  <a:lnTo>
                    <a:pt x="6563" y="842"/>
                  </a:lnTo>
                  <a:lnTo>
                    <a:pt x="7556" y="535"/>
                  </a:lnTo>
                  <a:lnTo>
                    <a:pt x="8548" y="229"/>
                  </a:lnTo>
                  <a:lnTo>
                    <a:pt x="9616" y="0"/>
                  </a:lnTo>
                  <a:lnTo>
                    <a:pt x="10761" y="0"/>
                  </a:lnTo>
                  <a:lnTo>
                    <a:pt x="10761" y="0"/>
                  </a:lnTo>
                  <a:lnTo>
                    <a:pt x="11830" y="0"/>
                  </a:lnTo>
                  <a:lnTo>
                    <a:pt x="12898" y="229"/>
                  </a:lnTo>
                  <a:lnTo>
                    <a:pt x="13967" y="535"/>
                  </a:lnTo>
                  <a:lnTo>
                    <a:pt x="15035" y="842"/>
                  </a:lnTo>
                  <a:lnTo>
                    <a:pt x="15875" y="1301"/>
                  </a:lnTo>
                  <a:lnTo>
                    <a:pt x="16715" y="1838"/>
                  </a:lnTo>
                  <a:lnTo>
                    <a:pt x="17631" y="2450"/>
                  </a:lnTo>
                  <a:lnTo>
                    <a:pt x="18394" y="3140"/>
                  </a:lnTo>
                  <a:lnTo>
                    <a:pt x="19157" y="3906"/>
                  </a:lnTo>
                  <a:lnTo>
                    <a:pt x="19691" y="4672"/>
                  </a:lnTo>
                  <a:lnTo>
                    <a:pt x="20302" y="5667"/>
                  </a:lnTo>
                  <a:lnTo>
                    <a:pt x="20684" y="6587"/>
                  </a:lnTo>
                  <a:lnTo>
                    <a:pt x="21065" y="7582"/>
                  </a:lnTo>
                  <a:lnTo>
                    <a:pt x="21370" y="8578"/>
                  </a:lnTo>
                  <a:lnTo>
                    <a:pt x="21523" y="9651"/>
                  </a:lnTo>
                  <a:lnTo>
                    <a:pt x="21600" y="10800"/>
                  </a:lnTo>
                  <a:lnTo>
                    <a:pt x="21600" y="10800"/>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1" name="未知"/>
            <p:cNvSpPr/>
            <p:nvPr/>
          </p:nvSpPr>
          <p:spPr>
            <a:xfrm>
              <a:off x="543960" y="2793240"/>
              <a:ext cx="805320" cy="807480"/>
            </a:xfrm>
            <a:custGeom>
              <a:avLst/>
              <a:gdLst/>
              <a:ahLst/>
              <a:rect l="l" t="t" r="r" b="b"/>
              <a:pathLst>
                <a:path w="21600" h="21600">
                  <a:moveTo>
                    <a:pt x="21600" y="10800"/>
                  </a:moveTo>
                  <a:lnTo>
                    <a:pt x="21600" y="10800"/>
                  </a:lnTo>
                  <a:lnTo>
                    <a:pt x="21600" y="11818"/>
                  </a:lnTo>
                  <a:lnTo>
                    <a:pt x="21394" y="12939"/>
                  </a:lnTo>
                  <a:lnTo>
                    <a:pt x="21088" y="13958"/>
                  </a:lnTo>
                  <a:lnTo>
                    <a:pt x="20678" y="15079"/>
                  </a:lnTo>
                  <a:lnTo>
                    <a:pt x="20166" y="15894"/>
                  </a:lnTo>
                  <a:lnTo>
                    <a:pt x="19757" y="16811"/>
                  </a:lnTo>
                  <a:lnTo>
                    <a:pt x="19040" y="17626"/>
                  </a:lnTo>
                  <a:lnTo>
                    <a:pt x="18323" y="18441"/>
                  </a:lnTo>
                  <a:lnTo>
                    <a:pt x="17607" y="19052"/>
                  </a:lnTo>
                  <a:lnTo>
                    <a:pt x="16686" y="19765"/>
                  </a:lnTo>
                  <a:lnTo>
                    <a:pt x="15867" y="20275"/>
                  </a:lnTo>
                  <a:lnTo>
                    <a:pt x="14945" y="20784"/>
                  </a:lnTo>
                  <a:lnTo>
                    <a:pt x="13922" y="21090"/>
                  </a:lnTo>
                  <a:lnTo>
                    <a:pt x="12898" y="21395"/>
                  </a:lnTo>
                  <a:lnTo>
                    <a:pt x="11772" y="21600"/>
                  </a:lnTo>
                  <a:lnTo>
                    <a:pt x="10748" y="21600"/>
                  </a:lnTo>
                  <a:lnTo>
                    <a:pt x="10748" y="21600"/>
                  </a:lnTo>
                  <a:lnTo>
                    <a:pt x="9622" y="21600"/>
                  </a:lnTo>
                  <a:lnTo>
                    <a:pt x="8496" y="21395"/>
                  </a:lnTo>
                  <a:lnTo>
                    <a:pt x="7575" y="21090"/>
                  </a:lnTo>
                  <a:lnTo>
                    <a:pt x="6551" y="20784"/>
                  </a:lnTo>
                  <a:lnTo>
                    <a:pt x="5630" y="20275"/>
                  </a:lnTo>
                  <a:lnTo>
                    <a:pt x="4708" y="19765"/>
                  </a:lnTo>
                  <a:lnTo>
                    <a:pt x="3787" y="19052"/>
                  </a:lnTo>
                  <a:lnTo>
                    <a:pt x="3070" y="18441"/>
                  </a:lnTo>
                  <a:lnTo>
                    <a:pt x="2354" y="17626"/>
                  </a:lnTo>
                  <a:lnTo>
                    <a:pt x="1740" y="16811"/>
                  </a:lnTo>
                  <a:lnTo>
                    <a:pt x="1330" y="15894"/>
                  </a:lnTo>
                  <a:lnTo>
                    <a:pt x="716" y="15079"/>
                  </a:lnTo>
                  <a:lnTo>
                    <a:pt x="409" y="13958"/>
                  </a:lnTo>
                  <a:lnTo>
                    <a:pt x="102" y="12939"/>
                  </a:lnTo>
                  <a:lnTo>
                    <a:pt x="0" y="11818"/>
                  </a:lnTo>
                  <a:lnTo>
                    <a:pt x="0" y="10800"/>
                  </a:lnTo>
                  <a:lnTo>
                    <a:pt x="0" y="10800"/>
                  </a:lnTo>
                  <a:lnTo>
                    <a:pt x="0" y="9679"/>
                  </a:lnTo>
                  <a:lnTo>
                    <a:pt x="102" y="8558"/>
                  </a:lnTo>
                  <a:lnTo>
                    <a:pt x="409" y="7641"/>
                  </a:lnTo>
                  <a:lnTo>
                    <a:pt x="716" y="6520"/>
                  </a:lnTo>
                  <a:lnTo>
                    <a:pt x="1330" y="5705"/>
                  </a:lnTo>
                  <a:lnTo>
                    <a:pt x="1740" y="4686"/>
                  </a:lnTo>
                  <a:lnTo>
                    <a:pt x="2354" y="3871"/>
                  </a:lnTo>
                  <a:lnTo>
                    <a:pt x="3070" y="3056"/>
                  </a:lnTo>
                  <a:lnTo>
                    <a:pt x="3787" y="2445"/>
                  </a:lnTo>
                  <a:lnTo>
                    <a:pt x="4708" y="1833"/>
                  </a:lnTo>
                  <a:lnTo>
                    <a:pt x="5630" y="1324"/>
                  </a:lnTo>
                  <a:lnTo>
                    <a:pt x="6551" y="815"/>
                  </a:lnTo>
                  <a:lnTo>
                    <a:pt x="7575" y="509"/>
                  </a:lnTo>
                  <a:lnTo>
                    <a:pt x="8496" y="203"/>
                  </a:lnTo>
                  <a:lnTo>
                    <a:pt x="9622" y="0"/>
                  </a:lnTo>
                  <a:lnTo>
                    <a:pt x="10748" y="0"/>
                  </a:lnTo>
                  <a:lnTo>
                    <a:pt x="10748" y="0"/>
                  </a:lnTo>
                  <a:lnTo>
                    <a:pt x="11772" y="0"/>
                  </a:lnTo>
                  <a:lnTo>
                    <a:pt x="12898" y="203"/>
                  </a:lnTo>
                  <a:lnTo>
                    <a:pt x="13922" y="509"/>
                  </a:lnTo>
                  <a:lnTo>
                    <a:pt x="14945" y="815"/>
                  </a:lnTo>
                  <a:lnTo>
                    <a:pt x="15867" y="1324"/>
                  </a:lnTo>
                  <a:lnTo>
                    <a:pt x="16686" y="1833"/>
                  </a:lnTo>
                  <a:lnTo>
                    <a:pt x="17607" y="2445"/>
                  </a:lnTo>
                  <a:lnTo>
                    <a:pt x="18323" y="3056"/>
                  </a:lnTo>
                  <a:lnTo>
                    <a:pt x="19040" y="3871"/>
                  </a:lnTo>
                  <a:lnTo>
                    <a:pt x="19757" y="4686"/>
                  </a:lnTo>
                  <a:lnTo>
                    <a:pt x="20166" y="5705"/>
                  </a:lnTo>
                  <a:lnTo>
                    <a:pt x="20678" y="6520"/>
                  </a:lnTo>
                  <a:lnTo>
                    <a:pt x="21088" y="7641"/>
                  </a:lnTo>
                  <a:lnTo>
                    <a:pt x="21394" y="8558"/>
                  </a:lnTo>
                  <a:lnTo>
                    <a:pt x="21600" y="9679"/>
                  </a:lnTo>
                  <a:lnTo>
                    <a:pt x="21600" y="10800"/>
                  </a:lnTo>
                  <a:lnTo>
                    <a:pt x="21600" y="1080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2" name="未知"/>
            <p:cNvSpPr/>
            <p:nvPr/>
          </p:nvSpPr>
          <p:spPr>
            <a:xfrm>
              <a:off x="681840" y="2931120"/>
              <a:ext cx="525960" cy="528840"/>
            </a:xfrm>
            <a:custGeom>
              <a:avLst/>
              <a:gdLst/>
              <a:ahLst/>
              <a:rect l="l" t="t" r="r" b="b"/>
              <a:pathLst>
                <a:path w="21600" h="21600">
                  <a:moveTo>
                    <a:pt x="21600" y="10722"/>
                  </a:moveTo>
                  <a:lnTo>
                    <a:pt x="21600" y="10722"/>
                  </a:lnTo>
                  <a:lnTo>
                    <a:pt x="21600" y="11809"/>
                  </a:lnTo>
                  <a:lnTo>
                    <a:pt x="21443" y="12897"/>
                  </a:lnTo>
                  <a:lnTo>
                    <a:pt x="21286" y="13985"/>
                  </a:lnTo>
                  <a:lnTo>
                    <a:pt x="20817" y="14917"/>
                  </a:lnTo>
                  <a:lnTo>
                    <a:pt x="20347" y="15850"/>
                  </a:lnTo>
                  <a:lnTo>
                    <a:pt x="19721" y="16937"/>
                  </a:lnTo>
                  <a:lnTo>
                    <a:pt x="19095" y="17559"/>
                  </a:lnTo>
                  <a:lnTo>
                    <a:pt x="18469" y="18336"/>
                  </a:lnTo>
                  <a:lnTo>
                    <a:pt x="17686" y="19113"/>
                  </a:lnTo>
                  <a:lnTo>
                    <a:pt x="16904" y="19735"/>
                  </a:lnTo>
                  <a:lnTo>
                    <a:pt x="15965" y="20201"/>
                  </a:lnTo>
                  <a:lnTo>
                    <a:pt x="15182" y="20667"/>
                  </a:lnTo>
                  <a:lnTo>
                    <a:pt x="13930" y="21133"/>
                  </a:lnTo>
                  <a:lnTo>
                    <a:pt x="12991" y="21444"/>
                  </a:lnTo>
                  <a:lnTo>
                    <a:pt x="11895" y="21600"/>
                  </a:lnTo>
                  <a:lnTo>
                    <a:pt x="10800" y="21600"/>
                  </a:lnTo>
                  <a:lnTo>
                    <a:pt x="10800" y="21600"/>
                  </a:lnTo>
                  <a:lnTo>
                    <a:pt x="9704" y="21600"/>
                  </a:lnTo>
                  <a:lnTo>
                    <a:pt x="8608" y="21444"/>
                  </a:lnTo>
                  <a:lnTo>
                    <a:pt x="7669" y="21133"/>
                  </a:lnTo>
                  <a:lnTo>
                    <a:pt x="6573" y="20667"/>
                  </a:lnTo>
                  <a:lnTo>
                    <a:pt x="5634" y="20201"/>
                  </a:lnTo>
                  <a:lnTo>
                    <a:pt x="4851" y="19735"/>
                  </a:lnTo>
                  <a:lnTo>
                    <a:pt x="3912" y="19113"/>
                  </a:lnTo>
                  <a:lnTo>
                    <a:pt x="3130" y="18336"/>
                  </a:lnTo>
                  <a:lnTo>
                    <a:pt x="2504" y="17559"/>
                  </a:lnTo>
                  <a:lnTo>
                    <a:pt x="1878" y="16937"/>
                  </a:lnTo>
                  <a:lnTo>
                    <a:pt x="1252" y="15850"/>
                  </a:lnTo>
                  <a:lnTo>
                    <a:pt x="939" y="14917"/>
                  </a:lnTo>
                  <a:lnTo>
                    <a:pt x="469" y="13985"/>
                  </a:lnTo>
                  <a:lnTo>
                    <a:pt x="156" y="12897"/>
                  </a:lnTo>
                  <a:lnTo>
                    <a:pt x="0" y="11809"/>
                  </a:lnTo>
                  <a:lnTo>
                    <a:pt x="0" y="10722"/>
                  </a:lnTo>
                  <a:lnTo>
                    <a:pt x="0" y="10722"/>
                  </a:lnTo>
                  <a:lnTo>
                    <a:pt x="0" y="9634"/>
                  </a:lnTo>
                  <a:lnTo>
                    <a:pt x="156" y="8701"/>
                  </a:lnTo>
                  <a:lnTo>
                    <a:pt x="469" y="7614"/>
                  </a:lnTo>
                  <a:lnTo>
                    <a:pt x="939" y="6526"/>
                  </a:lnTo>
                  <a:lnTo>
                    <a:pt x="1252" y="5594"/>
                  </a:lnTo>
                  <a:lnTo>
                    <a:pt x="1878" y="4661"/>
                  </a:lnTo>
                  <a:lnTo>
                    <a:pt x="2504" y="3729"/>
                  </a:lnTo>
                  <a:lnTo>
                    <a:pt x="3130" y="3263"/>
                  </a:lnTo>
                  <a:lnTo>
                    <a:pt x="3912" y="2330"/>
                  </a:lnTo>
                  <a:lnTo>
                    <a:pt x="4851" y="1709"/>
                  </a:lnTo>
                  <a:lnTo>
                    <a:pt x="5634" y="1087"/>
                  </a:lnTo>
                  <a:lnTo>
                    <a:pt x="6573" y="932"/>
                  </a:lnTo>
                  <a:lnTo>
                    <a:pt x="7669" y="466"/>
                  </a:lnTo>
                  <a:lnTo>
                    <a:pt x="8608" y="155"/>
                  </a:lnTo>
                  <a:lnTo>
                    <a:pt x="9704" y="0"/>
                  </a:lnTo>
                  <a:lnTo>
                    <a:pt x="10800" y="0"/>
                  </a:lnTo>
                  <a:lnTo>
                    <a:pt x="10800" y="0"/>
                  </a:lnTo>
                  <a:lnTo>
                    <a:pt x="11895" y="0"/>
                  </a:lnTo>
                  <a:lnTo>
                    <a:pt x="12991" y="155"/>
                  </a:lnTo>
                  <a:lnTo>
                    <a:pt x="13930" y="466"/>
                  </a:lnTo>
                  <a:lnTo>
                    <a:pt x="15182" y="932"/>
                  </a:lnTo>
                  <a:lnTo>
                    <a:pt x="15965" y="1087"/>
                  </a:lnTo>
                  <a:lnTo>
                    <a:pt x="16904" y="1709"/>
                  </a:lnTo>
                  <a:lnTo>
                    <a:pt x="17686" y="2330"/>
                  </a:lnTo>
                  <a:lnTo>
                    <a:pt x="18469" y="3263"/>
                  </a:lnTo>
                  <a:lnTo>
                    <a:pt x="19095" y="3729"/>
                  </a:lnTo>
                  <a:lnTo>
                    <a:pt x="19721" y="4661"/>
                  </a:lnTo>
                  <a:lnTo>
                    <a:pt x="20347" y="5594"/>
                  </a:lnTo>
                  <a:lnTo>
                    <a:pt x="20817" y="6526"/>
                  </a:lnTo>
                  <a:lnTo>
                    <a:pt x="21286" y="7614"/>
                  </a:lnTo>
                  <a:lnTo>
                    <a:pt x="21443" y="8701"/>
                  </a:lnTo>
                  <a:lnTo>
                    <a:pt x="21600" y="9634"/>
                  </a:lnTo>
                  <a:lnTo>
                    <a:pt x="21600" y="10722"/>
                  </a:lnTo>
                  <a:lnTo>
                    <a:pt x="21600" y="10722"/>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253" name=""/>
          <p:cNvGrpSpPr/>
          <p:nvPr/>
        </p:nvGrpSpPr>
        <p:grpSpPr>
          <a:xfrm>
            <a:off x="0" y="388800"/>
            <a:ext cx="1477440" cy="1477800"/>
            <a:chOff x="0" y="388800"/>
            <a:chExt cx="1477440" cy="1477800"/>
          </a:xfrm>
        </p:grpSpPr>
        <p:sp>
          <p:nvSpPr>
            <p:cNvPr id="254" name="未知"/>
            <p:cNvSpPr/>
            <p:nvPr/>
          </p:nvSpPr>
          <p:spPr>
            <a:xfrm>
              <a:off x="0" y="388800"/>
              <a:ext cx="1477440" cy="1477800"/>
            </a:xfrm>
            <a:custGeom>
              <a:avLst/>
              <a:gdLst/>
              <a:ahLst/>
              <a:rect l="l" t="t" r="r" b="b"/>
              <a:pathLst>
                <a:path w="21600" h="21600">
                  <a:moveTo>
                    <a:pt x="21600" y="10744"/>
                  </a:moveTo>
                  <a:lnTo>
                    <a:pt x="21600" y="10744"/>
                  </a:lnTo>
                  <a:lnTo>
                    <a:pt x="21600" y="11356"/>
                  </a:lnTo>
                  <a:lnTo>
                    <a:pt x="21544" y="11857"/>
                  </a:lnTo>
                  <a:lnTo>
                    <a:pt x="21377" y="12915"/>
                  </a:lnTo>
                  <a:lnTo>
                    <a:pt x="21154" y="14028"/>
                  </a:lnTo>
                  <a:lnTo>
                    <a:pt x="20764" y="14975"/>
                  </a:lnTo>
                  <a:lnTo>
                    <a:pt x="20263" y="15921"/>
                  </a:lnTo>
                  <a:lnTo>
                    <a:pt x="19762" y="16867"/>
                  </a:lnTo>
                  <a:lnTo>
                    <a:pt x="19150" y="17647"/>
                  </a:lnTo>
                  <a:lnTo>
                    <a:pt x="18426" y="18426"/>
                  </a:lnTo>
                  <a:lnTo>
                    <a:pt x="17647" y="19094"/>
                  </a:lnTo>
                  <a:lnTo>
                    <a:pt x="16867" y="19762"/>
                  </a:lnTo>
                  <a:lnTo>
                    <a:pt x="15921" y="20263"/>
                  </a:lnTo>
                  <a:lnTo>
                    <a:pt x="14975" y="20764"/>
                  </a:lnTo>
                  <a:lnTo>
                    <a:pt x="14028" y="21098"/>
                  </a:lnTo>
                  <a:lnTo>
                    <a:pt x="12915" y="21377"/>
                  </a:lnTo>
                  <a:lnTo>
                    <a:pt x="11857" y="21544"/>
                  </a:lnTo>
                  <a:lnTo>
                    <a:pt x="11356" y="21600"/>
                  </a:lnTo>
                  <a:lnTo>
                    <a:pt x="10800" y="21600"/>
                  </a:lnTo>
                  <a:lnTo>
                    <a:pt x="10800" y="21600"/>
                  </a:lnTo>
                  <a:lnTo>
                    <a:pt x="10187" y="21600"/>
                  </a:lnTo>
                  <a:lnTo>
                    <a:pt x="9742" y="21544"/>
                  </a:lnTo>
                  <a:lnTo>
                    <a:pt x="8628" y="21377"/>
                  </a:lnTo>
                  <a:lnTo>
                    <a:pt x="7571" y="21098"/>
                  </a:lnTo>
                  <a:lnTo>
                    <a:pt x="6624" y="20764"/>
                  </a:lnTo>
                  <a:lnTo>
                    <a:pt x="5622" y="20263"/>
                  </a:lnTo>
                  <a:lnTo>
                    <a:pt x="4731" y="19762"/>
                  </a:lnTo>
                  <a:lnTo>
                    <a:pt x="3896" y="19094"/>
                  </a:lnTo>
                  <a:lnTo>
                    <a:pt x="3172" y="18426"/>
                  </a:lnTo>
                  <a:lnTo>
                    <a:pt x="2449" y="17647"/>
                  </a:lnTo>
                  <a:lnTo>
                    <a:pt x="1836" y="16867"/>
                  </a:lnTo>
                  <a:lnTo>
                    <a:pt x="1280" y="15921"/>
                  </a:lnTo>
                  <a:lnTo>
                    <a:pt x="834" y="14975"/>
                  </a:lnTo>
                  <a:lnTo>
                    <a:pt x="445" y="14028"/>
                  </a:lnTo>
                  <a:lnTo>
                    <a:pt x="222" y="12915"/>
                  </a:lnTo>
                  <a:lnTo>
                    <a:pt x="55" y="11857"/>
                  </a:lnTo>
                  <a:lnTo>
                    <a:pt x="0" y="11356"/>
                  </a:lnTo>
                  <a:lnTo>
                    <a:pt x="0" y="10744"/>
                  </a:lnTo>
                  <a:lnTo>
                    <a:pt x="0" y="10744"/>
                  </a:lnTo>
                  <a:lnTo>
                    <a:pt x="0" y="10187"/>
                  </a:lnTo>
                  <a:lnTo>
                    <a:pt x="55" y="9686"/>
                  </a:lnTo>
                  <a:lnTo>
                    <a:pt x="222" y="8572"/>
                  </a:lnTo>
                  <a:lnTo>
                    <a:pt x="445" y="7571"/>
                  </a:lnTo>
                  <a:lnTo>
                    <a:pt x="834" y="6624"/>
                  </a:lnTo>
                  <a:lnTo>
                    <a:pt x="1280" y="5622"/>
                  </a:lnTo>
                  <a:lnTo>
                    <a:pt x="1836" y="4731"/>
                  </a:lnTo>
                  <a:lnTo>
                    <a:pt x="2449" y="3896"/>
                  </a:lnTo>
                  <a:lnTo>
                    <a:pt x="3172" y="3117"/>
                  </a:lnTo>
                  <a:lnTo>
                    <a:pt x="3896" y="2449"/>
                  </a:lnTo>
                  <a:lnTo>
                    <a:pt x="4731" y="1836"/>
                  </a:lnTo>
                  <a:lnTo>
                    <a:pt x="5622" y="1224"/>
                  </a:lnTo>
                  <a:lnTo>
                    <a:pt x="6624" y="834"/>
                  </a:lnTo>
                  <a:lnTo>
                    <a:pt x="7571" y="445"/>
                  </a:lnTo>
                  <a:lnTo>
                    <a:pt x="8628" y="166"/>
                  </a:lnTo>
                  <a:lnTo>
                    <a:pt x="9742" y="55"/>
                  </a:lnTo>
                  <a:lnTo>
                    <a:pt x="10187" y="0"/>
                  </a:lnTo>
                  <a:lnTo>
                    <a:pt x="10800" y="0"/>
                  </a:lnTo>
                  <a:lnTo>
                    <a:pt x="10800" y="0"/>
                  </a:lnTo>
                  <a:lnTo>
                    <a:pt x="11356" y="0"/>
                  </a:lnTo>
                  <a:lnTo>
                    <a:pt x="11857" y="55"/>
                  </a:lnTo>
                  <a:lnTo>
                    <a:pt x="12915" y="166"/>
                  </a:lnTo>
                  <a:lnTo>
                    <a:pt x="14028" y="445"/>
                  </a:lnTo>
                  <a:lnTo>
                    <a:pt x="14975" y="834"/>
                  </a:lnTo>
                  <a:lnTo>
                    <a:pt x="15921" y="1224"/>
                  </a:lnTo>
                  <a:lnTo>
                    <a:pt x="16867" y="1836"/>
                  </a:lnTo>
                  <a:lnTo>
                    <a:pt x="17647" y="2449"/>
                  </a:lnTo>
                  <a:lnTo>
                    <a:pt x="18426" y="3117"/>
                  </a:lnTo>
                  <a:lnTo>
                    <a:pt x="19150" y="3896"/>
                  </a:lnTo>
                  <a:lnTo>
                    <a:pt x="19762" y="4731"/>
                  </a:lnTo>
                  <a:lnTo>
                    <a:pt x="20263" y="5622"/>
                  </a:lnTo>
                  <a:lnTo>
                    <a:pt x="20764" y="6624"/>
                  </a:lnTo>
                  <a:lnTo>
                    <a:pt x="21154" y="7571"/>
                  </a:lnTo>
                  <a:lnTo>
                    <a:pt x="21377" y="8572"/>
                  </a:lnTo>
                  <a:lnTo>
                    <a:pt x="21544" y="9686"/>
                  </a:lnTo>
                  <a:lnTo>
                    <a:pt x="21600" y="10187"/>
                  </a:lnTo>
                  <a:lnTo>
                    <a:pt x="21600" y="10744"/>
                  </a:lnTo>
                  <a:lnTo>
                    <a:pt x="21600" y="10744"/>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5" name="未知"/>
            <p:cNvSpPr/>
            <p:nvPr/>
          </p:nvSpPr>
          <p:spPr>
            <a:xfrm>
              <a:off x="186120" y="574920"/>
              <a:ext cx="1108080" cy="1105200"/>
            </a:xfrm>
            <a:custGeom>
              <a:avLst/>
              <a:gdLst/>
              <a:ahLst/>
              <a:rect l="l" t="t" r="r" b="b"/>
              <a:pathLst>
                <a:path w="21600" h="21600">
                  <a:moveTo>
                    <a:pt x="21600" y="10725"/>
                  </a:moveTo>
                  <a:lnTo>
                    <a:pt x="21600" y="10725"/>
                  </a:lnTo>
                  <a:lnTo>
                    <a:pt x="21525" y="11768"/>
                  </a:lnTo>
                  <a:lnTo>
                    <a:pt x="21303" y="12810"/>
                  </a:lnTo>
                  <a:lnTo>
                    <a:pt x="21006" y="13928"/>
                  </a:lnTo>
                  <a:lnTo>
                    <a:pt x="20709" y="14896"/>
                  </a:lnTo>
                  <a:lnTo>
                    <a:pt x="20263" y="15864"/>
                  </a:lnTo>
                  <a:lnTo>
                    <a:pt x="19669" y="16758"/>
                  </a:lnTo>
                  <a:lnTo>
                    <a:pt x="19076" y="17577"/>
                  </a:lnTo>
                  <a:lnTo>
                    <a:pt x="18333" y="18397"/>
                  </a:lnTo>
                  <a:lnTo>
                    <a:pt x="17591" y="18992"/>
                  </a:lnTo>
                  <a:lnTo>
                    <a:pt x="16849" y="19663"/>
                  </a:lnTo>
                  <a:lnTo>
                    <a:pt x="15810" y="20259"/>
                  </a:lnTo>
                  <a:lnTo>
                    <a:pt x="14919" y="20631"/>
                  </a:lnTo>
                  <a:lnTo>
                    <a:pt x="13954" y="21004"/>
                  </a:lnTo>
                  <a:lnTo>
                    <a:pt x="12915" y="21302"/>
                  </a:lnTo>
                  <a:lnTo>
                    <a:pt x="11876" y="21525"/>
                  </a:lnTo>
                  <a:lnTo>
                    <a:pt x="10688" y="21600"/>
                  </a:lnTo>
                  <a:lnTo>
                    <a:pt x="10688" y="21600"/>
                  </a:lnTo>
                  <a:lnTo>
                    <a:pt x="9649" y="21525"/>
                  </a:lnTo>
                  <a:lnTo>
                    <a:pt x="8536" y="21302"/>
                  </a:lnTo>
                  <a:lnTo>
                    <a:pt x="7571" y="21004"/>
                  </a:lnTo>
                  <a:lnTo>
                    <a:pt x="6605" y="20631"/>
                  </a:lnTo>
                  <a:lnTo>
                    <a:pt x="5566" y="20259"/>
                  </a:lnTo>
                  <a:lnTo>
                    <a:pt x="4676" y="19663"/>
                  </a:lnTo>
                  <a:lnTo>
                    <a:pt x="3933" y="18992"/>
                  </a:lnTo>
                  <a:lnTo>
                    <a:pt x="3117" y="18397"/>
                  </a:lnTo>
                  <a:lnTo>
                    <a:pt x="2449" y="17577"/>
                  </a:lnTo>
                  <a:lnTo>
                    <a:pt x="1781" y="16758"/>
                  </a:lnTo>
                  <a:lnTo>
                    <a:pt x="1261" y="15864"/>
                  </a:lnTo>
                  <a:lnTo>
                    <a:pt x="816" y="14896"/>
                  </a:lnTo>
                  <a:lnTo>
                    <a:pt x="445" y="13928"/>
                  </a:lnTo>
                  <a:lnTo>
                    <a:pt x="222" y="12810"/>
                  </a:lnTo>
                  <a:lnTo>
                    <a:pt x="0" y="11768"/>
                  </a:lnTo>
                  <a:lnTo>
                    <a:pt x="0" y="10725"/>
                  </a:lnTo>
                  <a:lnTo>
                    <a:pt x="0" y="10725"/>
                  </a:lnTo>
                  <a:lnTo>
                    <a:pt x="0" y="9682"/>
                  </a:lnTo>
                  <a:lnTo>
                    <a:pt x="222" y="8565"/>
                  </a:lnTo>
                  <a:lnTo>
                    <a:pt x="445" y="7597"/>
                  </a:lnTo>
                  <a:lnTo>
                    <a:pt x="816" y="6554"/>
                  </a:lnTo>
                  <a:lnTo>
                    <a:pt x="1261" y="5585"/>
                  </a:lnTo>
                  <a:lnTo>
                    <a:pt x="1781" y="4692"/>
                  </a:lnTo>
                  <a:lnTo>
                    <a:pt x="2449" y="3873"/>
                  </a:lnTo>
                  <a:lnTo>
                    <a:pt x="3117" y="3053"/>
                  </a:lnTo>
                  <a:lnTo>
                    <a:pt x="3933" y="2457"/>
                  </a:lnTo>
                  <a:lnTo>
                    <a:pt x="4676" y="1787"/>
                  </a:lnTo>
                  <a:lnTo>
                    <a:pt x="5566" y="1265"/>
                  </a:lnTo>
                  <a:lnTo>
                    <a:pt x="6605" y="819"/>
                  </a:lnTo>
                  <a:lnTo>
                    <a:pt x="7571" y="446"/>
                  </a:lnTo>
                  <a:lnTo>
                    <a:pt x="8536" y="148"/>
                  </a:lnTo>
                  <a:lnTo>
                    <a:pt x="9649" y="0"/>
                  </a:lnTo>
                  <a:lnTo>
                    <a:pt x="10688" y="0"/>
                  </a:lnTo>
                  <a:lnTo>
                    <a:pt x="10688" y="0"/>
                  </a:lnTo>
                  <a:lnTo>
                    <a:pt x="11876" y="0"/>
                  </a:lnTo>
                  <a:lnTo>
                    <a:pt x="12915" y="148"/>
                  </a:lnTo>
                  <a:lnTo>
                    <a:pt x="13954" y="446"/>
                  </a:lnTo>
                  <a:lnTo>
                    <a:pt x="14919" y="819"/>
                  </a:lnTo>
                  <a:lnTo>
                    <a:pt x="15810" y="1265"/>
                  </a:lnTo>
                  <a:lnTo>
                    <a:pt x="16849" y="1787"/>
                  </a:lnTo>
                  <a:lnTo>
                    <a:pt x="17591" y="2457"/>
                  </a:lnTo>
                  <a:lnTo>
                    <a:pt x="18333" y="3053"/>
                  </a:lnTo>
                  <a:lnTo>
                    <a:pt x="19076" y="3873"/>
                  </a:lnTo>
                  <a:lnTo>
                    <a:pt x="19669" y="4692"/>
                  </a:lnTo>
                  <a:lnTo>
                    <a:pt x="20263" y="5585"/>
                  </a:lnTo>
                  <a:lnTo>
                    <a:pt x="20709" y="6554"/>
                  </a:lnTo>
                  <a:lnTo>
                    <a:pt x="21006" y="7597"/>
                  </a:lnTo>
                  <a:lnTo>
                    <a:pt x="21303" y="8565"/>
                  </a:lnTo>
                  <a:lnTo>
                    <a:pt x="21525" y="9682"/>
                  </a:lnTo>
                  <a:lnTo>
                    <a:pt x="21600" y="10725"/>
                  </a:lnTo>
                  <a:lnTo>
                    <a:pt x="21600" y="10725"/>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6" name="未知"/>
            <p:cNvSpPr/>
            <p:nvPr/>
          </p:nvSpPr>
          <p:spPr>
            <a:xfrm>
              <a:off x="377640" y="766440"/>
              <a:ext cx="721800" cy="723960"/>
            </a:xfrm>
            <a:custGeom>
              <a:avLst/>
              <a:gdLst/>
              <a:ahLst/>
              <a:rect l="l" t="t" r="r" b="b"/>
              <a:pathLst>
                <a:path w="21600" h="21600">
                  <a:moveTo>
                    <a:pt x="21600" y="10800"/>
                  </a:moveTo>
                  <a:lnTo>
                    <a:pt x="21600" y="10800"/>
                  </a:lnTo>
                  <a:lnTo>
                    <a:pt x="21600" y="11936"/>
                  </a:lnTo>
                  <a:lnTo>
                    <a:pt x="21372" y="12959"/>
                  </a:lnTo>
                  <a:lnTo>
                    <a:pt x="21031" y="13982"/>
                  </a:lnTo>
                  <a:lnTo>
                    <a:pt x="20690" y="15119"/>
                  </a:lnTo>
                  <a:lnTo>
                    <a:pt x="20235" y="15915"/>
                  </a:lnTo>
                  <a:lnTo>
                    <a:pt x="19780" y="16825"/>
                  </a:lnTo>
                  <a:lnTo>
                    <a:pt x="19098" y="17620"/>
                  </a:lnTo>
                  <a:lnTo>
                    <a:pt x="18303" y="18416"/>
                  </a:lnTo>
                  <a:lnTo>
                    <a:pt x="17620" y="19212"/>
                  </a:lnTo>
                  <a:lnTo>
                    <a:pt x="16711" y="19780"/>
                  </a:lnTo>
                  <a:lnTo>
                    <a:pt x="15915" y="20349"/>
                  </a:lnTo>
                  <a:lnTo>
                    <a:pt x="15006" y="20804"/>
                  </a:lnTo>
                  <a:lnTo>
                    <a:pt x="13982" y="21145"/>
                  </a:lnTo>
                  <a:lnTo>
                    <a:pt x="12846" y="21372"/>
                  </a:lnTo>
                  <a:lnTo>
                    <a:pt x="11936" y="21600"/>
                  </a:lnTo>
                  <a:lnTo>
                    <a:pt x="10686" y="21600"/>
                  </a:lnTo>
                  <a:lnTo>
                    <a:pt x="10686" y="21600"/>
                  </a:lnTo>
                  <a:lnTo>
                    <a:pt x="9662" y="21600"/>
                  </a:lnTo>
                  <a:lnTo>
                    <a:pt x="8526" y="21372"/>
                  </a:lnTo>
                  <a:lnTo>
                    <a:pt x="7503" y="21145"/>
                  </a:lnTo>
                  <a:lnTo>
                    <a:pt x="6479" y="20804"/>
                  </a:lnTo>
                  <a:lnTo>
                    <a:pt x="5570" y="20349"/>
                  </a:lnTo>
                  <a:lnTo>
                    <a:pt x="4660" y="19780"/>
                  </a:lnTo>
                  <a:lnTo>
                    <a:pt x="3978" y="19212"/>
                  </a:lnTo>
                  <a:lnTo>
                    <a:pt x="3069" y="18416"/>
                  </a:lnTo>
                  <a:lnTo>
                    <a:pt x="2273" y="17620"/>
                  </a:lnTo>
                  <a:lnTo>
                    <a:pt x="1818" y="16825"/>
                  </a:lnTo>
                  <a:lnTo>
                    <a:pt x="1250" y="15915"/>
                  </a:lnTo>
                  <a:lnTo>
                    <a:pt x="681" y="15119"/>
                  </a:lnTo>
                  <a:lnTo>
                    <a:pt x="454" y="13982"/>
                  </a:lnTo>
                  <a:lnTo>
                    <a:pt x="227" y="12959"/>
                  </a:lnTo>
                  <a:lnTo>
                    <a:pt x="0" y="11936"/>
                  </a:lnTo>
                  <a:lnTo>
                    <a:pt x="0" y="10800"/>
                  </a:lnTo>
                  <a:lnTo>
                    <a:pt x="0" y="10800"/>
                  </a:lnTo>
                  <a:lnTo>
                    <a:pt x="0" y="9662"/>
                  </a:lnTo>
                  <a:lnTo>
                    <a:pt x="227" y="8639"/>
                  </a:lnTo>
                  <a:lnTo>
                    <a:pt x="454" y="7616"/>
                  </a:lnTo>
                  <a:lnTo>
                    <a:pt x="681" y="6593"/>
                  </a:lnTo>
                  <a:lnTo>
                    <a:pt x="1250" y="5570"/>
                  </a:lnTo>
                  <a:lnTo>
                    <a:pt x="1818" y="4774"/>
                  </a:lnTo>
                  <a:lnTo>
                    <a:pt x="2273" y="3978"/>
                  </a:lnTo>
                  <a:lnTo>
                    <a:pt x="3069" y="3182"/>
                  </a:lnTo>
                  <a:lnTo>
                    <a:pt x="3978" y="2387"/>
                  </a:lnTo>
                  <a:lnTo>
                    <a:pt x="4660" y="1818"/>
                  </a:lnTo>
                  <a:lnTo>
                    <a:pt x="5570" y="1364"/>
                  </a:lnTo>
                  <a:lnTo>
                    <a:pt x="6479" y="795"/>
                  </a:lnTo>
                  <a:lnTo>
                    <a:pt x="7503" y="568"/>
                  </a:lnTo>
                  <a:lnTo>
                    <a:pt x="8526" y="227"/>
                  </a:lnTo>
                  <a:lnTo>
                    <a:pt x="9662" y="0"/>
                  </a:lnTo>
                  <a:lnTo>
                    <a:pt x="10686" y="0"/>
                  </a:lnTo>
                  <a:lnTo>
                    <a:pt x="10686" y="0"/>
                  </a:lnTo>
                  <a:lnTo>
                    <a:pt x="11936" y="0"/>
                  </a:lnTo>
                  <a:lnTo>
                    <a:pt x="12846" y="227"/>
                  </a:lnTo>
                  <a:lnTo>
                    <a:pt x="13982" y="568"/>
                  </a:lnTo>
                  <a:lnTo>
                    <a:pt x="15006" y="795"/>
                  </a:lnTo>
                  <a:lnTo>
                    <a:pt x="15915" y="1364"/>
                  </a:lnTo>
                  <a:lnTo>
                    <a:pt x="16711" y="1818"/>
                  </a:lnTo>
                  <a:lnTo>
                    <a:pt x="17620" y="2387"/>
                  </a:lnTo>
                  <a:lnTo>
                    <a:pt x="18303" y="3182"/>
                  </a:lnTo>
                  <a:lnTo>
                    <a:pt x="19098" y="3978"/>
                  </a:lnTo>
                  <a:lnTo>
                    <a:pt x="19780" y="4774"/>
                  </a:lnTo>
                  <a:lnTo>
                    <a:pt x="20235" y="5570"/>
                  </a:lnTo>
                  <a:lnTo>
                    <a:pt x="20690" y="6593"/>
                  </a:lnTo>
                  <a:lnTo>
                    <a:pt x="21031" y="7616"/>
                  </a:lnTo>
                  <a:lnTo>
                    <a:pt x="21372" y="8639"/>
                  </a:lnTo>
                  <a:lnTo>
                    <a:pt x="21600" y="9662"/>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sp>
        <p:nvSpPr>
          <p:cNvPr id="257" name="未知"/>
          <p:cNvSpPr/>
          <p:nvPr/>
        </p:nvSpPr>
        <p:spPr>
          <a:xfrm>
            <a:off x="0" y="4027320"/>
            <a:ext cx="682560" cy="696960"/>
          </a:xfrm>
          <a:custGeom>
            <a:avLst/>
            <a:gdLst/>
            <a:ahLst/>
            <a:rect l="l" t="t" r="r" b="b"/>
            <a:pathLst>
              <a:path w="21600" h="21600">
                <a:moveTo>
                  <a:pt x="21600" y="10740"/>
                </a:moveTo>
                <a:lnTo>
                  <a:pt x="21600" y="10740"/>
                </a:lnTo>
                <a:lnTo>
                  <a:pt x="21479" y="11921"/>
                </a:lnTo>
                <a:lnTo>
                  <a:pt x="21358" y="12865"/>
                </a:lnTo>
                <a:lnTo>
                  <a:pt x="21117" y="14045"/>
                </a:lnTo>
                <a:lnTo>
                  <a:pt x="20634" y="14990"/>
                </a:lnTo>
                <a:lnTo>
                  <a:pt x="20272" y="15934"/>
                </a:lnTo>
                <a:lnTo>
                  <a:pt x="19669" y="16760"/>
                </a:lnTo>
                <a:lnTo>
                  <a:pt x="19065" y="17586"/>
                </a:lnTo>
                <a:lnTo>
                  <a:pt x="18462" y="18412"/>
                </a:lnTo>
                <a:lnTo>
                  <a:pt x="17617" y="19121"/>
                </a:lnTo>
                <a:lnTo>
                  <a:pt x="16773" y="19711"/>
                </a:lnTo>
                <a:lnTo>
                  <a:pt x="15928" y="20183"/>
                </a:lnTo>
                <a:lnTo>
                  <a:pt x="14963" y="20655"/>
                </a:lnTo>
                <a:lnTo>
                  <a:pt x="13997" y="21127"/>
                </a:lnTo>
                <a:lnTo>
                  <a:pt x="12911" y="21363"/>
                </a:lnTo>
                <a:lnTo>
                  <a:pt x="11946" y="21481"/>
                </a:lnTo>
                <a:lnTo>
                  <a:pt x="10860" y="21600"/>
                </a:lnTo>
                <a:lnTo>
                  <a:pt x="10860" y="21600"/>
                </a:lnTo>
                <a:lnTo>
                  <a:pt x="9653" y="21481"/>
                </a:lnTo>
                <a:lnTo>
                  <a:pt x="8567" y="21363"/>
                </a:lnTo>
                <a:lnTo>
                  <a:pt x="7601" y="21127"/>
                </a:lnTo>
                <a:lnTo>
                  <a:pt x="6636" y="20655"/>
                </a:lnTo>
                <a:lnTo>
                  <a:pt x="5550" y="20183"/>
                </a:lnTo>
                <a:lnTo>
                  <a:pt x="4705" y="19711"/>
                </a:lnTo>
                <a:lnTo>
                  <a:pt x="3861" y="19121"/>
                </a:lnTo>
                <a:lnTo>
                  <a:pt x="3016" y="18412"/>
                </a:lnTo>
                <a:lnTo>
                  <a:pt x="2413" y="17586"/>
                </a:lnTo>
                <a:lnTo>
                  <a:pt x="1809" y="16760"/>
                </a:lnTo>
                <a:lnTo>
                  <a:pt x="1206" y="15934"/>
                </a:lnTo>
                <a:lnTo>
                  <a:pt x="844" y="14990"/>
                </a:lnTo>
                <a:lnTo>
                  <a:pt x="482" y="14045"/>
                </a:lnTo>
                <a:lnTo>
                  <a:pt x="241" y="12865"/>
                </a:lnTo>
                <a:lnTo>
                  <a:pt x="0" y="11921"/>
                </a:lnTo>
                <a:lnTo>
                  <a:pt x="0" y="10740"/>
                </a:lnTo>
                <a:lnTo>
                  <a:pt x="0" y="10740"/>
                </a:lnTo>
                <a:lnTo>
                  <a:pt x="0" y="9678"/>
                </a:lnTo>
                <a:lnTo>
                  <a:pt x="241" y="8498"/>
                </a:lnTo>
                <a:lnTo>
                  <a:pt x="482" y="7553"/>
                </a:lnTo>
                <a:lnTo>
                  <a:pt x="844" y="6491"/>
                </a:lnTo>
                <a:lnTo>
                  <a:pt x="1206" y="5547"/>
                </a:lnTo>
                <a:lnTo>
                  <a:pt x="1809" y="4603"/>
                </a:lnTo>
                <a:lnTo>
                  <a:pt x="2413" y="3894"/>
                </a:lnTo>
                <a:lnTo>
                  <a:pt x="3016" y="3068"/>
                </a:lnTo>
                <a:lnTo>
                  <a:pt x="3861" y="2360"/>
                </a:lnTo>
                <a:lnTo>
                  <a:pt x="4705" y="1770"/>
                </a:lnTo>
                <a:lnTo>
                  <a:pt x="5550" y="1180"/>
                </a:lnTo>
                <a:lnTo>
                  <a:pt x="6636" y="707"/>
                </a:lnTo>
                <a:lnTo>
                  <a:pt x="7601" y="353"/>
                </a:lnTo>
                <a:lnTo>
                  <a:pt x="8567" y="235"/>
                </a:lnTo>
                <a:lnTo>
                  <a:pt x="9653" y="0"/>
                </a:lnTo>
                <a:lnTo>
                  <a:pt x="10860" y="0"/>
                </a:lnTo>
                <a:lnTo>
                  <a:pt x="10860" y="0"/>
                </a:lnTo>
                <a:lnTo>
                  <a:pt x="11946" y="0"/>
                </a:lnTo>
                <a:lnTo>
                  <a:pt x="12911" y="235"/>
                </a:lnTo>
                <a:lnTo>
                  <a:pt x="13997" y="353"/>
                </a:lnTo>
                <a:lnTo>
                  <a:pt x="14963" y="707"/>
                </a:lnTo>
                <a:lnTo>
                  <a:pt x="15928" y="1180"/>
                </a:lnTo>
                <a:lnTo>
                  <a:pt x="16773" y="1770"/>
                </a:lnTo>
                <a:lnTo>
                  <a:pt x="17617" y="2360"/>
                </a:lnTo>
                <a:lnTo>
                  <a:pt x="18462" y="3068"/>
                </a:lnTo>
                <a:lnTo>
                  <a:pt x="19065" y="3894"/>
                </a:lnTo>
                <a:lnTo>
                  <a:pt x="19669" y="4603"/>
                </a:lnTo>
                <a:lnTo>
                  <a:pt x="20272" y="5547"/>
                </a:lnTo>
                <a:lnTo>
                  <a:pt x="20634" y="6491"/>
                </a:lnTo>
                <a:lnTo>
                  <a:pt x="21117" y="7553"/>
                </a:lnTo>
                <a:lnTo>
                  <a:pt x="21358" y="8498"/>
                </a:lnTo>
                <a:lnTo>
                  <a:pt x="21479" y="9678"/>
                </a:lnTo>
                <a:lnTo>
                  <a:pt x="21600" y="10740"/>
                </a:lnTo>
                <a:lnTo>
                  <a:pt x="21600" y="10740"/>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258" name=""/>
          <p:cNvGrpSpPr/>
          <p:nvPr/>
        </p:nvGrpSpPr>
        <p:grpSpPr>
          <a:xfrm>
            <a:off x="95400" y="4122720"/>
            <a:ext cx="513720" cy="522000"/>
            <a:chOff x="95400" y="4122720"/>
            <a:chExt cx="513720" cy="522000"/>
          </a:xfrm>
        </p:grpSpPr>
        <p:sp>
          <p:nvSpPr>
            <p:cNvPr id="259" name="未知"/>
            <p:cNvSpPr/>
            <p:nvPr/>
          </p:nvSpPr>
          <p:spPr>
            <a:xfrm>
              <a:off x="95400" y="4122720"/>
              <a:ext cx="513720" cy="522000"/>
            </a:xfrm>
            <a:custGeom>
              <a:avLst/>
              <a:gdLst/>
              <a:ahLst/>
              <a:rect l="l" t="t" r="r" b="b"/>
              <a:pathLst>
                <a:path w="21600" h="21600">
                  <a:moveTo>
                    <a:pt x="21600" y="10720"/>
                  </a:moveTo>
                  <a:lnTo>
                    <a:pt x="21600" y="10720"/>
                  </a:lnTo>
                  <a:lnTo>
                    <a:pt x="21600" y="11667"/>
                  </a:lnTo>
                  <a:lnTo>
                    <a:pt x="21279" y="12928"/>
                  </a:lnTo>
                  <a:lnTo>
                    <a:pt x="21119" y="13874"/>
                  </a:lnTo>
                  <a:lnTo>
                    <a:pt x="20639" y="14977"/>
                  </a:lnTo>
                  <a:lnTo>
                    <a:pt x="20159" y="15923"/>
                  </a:lnTo>
                  <a:lnTo>
                    <a:pt x="19679" y="16712"/>
                  </a:lnTo>
                  <a:lnTo>
                    <a:pt x="19039" y="17500"/>
                  </a:lnTo>
                  <a:lnTo>
                    <a:pt x="18399" y="18288"/>
                  </a:lnTo>
                  <a:lnTo>
                    <a:pt x="17599" y="19077"/>
                  </a:lnTo>
                  <a:lnTo>
                    <a:pt x="16639" y="19707"/>
                  </a:lnTo>
                  <a:lnTo>
                    <a:pt x="15999" y="20180"/>
                  </a:lnTo>
                  <a:lnTo>
                    <a:pt x="14879" y="20653"/>
                  </a:lnTo>
                  <a:lnTo>
                    <a:pt x="13919" y="21126"/>
                  </a:lnTo>
                  <a:lnTo>
                    <a:pt x="12959" y="21284"/>
                  </a:lnTo>
                  <a:lnTo>
                    <a:pt x="11839" y="21600"/>
                  </a:lnTo>
                  <a:lnTo>
                    <a:pt x="10719" y="21600"/>
                  </a:lnTo>
                  <a:lnTo>
                    <a:pt x="10719" y="21600"/>
                  </a:lnTo>
                  <a:lnTo>
                    <a:pt x="9599" y="21600"/>
                  </a:lnTo>
                  <a:lnTo>
                    <a:pt x="8639" y="21284"/>
                  </a:lnTo>
                  <a:lnTo>
                    <a:pt x="7519" y="21126"/>
                  </a:lnTo>
                  <a:lnTo>
                    <a:pt x="6559" y="20653"/>
                  </a:lnTo>
                  <a:lnTo>
                    <a:pt x="5599" y="20180"/>
                  </a:lnTo>
                  <a:lnTo>
                    <a:pt x="4639" y="19707"/>
                  </a:lnTo>
                  <a:lnTo>
                    <a:pt x="3839" y="19077"/>
                  </a:lnTo>
                  <a:lnTo>
                    <a:pt x="3039" y="18288"/>
                  </a:lnTo>
                  <a:lnTo>
                    <a:pt x="2399" y="17500"/>
                  </a:lnTo>
                  <a:lnTo>
                    <a:pt x="1759" y="16712"/>
                  </a:lnTo>
                  <a:lnTo>
                    <a:pt x="1279" y="15923"/>
                  </a:lnTo>
                  <a:lnTo>
                    <a:pt x="799" y="14977"/>
                  </a:lnTo>
                  <a:lnTo>
                    <a:pt x="479" y="13874"/>
                  </a:lnTo>
                  <a:lnTo>
                    <a:pt x="159" y="12928"/>
                  </a:lnTo>
                  <a:lnTo>
                    <a:pt x="0" y="11667"/>
                  </a:lnTo>
                  <a:lnTo>
                    <a:pt x="0" y="10720"/>
                  </a:lnTo>
                  <a:lnTo>
                    <a:pt x="0" y="10720"/>
                  </a:lnTo>
                  <a:lnTo>
                    <a:pt x="0" y="9617"/>
                  </a:lnTo>
                  <a:lnTo>
                    <a:pt x="159" y="8513"/>
                  </a:lnTo>
                  <a:lnTo>
                    <a:pt x="479" y="7567"/>
                  </a:lnTo>
                  <a:lnTo>
                    <a:pt x="799" y="6463"/>
                  </a:lnTo>
                  <a:lnTo>
                    <a:pt x="1279" y="5675"/>
                  </a:lnTo>
                  <a:lnTo>
                    <a:pt x="1759" y="4572"/>
                  </a:lnTo>
                  <a:lnTo>
                    <a:pt x="2399" y="3783"/>
                  </a:lnTo>
                  <a:lnTo>
                    <a:pt x="3039" y="2995"/>
                  </a:lnTo>
                  <a:lnTo>
                    <a:pt x="3839" y="2364"/>
                  </a:lnTo>
                  <a:lnTo>
                    <a:pt x="4639" y="1734"/>
                  </a:lnTo>
                  <a:lnTo>
                    <a:pt x="5599" y="1261"/>
                  </a:lnTo>
                  <a:lnTo>
                    <a:pt x="6559" y="630"/>
                  </a:lnTo>
                  <a:lnTo>
                    <a:pt x="7519" y="315"/>
                  </a:lnTo>
                  <a:lnTo>
                    <a:pt x="8639" y="157"/>
                  </a:lnTo>
                  <a:lnTo>
                    <a:pt x="9599" y="0"/>
                  </a:lnTo>
                  <a:lnTo>
                    <a:pt x="10719" y="0"/>
                  </a:lnTo>
                  <a:lnTo>
                    <a:pt x="10719" y="0"/>
                  </a:lnTo>
                  <a:lnTo>
                    <a:pt x="11839" y="0"/>
                  </a:lnTo>
                  <a:lnTo>
                    <a:pt x="12959" y="157"/>
                  </a:lnTo>
                  <a:lnTo>
                    <a:pt x="13919" y="315"/>
                  </a:lnTo>
                  <a:lnTo>
                    <a:pt x="14879" y="630"/>
                  </a:lnTo>
                  <a:lnTo>
                    <a:pt x="15999" y="1261"/>
                  </a:lnTo>
                  <a:lnTo>
                    <a:pt x="16639" y="1734"/>
                  </a:lnTo>
                  <a:lnTo>
                    <a:pt x="17599" y="2364"/>
                  </a:lnTo>
                  <a:lnTo>
                    <a:pt x="18399" y="2995"/>
                  </a:lnTo>
                  <a:lnTo>
                    <a:pt x="19039" y="3783"/>
                  </a:lnTo>
                  <a:lnTo>
                    <a:pt x="19679" y="4572"/>
                  </a:lnTo>
                  <a:lnTo>
                    <a:pt x="20159" y="5675"/>
                  </a:lnTo>
                  <a:lnTo>
                    <a:pt x="20639" y="6463"/>
                  </a:lnTo>
                  <a:lnTo>
                    <a:pt x="21119" y="7567"/>
                  </a:lnTo>
                  <a:lnTo>
                    <a:pt x="21279" y="8513"/>
                  </a:lnTo>
                  <a:lnTo>
                    <a:pt x="21600" y="9617"/>
                  </a:lnTo>
                  <a:lnTo>
                    <a:pt x="21600" y="10720"/>
                  </a:lnTo>
                  <a:lnTo>
                    <a:pt x="21600" y="1072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60" name="未知"/>
            <p:cNvSpPr/>
            <p:nvPr/>
          </p:nvSpPr>
          <p:spPr>
            <a:xfrm>
              <a:off x="197640" y="4224960"/>
              <a:ext cx="330840" cy="335880"/>
            </a:xfrm>
            <a:custGeom>
              <a:avLst/>
              <a:gdLst/>
              <a:ahLst/>
              <a:rect l="l" t="t" r="r" b="b"/>
              <a:pathLst>
                <a:path w="21600" h="21600">
                  <a:moveTo>
                    <a:pt x="21600" y="10800"/>
                  </a:moveTo>
                  <a:lnTo>
                    <a:pt x="21600" y="10800"/>
                  </a:lnTo>
                  <a:lnTo>
                    <a:pt x="21600" y="12027"/>
                  </a:lnTo>
                  <a:lnTo>
                    <a:pt x="21351" y="12763"/>
                  </a:lnTo>
                  <a:lnTo>
                    <a:pt x="21103" y="13990"/>
                  </a:lnTo>
                  <a:lnTo>
                    <a:pt x="20606" y="14972"/>
                  </a:lnTo>
                  <a:lnTo>
                    <a:pt x="20110" y="15954"/>
                  </a:lnTo>
                  <a:lnTo>
                    <a:pt x="19613" y="16690"/>
                  </a:lnTo>
                  <a:lnTo>
                    <a:pt x="18868" y="17672"/>
                  </a:lnTo>
                  <a:lnTo>
                    <a:pt x="18372" y="18408"/>
                  </a:lnTo>
                  <a:lnTo>
                    <a:pt x="17627" y="19145"/>
                  </a:lnTo>
                  <a:lnTo>
                    <a:pt x="16882" y="19881"/>
                  </a:lnTo>
                  <a:lnTo>
                    <a:pt x="15889" y="20127"/>
                  </a:lnTo>
                  <a:lnTo>
                    <a:pt x="14896" y="20618"/>
                  </a:lnTo>
                  <a:lnTo>
                    <a:pt x="13903" y="21108"/>
                  </a:lnTo>
                  <a:lnTo>
                    <a:pt x="12910" y="21354"/>
                  </a:lnTo>
                  <a:lnTo>
                    <a:pt x="11668" y="21600"/>
                  </a:lnTo>
                  <a:lnTo>
                    <a:pt x="10675" y="21600"/>
                  </a:lnTo>
                  <a:lnTo>
                    <a:pt x="10675" y="21600"/>
                  </a:lnTo>
                  <a:lnTo>
                    <a:pt x="9682" y="21600"/>
                  </a:lnTo>
                  <a:lnTo>
                    <a:pt x="8689" y="21354"/>
                  </a:lnTo>
                  <a:lnTo>
                    <a:pt x="7448" y="21108"/>
                  </a:lnTo>
                  <a:lnTo>
                    <a:pt x="6455" y="20618"/>
                  </a:lnTo>
                  <a:lnTo>
                    <a:pt x="5710" y="20127"/>
                  </a:lnTo>
                  <a:lnTo>
                    <a:pt x="4717" y="19881"/>
                  </a:lnTo>
                  <a:lnTo>
                    <a:pt x="3724" y="19145"/>
                  </a:lnTo>
                  <a:lnTo>
                    <a:pt x="2979" y="18408"/>
                  </a:lnTo>
                  <a:lnTo>
                    <a:pt x="2234" y="17672"/>
                  </a:lnTo>
                  <a:lnTo>
                    <a:pt x="1489" y="16690"/>
                  </a:lnTo>
                  <a:lnTo>
                    <a:pt x="1241" y="15954"/>
                  </a:lnTo>
                  <a:lnTo>
                    <a:pt x="744" y="14972"/>
                  </a:lnTo>
                  <a:lnTo>
                    <a:pt x="496" y="13990"/>
                  </a:lnTo>
                  <a:lnTo>
                    <a:pt x="248" y="12763"/>
                  </a:lnTo>
                  <a:lnTo>
                    <a:pt x="0" y="12027"/>
                  </a:lnTo>
                  <a:lnTo>
                    <a:pt x="0" y="10800"/>
                  </a:lnTo>
                  <a:lnTo>
                    <a:pt x="0" y="10800"/>
                  </a:lnTo>
                  <a:lnTo>
                    <a:pt x="0" y="9572"/>
                  </a:lnTo>
                  <a:lnTo>
                    <a:pt x="248" y="8590"/>
                  </a:lnTo>
                  <a:lnTo>
                    <a:pt x="496" y="7608"/>
                  </a:lnTo>
                  <a:lnTo>
                    <a:pt x="744" y="6381"/>
                  </a:lnTo>
                  <a:lnTo>
                    <a:pt x="1241" y="5645"/>
                  </a:lnTo>
                  <a:lnTo>
                    <a:pt x="1489" y="4663"/>
                  </a:lnTo>
                  <a:lnTo>
                    <a:pt x="2234" y="3681"/>
                  </a:lnTo>
                  <a:lnTo>
                    <a:pt x="2979" y="3190"/>
                  </a:lnTo>
                  <a:lnTo>
                    <a:pt x="3724" y="2208"/>
                  </a:lnTo>
                  <a:lnTo>
                    <a:pt x="4717" y="1718"/>
                  </a:lnTo>
                  <a:lnTo>
                    <a:pt x="5710" y="1227"/>
                  </a:lnTo>
                  <a:lnTo>
                    <a:pt x="6455" y="736"/>
                  </a:lnTo>
                  <a:lnTo>
                    <a:pt x="7448" y="490"/>
                  </a:lnTo>
                  <a:lnTo>
                    <a:pt x="8689" y="245"/>
                  </a:lnTo>
                  <a:lnTo>
                    <a:pt x="9682" y="0"/>
                  </a:lnTo>
                  <a:lnTo>
                    <a:pt x="10675" y="0"/>
                  </a:lnTo>
                  <a:lnTo>
                    <a:pt x="10675" y="0"/>
                  </a:lnTo>
                  <a:lnTo>
                    <a:pt x="11668" y="0"/>
                  </a:lnTo>
                  <a:lnTo>
                    <a:pt x="12910" y="245"/>
                  </a:lnTo>
                  <a:lnTo>
                    <a:pt x="13903" y="490"/>
                  </a:lnTo>
                  <a:lnTo>
                    <a:pt x="14896" y="736"/>
                  </a:lnTo>
                  <a:lnTo>
                    <a:pt x="15889" y="1227"/>
                  </a:lnTo>
                  <a:lnTo>
                    <a:pt x="16882" y="1718"/>
                  </a:lnTo>
                  <a:lnTo>
                    <a:pt x="17627" y="2208"/>
                  </a:lnTo>
                  <a:lnTo>
                    <a:pt x="18372" y="3190"/>
                  </a:lnTo>
                  <a:lnTo>
                    <a:pt x="18868" y="3681"/>
                  </a:lnTo>
                  <a:lnTo>
                    <a:pt x="19613" y="4663"/>
                  </a:lnTo>
                  <a:lnTo>
                    <a:pt x="20110" y="5645"/>
                  </a:lnTo>
                  <a:lnTo>
                    <a:pt x="20606" y="6381"/>
                  </a:lnTo>
                  <a:lnTo>
                    <a:pt x="21103" y="7608"/>
                  </a:lnTo>
                  <a:lnTo>
                    <a:pt x="21351" y="8590"/>
                  </a:lnTo>
                  <a:lnTo>
                    <a:pt x="21600" y="9572"/>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sp>
        <p:nvSpPr>
          <p:cNvPr id="261" name="PlaceHolder 1"/>
          <p:cNvSpPr>
            <a:spLocks noGrp="1"/>
          </p:cNvSpPr>
          <p:nvPr>
            <p:ph type="title"/>
          </p:nvPr>
        </p:nvSpPr>
        <p:spPr>
          <a:xfrm>
            <a:off x="1260000" y="274320"/>
            <a:ext cx="758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Click to edit the title text format</a:t>
            </a:r>
            <a:endParaRPr b="1" lang="en-US" sz="4400" spc="-1" strike="noStrike">
              <a:solidFill>
                <a:srgbClr val="666699"/>
              </a:solidFill>
              <a:latin typeface="Arial"/>
            </a:endParaRPr>
          </a:p>
        </p:txBody>
      </p:sp>
      <p:sp>
        <p:nvSpPr>
          <p:cNvPr id="262" name="PlaceHolder 2"/>
          <p:cNvSpPr>
            <a:spLocks noGrp="1"/>
          </p:cNvSpPr>
          <p:nvPr>
            <p:ph type="dt" idx="13"/>
          </p:nvPr>
        </p:nvSpPr>
        <p:spPr>
          <a:xfrm>
            <a:off x="456840" y="6244920"/>
            <a:ext cx="2133720" cy="47628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3" name="PlaceHolder 3"/>
          <p:cNvSpPr>
            <a:spLocks noGrp="1"/>
          </p:cNvSpPr>
          <p:nvPr>
            <p:ph type="ftr" idx="14"/>
          </p:nvPr>
        </p:nvSpPr>
        <p:spPr>
          <a:xfrm>
            <a:off x="3124080" y="6244920"/>
            <a:ext cx="2895840" cy="47628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4" name="PlaceHolder 4"/>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1CD2-AFC6-4922-86BF-9163511DA77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5" name="PlaceHolder 5"/>
          <p:cNvSpPr>
            <a:spLocks noGrp="1"/>
          </p:cNvSpPr>
          <p:nvPr>
            <p:ph type="body"/>
          </p:nvPr>
        </p:nvSpPr>
        <p:spPr>
          <a:xfrm>
            <a:off x="1246320" y="1600200"/>
            <a:ext cx="7440480" cy="45259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未知"/>
          <p:cNvSpPr/>
          <p:nvPr/>
        </p:nvSpPr>
        <p:spPr>
          <a:xfrm>
            <a:off x="282600" y="3254400"/>
            <a:ext cx="272880" cy="1674720"/>
          </a:xfrm>
          <a:custGeom>
            <a:avLst/>
            <a:gdLst/>
            <a:ahLst/>
            <a:rect l="l" t="t" r="r" b="b"/>
            <a:pathLst>
              <a:path w="21600" h="21600">
                <a:moveTo>
                  <a:pt x="12299" y="17819"/>
                </a:moveTo>
                <a:lnTo>
                  <a:pt x="12299" y="17819"/>
                </a:lnTo>
                <a:lnTo>
                  <a:pt x="21600" y="21600"/>
                </a:lnTo>
                <a:lnTo>
                  <a:pt x="21600" y="21600"/>
                </a:lnTo>
                <a:lnTo>
                  <a:pt x="19499" y="20176"/>
                </a:lnTo>
                <a:lnTo>
                  <a:pt x="17399" y="18752"/>
                </a:lnTo>
                <a:lnTo>
                  <a:pt x="14999" y="17181"/>
                </a:lnTo>
                <a:lnTo>
                  <a:pt x="13199" y="15512"/>
                </a:lnTo>
                <a:lnTo>
                  <a:pt x="11099" y="13696"/>
                </a:lnTo>
                <a:lnTo>
                  <a:pt x="10199" y="11732"/>
                </a:lnTo>
                <a:lnTo>
                  <a:pt x="8999" y="9769"/>
                </a:lnTo>
                <a:lnTo>
                  <a:pt x="8399" y="8639"/>
                </a:lnTo>
                <a:lnTo>
                  <a:pt x="7799" y="7510"/>
                </a:lnTo>
                <a:lnTo>
                  <a:pt x="7799" y="7510"/>
                </a:lnTo>
                <a:lnTo>
                  <a:pt x="7499" y="6479"/>
                </a:lnTo>
                <a:lnTo>
                  <a:pt x="7199" y="5400"/>
                </a:lnTo>
                <a:lnTo>
                  <a:pt x="6899" y="4418"/>
                </a:lnTo>
                <a:lnTo>
                  <a:pt x="6899" y="3436"/>
                </a:lnTo>
                <a:lnTo>
                  <a:pt x="6899" y="2503"/>
                </a:lnTo>
                <a:lnTo>
                  <a:pt x="7199" y="1619"/>
                </a:lnTo>
                <a:lnTo>
                  <a:pt x="7499" y="785"/>
                </a:lnTo>
                <a:lnTo>
                  <a:pt x="7799" y="0"/>
                </a:lnTo>
                <a:lnTo>
                  <a:pt x="7799" y="0"/>
                </a:lnTo>
                <a:lnTo>
                  <a:pt x="5999" y="1177"/>
                </a:lnTo>
                <a:lnTo>
                  <a:pt x="4199" y="2307"/>
                </a:lnTo>
                <a:lnTo>
                  <a:pt x="2999" y="3436"/>
                </a:lnTo>
                <a:lnTo>
                  <a:pt x="1799" y="4516"/>
                </a:lnTo>
                <a:lnTo>
                  <a:pt x="899" y="5645"/>
                </a:lnTo>
                <a:lnTo>
                  <a:pt x="299" y="6725"/>
                </a:lnTo>
                <a:lnTo>
                  <a:pt x="0" y="7756"/>
                </a:lnTo>
                <a:lnTo>
                  <a:pt x="0" y="8836"/>
                </a:lnTo>
                <a:lnTo>
                  <a:pt x="299" y="9867"/>
                </a:lnTo>
                <a:lnTo>
                  <a:pt x="899" y="10897"/>
                </a:lnTo>
                <a:lnTo>
                  <a:pt x="1799" y="12027"/>
                </a:lnTo>
                <a:lnTo>
                  <a:pt x="3299" y="13107"/>
                </a:lnTo>
                <a:lnTo>
                  <a:pt x="5099" y="14236"/>
                </a:lnTo>
                <a:lnTo>
                  <a:pt x="7199" y="15414"/>
                </a:lnTo>
                <a:lnTo>
                  <a:pt x="9899" y="16543"/>
                </a:lnTo>
                <a:lnTo>
                  <a:pt x="12299" y="17819"/>
                </a:lnTo>
                <a:lnTo>
                  <a:pt x="12299" y="17819"/>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303" name=""/>
          <p:cNvGrpSpPr/>
          <p:nvPr/>
        </p:nvGrpSpPr>
        <p:grpSpPr>
          <a:xfrm>
            <a:off x="709560" y="4525920"/>
            <a:ext cx="1877760" cy="1877760"/>
            <a:chOff x="709560" y="4525920"/>
            <a:chExt cx="1877760" cy="1877760"/>
          </a:xfrm>
        </p:grpSpPr>
        <p:sp>
          <p:nvSpPr>
            <p:cNvPr id="304" name="未知"/>
            <p:cNvSpPr/>
            <p:nvPr/>
          </p:nvSpPr>
          <p:spPr>
            <a:xfrm>
              <a:off x="709560" y="4525920"/>
              <a:ext cx="1877760" cy="1877760"/>
            </a:xfrm>
            <a:custGeom>
              <a:avLst/>
              <a:gdLst/>
              <a:ahLst/>
              <a:rect l="l" t="t" r="r" b="b"/>
              <a:pathLst>
                <a:path w="21600" h="21600">
                  <a:moveTo>
                    <a:pt x="21600" y="10821"/>
                  </a:moveTo>
                  <a:lnTo>
                    <a:pt x="21600" y="10821"/>
                  </a:lnTo>
                  <a:lnTo>
                    <a:pt x="21556" y="11391"/>
                  </a:lnTo>
                  <a:lnTo>
                    <a:pt x="21556" y="11916"/>
                  </a:lnTo>
                  <a:lnTo>
                    <a:pt x="21468" y="12399"/>
                  </a:lnTo>
                  <a:lnTo>
                    <a:pt x="21380" y="12968"/>
                  </a:lnTo>
                  <a:lnTo>
                    <a:pt x="21249" y="13494"/>
                  </a:lnTo>
                  <a:lnTo>
                    <a:pt x="21073" y="13976"/>
                  </a:lnTo>
                  <a:lnTo>
                    <a:pt x="20942" y="14501"/>
                  </a:lnTo>
                  <a:lnTo>
                    <a:pt x="20723" y="15027"/>
                  </a:lnTo>
                  <a:lnTo>
                    <a:pt x="20548" y="15466"/>
                  </a:lnTo>
                  <a:lnTo>
                    <a:pt x="20285" y="15947"/>
                  </a:lnTo>
                  <a:lnTo>
                    <a:pt x="20066" y="16385"/>
                  </a:lnTo>
                  <a:lnTo>
                    <a:pt x="19759" y="16824"/>
                  </a:lnTo>
                  <a:lnTo>
                    <a:pt x="19409" y="17262"/>
                  </a:lnTo>
                  <a:lnTo>
                    <a:pt x="19146" y="17656"/>
                  </a:lnTo>
                  <a:lnTo>
                    <a:pt x="18795" y="18050"/>
                  </a:lnTo>
                  <a:lnTo>
                    <a:pt x="18445" y="18445"/>
                  </a:lnTo>
                  <a:lnTo>
                    <a:pt x="18050" y="18795"/>
                  </a:lnTo>
                  <a:lnTo>
                    <a:pt x="17656" y="19102"/>
                  </a:lnTo>
                  <a:lnTo>
                    <a:pt x="17262" y="19453"/>
                  </a:lnTo>
                  <a:lnTo>
                    <a:pt x="16824" y="19759"/>
                  </a:lnTo>
                  <a:lnTo>
                    <a:pt x="16342" y="20022"/>
                  </a:lnTo>
                  <a:lnTo>
                    <a:pt x="15947" y="20329"/>
                  </a:lnTo>
                  <a:lnTo>
                    <a:pt x="15466" y="20548"/>
                  </a:lnTo>
                  <a:lnTo>
                    <a:pt x="14984" y="20723"/>
                  </a:lnTo>
                  <a:lnTo>
                    <a:pt x="14501" y="20942"/>
                  </a:lnTo>
                  <a:lnTo>
                    <a:pt x="14020" y="21117"/>
                  </a:lnTo>
                  <a:lnTo>
                    <a:pt x="13494" y="21293"/>
                  </a:lnTo>
                  <a:lnTo>
                    <a:pt x="12968" y="21336"/>
                  </a:lnTo>
                  <a:lnTo>
                    <a:pt x="12442" y="21468"/>
                  </a:lnTo>
                  <a:lnTo>
                    <a:pt x="11873" y="21556"/>
                  </a:lnTo>
                  <a:lnTo>
                    <a:pt x="11347" y="21600"/>
                  </a:lnTo>
                  <a:lnTo>
                    <a:pt x="10821" y="21600"/>
                  </a:lnTo>
                  <a:lnTo>
                    <a:pt x="10821" y="21600"/>
                  </a:lnTo>
                  <a:lnTo>
                    <a:pt x="10208" y="21600"/>
                  </a:lnTo>
                  <a:lnTo>
                    <a:pt x="9638" y="21556"/>
                  </a:lnTo>
                  <a:lnTo>
                    <a:pt x="9156" y="21468"/>
                  </a:lnTo>
                  <a:lnTo>
                    <a:pt x="8630" y="21336"/>
                  </a:lnTo>
                  <a:lnTo>
                    <a:pt x="8105" y="21293"/>
                  </a:lnTo>
                  <a:lnTo>
                    <a:pt x="7579" y="21117"/>
                  </a:lnTo>
                  <a:lnTo>
                    <a:pt x="7097" y="20942"/>
                  </a:lnTo>
                  <a:lnTo>
                    <a:pt x="6571" y="20723"/>
                  </a:lnTo>
                  <a:lnTo>
                    <a:pt x="6089" y="20548"/>
                  </a:lnTo>
                  <a:lnTo>
                    <a:pt x="5651" y="20329"/>
                  </a:lnTo>
                  <a:lnTo>
                    <a:pt x="5169" y="20022"/>
                  </a:lnTo>
                  <a:lnTo>
                    <a:pt x="4731" y="19759"/>
                  </a:lnTo>
                  <a:lnTo>
                    <a:pt x="4337" y="19453"/>
                  </a:lnTo>
                  <a:lnTo>
                    <a:pt x="3899" y="19102"/>
                  </a:lnTo>
                  <a:lnTo>
                    <a:pt x="3548" y="18795"/>
                  </a:lnTo>
                  <a:lnTo>
                    <a:pt x="3110" y="18445"/>
                  </a:lnTo>
                  <a:lnTo>
                    <a:pt x="2803" y="18050"/>
                  </a:lnTo>
                  <a:lnTo>
                    <a:pt x="2453" y="17656"/>
                  </a:lnTo>
                  <a:lnTo>
                    <a:pt x="2190" y="17262"/>
                  </a:lnTo>
                  <a:lnTo>
                    <a:pt x="1840" y="16824"/>
                  </a:lnTo>
                  <a:lnTo>
                    <a:pt x="1533" y="16385"/>
                  </a:lnTo>
                  <a:lnTo>
                    <a:pt x="1270" y="15947"/>
                  </a:lnTo>
                  <a:lnTo>
                    <a:pt x="1051" y="15466"/>
                  </a:lnTo>
                  <a:lnTo>
                    <a:pt x="832" y="15027"/>
                  </a:lnTo>
                  <a:lnTo>
                    <a:pt x="656" y="14501"/>
                  </a:lnTo>
                  <a:lnTo>
                    <a:pt x="481" y="13976"/>
                  </a:lnTo>
                  <a:lnTo>
                    <a:pt x="306" y="13494"/>
                  </a:lnTo>
                  <a:lnTo>
                    <a:pt x="218" y="12968"/>
                  </a:lnTo>
                  <a:lnTo>
                    <a:pt x="87" y="12399"/>
                  </a:lnTo>
                  <a:lnTo>
                    <a:pt x="0" y="11916"/>
                  </a:lnTo>
                  <a:lnTo>
                    <a:pt x="0" y="11391"/>
                  </a:lnTo>
                  <a:lnTo>
                    <a:pt x="0" y="10821"/>
                  </a:lnTo>
                  <a:lnTo>
                    <a:pt x="0" y="10821"/>
                  </a:lnTo>
                  <a:lnTo>
                    <a:pt x="0" y="10208"/>
                  </a:lnTo>
                  <a:lnTo>
                    <a:pt x="0" y="9682"/>
                  </a:lnTo>
                  <a:lnTo>
                    <a:pt x="87" y="9156"/>
                  </a:lnTo>
                  <a:lnTo>
                    <a:pt x="218" y="8630"/>
                  </a:lnTo>
                  <a:lnTo>
                    <a:pt x="306" y="8061"/>
                  </a:lnTo>
                  <a:lnTo>
                    <a:pt x="481" y="7579"/>
                  </a:lnTo>
                  <a:lnTo>
                    <a:pt x="656" y="7097"/>
                  </a:lnTo>
                  <a:lnTo>
                    <a:pt x="832" y="6571"/>
                  </a:lnTo>
                  <a:lnTo>
                    <a:pt x="1051" y="6133"/>
                  </a:lnTo>
                  <a:lnTo>
                    <a:pt x="1270" y="5651"/>
                  </a:lnTo>
                  <a:lnTo>
                    <a:pt x="1533" y="5213"/>
                  </a:lnTo>
                  <a:lnTo>
                    <a:pt x="1840" y="4775"/>
                  </a:lnTo>
                  <a:lnTo>
                    <a:pt x="2190" y="4293"/>
                  </a:lnTo>
                  <a:lnTo>
                    <a:pt x="2453" y="3942"/>
                  </a:lnTo>
                  <a:lnTo>
                    <a:pt x="2803" y="3504"/>
                  </a:lnTo>
                  <a:lnTo>
                    <a:pt x="3110" y="3154"/>
                  </a:lnTo>
                  <a:lnTo>
                    <a:pt x="3548" y="2759"/>
                  </a:lnTo>
                  <a:lnTo>
                    <a:pt x="3899" y="2453"/>
                  </a:lnTo>
                  <a:lnTo>
                    <a:pt x="4337" y="2146"/>
                  </a:lnTo>
                  <a:lnTo>
                    <a:pt x="4731" y="1840"/>
                  </a:lnTo>
                  <a:lnTo>
                    <a:pt x="5169" y="1533"/>
                  </a:lnTo>
                  <a:lnTo>
                    <a:pt x="5651" y="1270"/>
                  </a:lnTo>
                  <a:lnTo>
                    <a:pt x="6089" y="1095"/>
                  </a:lnTo>
                  <a:lnTo>
                    <a:pt x="6571" y="876"/>
                  </a:lnTo>
                  <a:lnTo>
                    <a:pt x="7097" y="613"/>
                  </a:lnTo>
                  <a:lnTo>
                    <a:pt x="7579" y="481"/>
                  </a:lnTo>
                  <a:lnTo>
                    <a:pt x="8105" y="350"/>
                  </a:lnTo>
                  <a:lnTo>
                    <a:pt x="8630" y="218"/>
                  </a:lnTo>
                  <a:lnTo>
                    <a:pt x="9156" y="131"/>
                  </a:lnTo>
                  <a:lnTo>
                    <a:pt x="9638" y="43"/>
                  </a:lnTo>
                  <a:lnTo>
                    <a:pt x="10208" y="0"/>
                  </a:lnTo>
                  <a:lnTo>
                    <a:pt x="10821" y="0"/>
                  </a:lnTo>
                  <a:lnTo>
                    <a:pt x="10821" y="0"/>
                  </a:lnTo>
                  <a:lnTo>
                    <a:pt x="11347" y="0"/>
                  </a:lnTo>
                  <a:lnTo>
                    <a:pt x="11873" y="43"/>
                  </a:lnTo>
                  <a:lnTo>
                    <a:pt x="12442" y="131"/>
                  </a:lnTo>
                  <a:lnTo>
                    <a:pt x="12968" y="218"/>
                  </a:lnTo>
                  <a:lnTo>
                    <a:pt x="13494" y="350"/>
                  </a:lnTo>
                  <a:lnTo>
                    <a:pt x="14020" y="481"/>
                  </a:lnTo>
                  <a:lnTo>
                    <a:pt x="14501" y="613"/>
                  </a:lnTo>
                  <a:lnTo>
                    <a:pt x="14984" y="876"/>
                  </a:lnTo>
                  <a:lnTo>
                    <a:pt x="15466" y="1095"/>
                  </a:lnTo>
                  <a:lnTo>
                    <a:pt x="15947" y="1270"/>
                  </a:lnTo>
                  <a:lnTo>
                    <a:pt x="16342" y="1533"/>
                  </a:lnTo>
                  <a:lnTo>
                    <a:pt x="16824" y="1840"/>
                  </a:lnTo>
                  <a:lnTo>
                    <a:pt x="17262" y="2146"/>
                  </a:lnTo>
                  <a:lnTo>
                    <a:pt x="17656" y="2453"/>
                  </a:lnTo>
                  <a:lnTo>
                    <a:pt x="18050" y="2759"/>
                  </a:lnTo>
                  <a:lnTo>
                    <a:pt x="18445" y="3154"/>
                  </a:lnTo>
                  <a:lnTo>
                    <a:pt x="18795" y="3504"/>
                  </a:lnTo>
                  <a:lnTo>
                    <a:pt x="19146" y="3942"/>
                  </a:lnTo>
                  <a:lnTo>
                    <a:pt x="19409" y="4293"/>
                  </a:lnTo>
                  <a:lnTo>
                    <a:pt x="19759" y="4775"/>
                  </a:lnTo>
                  <a:lnTo>
                    <a:pt x="20066" y="5213"/>
                  </a:lnTo>
                  <a:lnTo>
                    <a:pt x="20285" y="5651"/>
                  </a:lnTo>
                  <a:lnTo>
                    <a:pt x="20548" y="6133"/>
                  </a:lnTo>
                  <a:lnTo>
                    <a:pt x="20723" y="6571"/>
                  </a:lnTo>
                  <a:lnTo>
                    <a:pt x="20942" y="7097"/>
                  </a:lnTo>
                  <a:lnTo>
                    <a:pt x="21073" y="7579"/>
                  </a:lnTo>
                  <a:lnTo>
                    <a:pt x="21249" y="8061"/>
                  </a:lnTo>
                  <a:lnTo>
                    <a:pt x="21380" y="8630"/>
                  </a:lnTo>
                  <a:lnTo>
                    <a:pt x="21468" y="9156"/>
                  </a:lnTo>
                  <a:lnTo>
                    <a:pt x="21556" y="9682"/>
                  </a:lnTo>
                  <a:lnTo>
                    <a:pt x="21556" y="10208"/>
                  </a:lnTo>
                  <a:lnTo>
                    <a:pt x="21600" y="10821"/>
                  </a:lnTo>
                  <a:lnTo>
                    <a:pt x="21600" y="10821"/>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05" name="未知"/>
            <p:cNvSpPr/>
            <p:nvPr/>
          </p:nvSpPr>
          <p:spPr>
            <a:xfrm>
              <a:off x="941400" y="4766040"/>
              <a:ext cx="1402560" cy="1397160"/>
            </a:xfrm>
            <a:custGeom>
              <a:avLst/>
              <a:gdLst/>
              <a:ahLst/>
              <a:rect l="l" t="t" r="r" b="b"/>
              <a:pathLst>
                <a:path w="21600" h="21600">
                  <a:moveTo>
                    <a:pt x="21600" y="10770"/>
                  </a:moveTo>
                  <a:lnTo>
                    <a:pt x="21600" y="10770"/>
                  </a:lnTo>
                  <a:lnTo>
                    <a:pt x="21600" y="11888"/>
                  </a:lnTo>
                  <a:lnTo>
                    <a:pt x="21423" y="13006"/>
                  </a:lnTo>
                  <a:lnTo>
                    <a:pt x="21189" y="14007"/>
                  </a:lnTo>
                  <a:lnTo>
                    <a:pt x="20778" y="15007"/>
                  </a:lnTo>
                  <a:lnTo>
                    <a:pt x="20367" y="15949"/>
                  </a:lnTo>
                  <a:lnTo>
                    <a:pt x="19780" y="16832"/>
                  </a:lnTo>
                  <a:lnTo>
                    <a:pt x="19134" y="17656"/>
                  </a:lnTo>
                  <a:lnTo>
                    <a:pt x="18430" y="18421"/>
                  </a:lnTo>
                  <a:lnTo>
                    <a:pt x="17667" y="19127"/>
                  </a:lnTo>
                  <a:lnTo>
                    <a:pt x="16845" y="19775"/>
                  </a:lnTo>
                  <a:lnTo>
                    <a:pt x="15965" y="20305"/>
                  </a:lnTo>
                  <a:lnTo>
                    <a:pt x="15026" y="20775"/>
                  </a:lnTo>
                  <a:lnTo>
                    <a:pt x="14086" y="21129"/>
                  </a:lnTo>
                  <a:lnTo>
                    <a:pt x="12971" y="21364"/>
                  </a:lnTo>
                  <a:lnTo>
                    <a:pt x="11915" y="21600"/>
                  </a:lnTo>
                  <a:lnTo>
                    <a:pt x="10800" y="21600"/>
                  </a:lnTo>
                  <a:lnTo>
                    <a:pt x="10800" y="21600"/>
                  </a:lnTo>
                  <a:lnTo>
                    <a:pt x="9684" y="21600"/>
                  </a:lnTo>
                  <a:lnTo>
                    <a:pt x="8628" y="21364"/>
                  </a:lnTo>
                  <a:lnTo>
                    <a:pt x="7571" y="21129"/>
                  </a:lnTo>
                  <a:lnTo>
                    <a:pt x="6632" y="20775"/>
                  </a:lnTo>
                  <a:lnTo>
                    <a:pt x="5634" y="20305"/>
                  </a:lnTo>
                  <a:lnTo>
                    <a:pt x="4754" y="19775"/>
                  </a:lnTo>
                  <a:lnTo>
                    <a:pt x="3932" y="19127"/>
                  </a:lnTo>
                  <a:lnTo>
                    <a:pt x="3169" y="18421"/>
                  </a:lnTo>
                  <a:lnTo>
                    <a:pt x="2523" y="17656"/>
                  </a:lnTo>
                  <a:lnTo>
                    <a:pt x="1819" y="16832"/>
                  </a:lnTo>
                  <a:lnTo>
                    <a:pt x="1291" y="15949"/>
                  </a:lnTo>
                  <a:lnTo>
                    <a:pt x="821" y="15007"/>
                  </a:lnTo>
                  <a:lnTo>
                    <a:pt x="469" y="14007"/>
                  </a:lnTo>
                  <a:lnTo>
                    <a:pt x="234" y="13006"/>
                  </a:lnTo>
                  <a:lnTo>
                    <a:pt x="58" y="11888"/>
                  </a:lnTo>
                  <a:lnTo>
                    <a:pt x="0" y="10770"/>
                  </a:lnTo>
                  <a:lnTo>
                    <a:pt x="0" y="10770"/>
                  </a:lnTo>
                  <a:lnTo>
                    <a:pt x="58" y="9711"/>
                  </a:lnTo>
                  <a:lnTo>
                    <a:pt x="234" y="8592"/>
                  </a:lnTo>
                  <a:lnTo>
                    <a:pt x="469" y="7592"/>
                  </a:lnTo>
                  <a:lnTo>
                    <a:pt x="821" y="6532"/>
                  </a:lnTo>
                  <a:lnTo>
                    <a:pt x="1291" y="5649"/>
                  </a:lnTo>
                  <a:lnTo>
                    <a:pt x="1819" y="4767"/>
                  </a:lnTo>
                  <a:lnTo>
                    <a:pt x="2523" y="3943"/>
                  </a:lnTo>
                  <a:lnTo>
                    <a:pt x="3169" y="3177"/>
                  </a:lnTo>
                  <a:lnTo>
                    <a:pt x="3932" y="2412"/>
                  </a:lnTo>
                  <a:lnTo>
                    <a:pt x="4754" y="1824"/>
                  </a:lnTo>
                  <a:lnTo>
                    <a:pt x="5634" y="1294"/>
                  </a:lnTo>
                  <a:lnTo>
                    <a:pt x="6632" y="764"/>
                  </a:lnTo>
                  <a:lnTo>
                    <a:pt x="7571" y="411"/>
                  </a:lnTo>
                  <a:lnTo>
                    <a:pt x="8628" y="176"/>
                  </a:lnTo>
                  <a:lnTo>
                    <a:pt x="9684" y="0"/>
                  </a:lnTo>
                  <a:lnTo>
                    <a:pt x="10800" y="0"/>
                  </a:lnTo>
                  <a:lnTo>
                    <a:pt x="10800" y="0"/>
                  </a:lnTo>
                  <a:lnTo>
                    <a:pt x="11915" y="0"/>
                  </a:lnTo>
                  <a:lnTo>
                    <a:pt x="12971" y="176"/>
                  </a:lnTo>
                  <a:lnTo>
                    <a:pt x="14086" y="411"/>
                  </a:lnTo>
                  <a:lnTo>
                    <a:pt x="15026" y="764"/>
                  </a:lnTo>
                  <a:lnTo>
                    <a:pt x="15965" y="1294"/>
                  </a:lnTo>
                  <a:lnTo>
                    <a:pt x="16845" y="1824"/>
                  </a:lnTo>
                  <a:lnTo>
                    <a:pt x="17667" y="2412"/>
                  </a:lnTo>
                  <a:lnTo>
                    <a:pt x="18430" y="3177"/>
                  </a:lnTo>
                  <a:lnTo>
                    <a:pt x="19134" y="3943"/>
                  </a:lnTo>
                  <a:lnTo>
                    <a:pt x="19780" y="4767"/>
                  </a:lnTo>
                  <a:lnTo>
                    <a:pt x="20367" y="5649"/>
                  </a:lnTo>
                  <a:lnTo>
                    <a:pt x="20778" y="6532"/>
                  </a:lnTo>
                  <a:lnTo>
                    <a:pt x="21189" y="7592"/>
                  </a:lnTo>
                  <a:lnTo>
                    <a:pt x="21423" y="8592"/>
                  </a:lnTo>
                  <a:lnTo>
                    <a:pt x="21600" y="9711"/>
                  </a:lnTo>
                  <a:lnTo>
                    <a:pt x="21600" y="10770"/>
                  </a:lnTo>
                  <a:lnTo>
                    <a:pt x="21600" y="1077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06" name="未知"/>
            <p:cNvSpPr/>
            <p:nvPr/>
          </p:nvSpPr>
          <p:spPr>
            <a:xfrm>
              <a:off x="1189800" y="5009400"/>
              <a:ext cx="913680" cy="913680"/>
            </a:xfrm>
            <a:custGeom>
              <a:avLst/>
              <a:gdLst/>
              <a:ahLst/>
              <a:rect l="l" t="t" r="r" b="b"/>
              <a:pathLst>
                <a:path w="21600" h="21600">
                  <a:moveTo>
                    <a:pt x="21600" y="10709"/>
                  </a:moveTo>
                  <a:lnTo>
                    <a:pt x="21600" y="10709"/>
                  </a:lnTo>
                  <a:lnTo>
                    <a:pt x="21600" y="11789"/>
                  </a:lnTo>
                  <a:lnTo>
                    <a:pt x="21329" y="12869"/>
                  </a:lnTo>
                  <a:lnTo>
                    <a:pt x="21059" y="13949"/>
                  </a:lnTo>
                  <a:lnTo>
                    <a:pt x="20789" y="14939"/>
                  </a:lnTo>
                  <a:lnTo>
                    <a:pt x="20250" y="15839"/>
                  </a:lnTo>
                  <a:lnTo>
                    <a:pt x="19709" y="16739"/>
                  </a:lnTo>
                  <a:lnTo>
                    <a:pt x="19079" y="17550"/>
                  </a:lnTo>
                  <a:lnTo>
                    <a:pt x="18359" y="18449"/>
                  </a:lnTo>
                  <a:lnTo>
                    <a:pt x="17729" y="18989"/>
                  </a:lnTo>
                  <a:lnTo>
                    <a:pt x="16829" y="19709"/>
                  </a:lnTo>
                  <a:lnTo>
                    <a:pt x="15929" y="20339"/>
                  </a:lnTo>
                  <a:lnTo>
                    <a:pt x="15029" y="20699"/>
                  </a:lnTo>
                  <a:lnTo>
                    <a:pt x="13949" y="21059"/>
                  </a:lnTo>
                  <a:lnTo>
                    <a:pt x="12959" y="21329"/>
                  </a:lnTo>
                  <a:lnTo>
                    <a:pt x="11879" y="21509"/>
                  </a:lnTo>
                  <a:lnTo>
                    <a:pt x="10709" y="21600"/>
                  </a:lnTo>
                  <a:lnTo>
                    <a:pt x="10709" y="21600"/>
                  </a:lnTo>
                  <a:lnTo>
                    <a:pt x="9629" y="21509"/>
                  </a:lnTo>
                  <a:lnTo>
                    <a:pt x="8639" y="21329"/>
                  </a:lnTo>
                  <a:lnTo>
                    <a:pt x="7559" y="21059"/>
                  </a:lnTo>
                  <a:lnTo>
                    <a:pt x="6479" y="20699"/>
                  </a:lnTo>
                  <a:lnTo>
                    <a:pt x="5669" y="20339"/>
                  </a:lnTo>
                  <a:lnTo>
                    <a:pt x="4769" y="19709"/>
                  </a:lnTo>
                  <a:lnTo>
                    <a:pt x="3869" y="18989"/>
                  </a:lnTo>
                  <a:lnTo>
                    <a:pt x="3149" y="18449"/>
                  </a:lnTo>
                  <a:lnTo>
                    <a:pt x="2429" y="17550"/>
                  </a:lnTo>
                  <a:lnTo>
                    <a:pt x="1889" y="16739"/>
                  </a:lnTo>
                  <a:lnTo>
                    <a:pt x="1169" y="15839"/>
                  </a:lnTo>
                  <a:lnTo>
                    <a:pt x="719" y="14939"/>
                  </a:lnTo>
                  <a:lnTo>
                    <a:pt x="449" y="13949"/>
                  </a:lnTo>
                  <a:lnTo>
                    <a:pt x="179" y="12869"/>
                  </a:lnTo>
                  <a:lnTo>
                    <a:pt x="0" y="11789"/>
                  </a:lnTo>
                  <a:lnTo>
                    <a:pt x="0" y="10709"/>
                  </a:lnTo>
                  <a:lnTo>
                    <a:pt x="0" y="10709"/>
                  </a:lnTo>
                  <a:lnTo>
                    <a:pt x="0" y="9629"/>
                  </a:lnTo>
                  <a:lnTo>
                    <a:pt x="179" y="8549"/>
                  </a:lnTo>
                  <a:lnTo>
                    <a:pt x="449" y="7469"/>
                  </a:lnTo>
                  <a:lnTo>
                    <a:pt x="719" y="6479"/>
                  </a:lnTo>
                  <a:lnTo>
                    <a:pt x="1169" y="5489"/>
                  </a:lnTo>
                  <a:lnTo>
                    <a:pt x="1889" y="4679"/>
                  </a:lnTo>
                  <a:lnTo>
                    <a:pt x="2429" y="3779"/>
                  </a:lnTo>
                  <a:lnTo>
                    <a:pt x="3149" y="3059"/>
                  </a:lnTo>
                  <a:lnTo>
                    <a:pt x="3869" y="2429"/>
                  </a:lnTo>
                  <a:lnTo>
                    <a:pt x="4769" y="1799"/>
                  </a:lnTo>
                  <a:lnTo>
                    <a:pt x="5669" y="1169"/>
                  </a:lnTo>
                  <a:lnTo>
                    <a:pt x="6479" y="719"/>
                  </a:lnTo>
                  <a:lnTo>
                    <a:pt x="7559" y="359"/>
                  </a:lnTo>
                  <a:lnTo>
                    <a:pt x="8639" y="179"/>
                  </a:lnTo>
                  <a:lnTo>
                    <a:pt x="9629" y="0"/>
                  </a:lnTo>
                  <a:lnTo>
                    <a:pt x="10709" y="0"/>
                  </a:lnTo>
                  <a:lnTo>
                    <a:pt x="10709" y="0"/>
                  </a:lnTo>
                  <a:lnTo>
                    <a:pt x="11879" y="0"/>
                  </a:lnTo>
                  <a:lnTo>
                    <a:pt x="12959" y="179"/>
                  </a:lnTo>
                  <a:lnTo>
                    <a:pt x="13949" y="359"/>
                  </a:lnTo>
                  <a:lnTo>
                    <a:pt x="15029" y="719"/>
                  </a:lnTo>
                  <a:lnTo>
                    <a:pt x="15929" y="1169"/>
                  </a:lnTo>
                  <a:lnTo>
                    <a:pt x="16829" y="1799"/>
                  </a:lnTo>
                  <a:lnTo>
                    <a:pt x="17729" y="2429"/>
                  </a:lnTo>
                  <a:lnTo>
                    <a:pt x="18359" y="3059"/>
                  </a:lnTo>
                  <a:lnTo>
                    <a:pt x="19079" y="3779"/>
                  </a:lnTo>
                  <a:lnTo>
                    <a:pt x="19709" y="4679"/>
                  </a:lnTo>
                  <a:lnTo>
                    <a:pt x="20250" y="5489"/>
                  </a:lnTo>
                  <a:lnTo>
                    <a:pt x="20789" y="6479"/>
                  </a:lnTo>
                  <a:lnTo>
                    <a:pt x="21059" y="7469"/>
                  </a:lnTo>
                  <a:lnTo>
                    <a:pt x="21329" y="8549"/>
                  </a:lnTo>
                  <a:lnTo>
                    <a:pt x="21600" y="9629"/>
                  </a:lnTo>
                  <a:lnTo>
                    <a:pt x="21600" y="10709"/>
                  </a:lnTo>
                  <a:lnTo>
                    <a:pt x="21600" y="10709"/>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307" name=""/>
          <p:cNvGrpSpPr/>
          <p:nvPr/>
        </p:nvGrpSpPr>
        <p:grpSpPr>
          <a:xfrm>
            <a:off x="0" y="3240"/>
            <a:ext cx="1267920" cy="6846480"/>
            <a:chOff x="0" y="3240"/>
            <a:chExt cx="1267920" cy="6846480"/>
          </a:xfrm>
        </p:grpSpPr>
        <p:sp>
          <p:nvSpPr>
            <p:cNvPr id="308" name="未知"/>
            <p:cNvSpPr/>
            <p:nvPr/>
          </p:nvSpPr>
          <p:spPr>
            <a:xfrm>
              <a:off x="4680" y="7920"/>
              <a:ext cx="962640" cy="6841800"/>
            </a:xfrm>
            <a:custGeom>
              <a:avLst/>
              <a:gdLst/>
              <a:ahLst/>
              <a:rect l="l" t="t" r="r" b="b"/>
              <a:pathLst>
                <a:path w="21600" h="21600">
                  <a:moveTo>
                    <a:pt x="14086" y="11"/>
                  </a:moveTo>
                  <a:lnTo>
                    <a:pt x="14086" y="11"/>
                  </a:lnTo>
                  <a:lnTo>
                    <a:pt x="14599" y="95"/>
                  </a:lnTo>
                  <a:lnTo>
                    <a:pt x="15367" y="228"/>
                  </a:lnTo>
                  <a:lnTo>
                    <a:pt x="16050" y="408"/>
                  </a:lnTo>
                  <a:lnTo>
                    <a:pt x="16562" y="504"/>
                  </a:lnTo>
                  <a:lnTo>
                    <a:pt x="16989" y="625"/>
                  </a:lnTo>
                  <a:lnTo>
                    <a:pt x="17416" y="757"/>
                  </a:lnTo>
                  <a:lnTo>
                    <a:pt x="17928" y="889"/>
                  </a:lnTo>
                  <a:lnTo>
                    <a:pt x="18440" y="1058"/>
                  </a:lnTo>
                  <a:lnTo>
                    <a:pt x="18867" y="1238"/>
                  </a:lnTo>
                  <a:lnTo>
                    <a:pt x="19380" y="1407"/>
                  </a:lnTo>
                  <a:lnTo>
                    <a:pt x="19807" y="1599"/>
                  </a:lnTo>
                  <a:lnTo>
                    <a:pt x="20233" y="1803"/>
                  </a:lnTo>
                  <a:lnTo>
                    <a:pt x="20575" y="2020"/>
                  </a:lnTo>
                  <a:lnTo>
                    <a:pt x="20916" y="2248"/>
                  </a:lnTo>
                  <a:lnTo>
                    <a:pt x="21172" y="2477"/>
                  </a:lnTo>
                  <a:lnTo>
                    <a:pt x="21428" y="2729"/>
                  </a:lnTo>
                  <a:lnTo>
                    <a:pt x="21600" y="3006"/>
                  </a:lnTo>
                  <a:lnTo>
                    <a:pt x="21600" y="3271"/>
                  </a:lnTo>
                  <a:lnTo>
                    <a:pt x="21600" y="3559"/>
                  </a:lnTo>
                  <a:lnTo>
                    <a:pt x="21600" y="3860"/>
                  </a:lnTo>
                  <a:lnTo>
                    <a:pt x="21428" y="4173"/>
                  </a:lnTo>
                  <a:lnTo>
                    <a:pt x="21087" y="4485"/>
                  </a:lnTo>
                  <a:lnTo>
                    <a:pt x="20746" y="4822"/>
                  </a:lnTo>
                  <a:lnTo>
                    <a:pt x="20233" y="5159"/>
                  </a:lnTo>
                  <a:lnTo>
                    <a:pt x="19636" y="5519"/>
                  </a:lnTo>
                  <a:lnTo>
                    <a:pt x="18867" y="5880"/>
                  </a:lnTo>
                  <a:lnTo>
                    <a:pt x="18099" y="6265"/>
                  </a:lnTo>
                  <a:lnTo>
                    <a:pt x="18099" y="6265"/>
                  </a:lnTo>
                  <a:lnTo>
                    <a:pt x="16221" y="6999"/>
                  </a:lnTo>
                  <a:lnTo>
                    <a:pt x="14513" y="7696"/>
                  </a:lnTo>
                  <a:lnTo>
                    <a:pt x="12976" y="8310"/>
                  </a:lnTo>
                  <a:lnTo>
                    <a:pt x="11440" y="8911"/>
                  </a:lnTo>
                  <a:lnTo>
                    <a:pt x="10244" y="9452"/>
                  </a:lnTo>
                  <a:lnTo>
                    <a:pt x="9049" y="9981"/>
                  </a:lnTo>
                  <a:lnTo>
                    <a:pt x="8537" y="10234"/>
                  </a:lnTo>
                  <a:lnTo>
                    <a:pt x="8025" y="10475"/>
                  </a:lnTo>
                  <a:lnTo>
                    <a:pt x="7598" y="10715"/>
                  </a:lnTo>
                  <a:lnTo>
                    <a:pt x="7171" y="10932"/>
                  </a:lnTo>
                  <a:lnTo>
                    <a:pt x="6829" y="11160"/>
                  </a:lnTo>
                  <a:lnTo>
                    <a:pt x="6659" y="11389"/>
                  </a:lnTo>
                  <a:lnTo>
                    <a:pt x="6402" y="11617"/>
                  </a:lnTo>
                  <a:lnTo>
                    <a:pt x="6232" y="11846"/>
                  </a:lnTo>
                  <a:lnTo>
                    <a:pt x="6146" y="12062"/>
                  </a:lnTo>
                  <a:lnTo>
                    <a:pt x="6146" y="12279"/>
                  </a:lnTo>
                  <a:lnTo>
                    <a:pt x="6146" y="12507"/>
                  </a:lnTo>
                  <a:lnTo>
                    <a:pt x="6232" y="12711"/>
                  </a:lnTo>
                  <a:lnTo>
                    <a:pt x="6488" y="12940"/>
                  </a:lnTo>
                  <a:lnTo>
                    <a:pt x="6744" y="13169"/>
                  </a:lnTo>
                  <a:lnTo>
                    <a:pt x="7085" y="13397"/>
                  </a:lnTo>
                  <a:lnTo>
                    <a:pt x="7427" y="13626"/>
                  </a:lnTo>
                  <a:lnTo>
                    <a:pt x="7939" y="13866"/>
                  </a:lnTo>
                  <a:lnTo>
                    <a:pt x="8537" y="14107"/>
                  </a:lnTo>
                  <a:lnTo>
                    <a:pt x="9049" y="14347"/>
                  </a:lnTo>
                  <a:lnTo>
                    <a:pt x="9903" y="14600"/>
                  </a:lnTo>
                  <a:lnTo>
                    <a:pt x="9903" y="14600"/>
                  </a:lnTo>
                  <a:lnTo>
                    <a:pt x="12464" y="15550"/>
                  </a:lnTo>
                  <a:lnTo>
                    <a:pt x="13574" y="15935"/>
                  </a:lnTo>
                  <a:lnTo>
                    <a:pt x="14513" y="16295"/>
                  </a:lnTo>
                  <a:lnTo>
                    <a:pt x="15452" y="16620"/>
                  </a:lnTo>
                  <a:lnTo>
                    <a:pt x="16221" y="16933"/>
                  </a:lnTo>
                  <a:lnTo>
                    <a:pt x="16904" y="17210"/>
                  </a:lnTo>
                  <a:lnTo>
                    <a:pt x="17331" y="17462"/>
                  </a:lnTo>
                  <a:lnTo>
                    <a:pt x="17843" y="17703"/>
                  </a:lnTo>
                  <a:lnTo>
                    <a:pt x="18184" y="17931"/>
                  </a:lnTo>
                  <a:lnTo>
                    <a:pt x="18526" y="18148"/>
                  </a:lnTo>
                  <a:lnTo>
                    <a:pt x="18696" y="18364"/>
                  </a:lnTo>
                  <a:lnTo>
                    <a:pt x="18953" y="18581"/>
                  </a:lnTo>
                  <a:lnTo>
                    <a:pt x="19038" y="18809"/>
                  </a:lnTo>
                  <a:lnTo>
                    <a:pt x="19209" y="19038"/>
                  </a:lnTo>
                  <a:lnTo>
                    <a:pt x="19294" y="19290"/>
                  </a:lnTo>
                  <a:lnTo>
                    <a:pt x="19294" y="19290"/>
                  </a:lnTo>
                  <a:lnTo>
                    <a:pt x="19380" y="19543"/>
                  </a:lnTo>
                  <a:lnTo>
                    <a:pt x="19294" y="19783"/>
                  </a:lnTo>
                  <a:lnTo>
                    <a:pt x="19123" y="20000"/>
                  </a:lnTo>
                  <a:lnTo>
                    <a:pt x="18953" y="20216"/>
                  </a:lnTo>
                  <a:lnTo>
                    <a:pt x="18696" y="20433"/>
                  </a:lnTo>
                  <a:lnTo>
                    <a:pt x="18355" y="20613"/>
                  </a:lnTo>
                  <a:lnTo>
                    <a:pt x="17928" y="20794"/>
                  </a:lnTo>
                  <a:lnTo>
                    <a:pt x="17501" y="20950"/>
                  </a:lnTo>
                  <a:lnTo>
                    <a:pt x="17245" y="21094"/>
                  </a:lnTo>
                  <a:lnTo>
                    <a:pt x="16818" y="21215"/>
                  </a:lnTo>
                  <a:lnTo>
                    <a:pt x="16477" y="21335"/>
                  </a:lnTo>
                  <a:lnTo>
                    <a:pt x="16135" y="21407"/>
                  </a:lnTo>
                  <a:lnTo>
                    <a:pt x="15708" y="21551"/>
                  </a:lnTo>
                  <a:lnTo>
                    <a:pt x="15452" y="21600"/>
                  </a:lnTo>
                  <a:lnTo>
                    <a:pt x="0" y="21587"/>
                  </a:lnTo>
                  <a:lnTo>
                    <a:pt x="85" y="0"/>
                  </a:lnTo>
                  <a:lnTo>
                    <a:pt x="14086" y="11"/>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09" name="未知"/>
            <p:cNvSpPr/>
            <p:nvPr/>
          </p:nvSpPr>
          <p:spPr>
            <a:xfrm>
              <a:off x="0" y="3240"/>
              <a:ext cx="784800" cy="6846480"/>
            </a:xfrm>
            <a:custGeom>
              <a:avLst/>
              <a:gdLst/>
              <a:ahLst/>
              <a:rect l="l" t="t" r="r" b="b"/>
              <a:pathLst>
                <a:path w="21600" h="21600">
                  <a:moveTo>
                    <a:pt x="9391" y="0"/>
                  </a:moveTo>
                  <a:lnTo>
                    <a:pt x="9391" y="0"/>
                  </a:lnTo>
                  <a:lnTo>
                    <a:pt x="10017" y="35"/>
                  </a:lnTo>
                  <a:lnTo>
                    <a:pt x="10852" y="108"/>
                  </a:lnTo>
                  <a:lnTo>
                    <a:pt x="11686" y="228"/>
                  </a:lnTo>
                  <a:lnTo>
                    <a:pt x="12730" y="360"/>
                  </a:lnTo>
                  <a:lnTo>
                    <a:pt x="13356" y="444"/>
                  </a:lnTo>
                  <a:lnTo>
                    <a:pt x="13982" y="528"/>
                  </a:lnTo>
                  <a:lnTo>
                    <a:pt x="14504" y="636"/>
                  </a:lnTo>
                  <a:lnTo>
                    <a:pt x="15130" y="745"/>
                  </a:lnTo>
                  <a:lnTo>
                    <a:pt x="15860" y="853"/>
                  </a:lnTo>
                  <a:lnTo>
                    <a:pt x="16486" y="985"/>
                  </a:lnTo>
                  <a:lnTo>
                    <a:pt x="17112" y="1117"/>
                  </a:lnTo>
                  <a:lnTo>
                    <a:pt x="17738" y="1273"/>
                  </a:lnTo>
                  <a:lnTo>
                    <a:pt x="18260" y="1442"/>
                  </a:lnTo>
                  <a:lnTo>
                    <a:pt x="18782" y="1610"/>
                  </a:lnTo>
                  <a:lnTo>
                    <a:pt x="19408" y="1790"/>
                  </a:lnTo>
                  <a:lnTo>
                    <a:pt x="19930" y="1983"/>
                  </a:lnTo>
                  <a:lnTo>
                    <a:pt x="20243" y="2187"/>
                  </a:lnTo>
                  <a:lnTo>
                    <a:pt x="20660" y="2403"/>
                  </a:lnTo>
                  <a:lnTo>
                    <a:pt x="20973" y="2632"/>
                  </a:lnTo>
                  <a:lnTo>
                    <a:pt x="21286" y="2872"/>
                  </a:lnTo>
                  <a:lnTo>
                    <a:pt x="21495" y="3112"/>
                  </a:lnTo>
                  <a:lnTo>
                    <a:pt x="21600" y="3389"/>
                  </a:lnTo>
                  <a:lnTo>
                    <a:pt x="21600" y="3666"/>
                  </a:lnTo>
                  <a:lnTo>
                    <a:pt x="21600" y="3954"/>
                  </a:lnTo>
                  <a:lnTo>
                    <a:pt x="21391" y="4266"/>
                  </a:lnTo>
                  <a:lnTo>
                    <a:pt x="21078" y="4579"/>
                  </a:lnTo>
                  <a:lnTo>
                    <a:pt x="21078" y="4579"/>
                  </a:lnTo>
                  <a:lnTo>
                    <a:pt x="20869" y="4903"/>
                  </a:lnTo>
                  <a:lnTo>
                    <a:pt x="20452" y="5204"/>
                  </a:lnTo>
                  <a:lnTo>
                    <a:pt x="20034" y="5492"/>
                  </a:lnTo>
                  <a:lnTo>
                    <a:pt x="19617" y="5745"/>
                  </a:lnTo>
                  <a:lnTo>
                    <a:pt x="19199" y="6009"/>
                  </a:lnTo>
                  <a:lnTo>
                    <a:pt x="18678" y="6262"/>
                  </a:lnTo>
                  <a:lnTo>
                    <a:pt x="18156" y="6490"/>
                  </a:lnTo>
                  <a:lnTo>
                    <a:pt x="17738" y="6719"/>
                  </a:lnTo>
                  <a:lnTo>
                    <a:pt x="16695" y="7139"/>
                  </a:lnTo>
                  <a:lnTo>
                    <a:pt x="15651" y="7524"/>
                  </a:lnTo>
                  <a:lnTo>
                    <a:pt x="13564" y="8281"/>
                  </a:lnTo>
                  <a:lnTo>
                    <a:pt x="12730" y="8654"/>
                  </a:lnTo>
                  <a:lnTo>
                    <a:pt x="12312" y="8846"/>
                  </a:lnTo>
                  <a:lnTo>
                    <a:pt x="11895" y="9026"/>
                  </a:lnTo>
                  <a:lnTo>
                    <a:pt x="11477" y="9231"/>
                  </a:lnTo>
                  <a:lnTo>
                    <a:pt x="11165" y="9435"/>
                  </a:lnTo>
                  <a:lnTo>
                    <a:pt x="10852" y="9639"/>
                  </a:lnTo>
                  <a:lnTo>
                    <a:pt x="10747" y="9856"/>
                  </a:lnTo>
                  <a:lnTo>
                    <a:pt x="10434" y="10096"/>
                  </a:lnTo>
                  <a:lnTo>
                    <a:pt x="10330" y="10336"/>
                  </a:lnTo>
                  <a:lnTo>
                    <a:pt x="10121" y="10601"/>
                  </a:lnTo>
                  <a:lnTo>
                    <a:pt x="9912" y="10841"/>
                  </a:lnTo>
                  <a:lnTo>
                    <a:pt x="9912" y="11130"/>
                  </a:lnTo>
                  <a:lnTo>
                    <a:pt x="9912" y="11430"/>
                  </a:lnTo>
                  <a:lnTo>
                    <a:pt x="10121" y="11743"/>
                  </a:lnTo>
                  <a:lnTo>
                    <a:pt x="10225" y="12080"/>
                  </a:lnTo>
                  <a:lnTo>
                    <a:pt x="10225" y="12080"/>
                  </a:lnTo>
                  <a:lnTo>
                    <a:pt x="10538" y="12416"/>
                  </a:lnTo>
                  <a:lnTo>
                    <a:pt x="10747" y="12729"/>
                  </a:lnTo>
                  <a:lnTo>
                    <a:pt x="10852" y="13053"/>
                  </a:lnTo>
                  <a:lnTo>
                    <a:pt x="11165" y="13329"/>
                  </a:lnTo>
                  <a:lnTo>
                    <a:pt x="11582" y="13618"/>
                  </a:lnTo>
                  <a:lnTo>
                    <a:pt x="11999" y="13871"/>
                  </a:lnTo>
                  <a:lnTo>
                    <a:pt x="12417" y="14123"/>
                  </a:lnTo>
                  <a:lnTo>
                    <a:pt x="12730" y="14363"/>
                  </a:lnTo>
                  <a:lnTo>
                    <a:pt x="13669" y="14820"/>
                  </a:lnTo>
                  <a:lnTo>
                    <a:pt x="14504" y="15241"/>
                  </a:lnTo>
                  <a:lnTo>
                    <a:pt x="15547" y="15625"/>
                  </a:lnTo>
                  <a:lnTo>
                    <a:pt x="16278" y="15986"/>
                  </a:lnTo>
                  <a:lnTo>
                    <a:pt x="17112" y="16346"/>
                  </a:lnTo>
                  <a:lnTo>
                    <a:pt x="17947" y="16695"/>
                  </a:lnTo>
                  <a:lnTo>
                    <a:pt x="18573" y="17032"/>
                  </a:lnTo>
                  <a:lnTo>
                    <a:pt x="18886" y="17200"/>
                  </a:lnTo>
                  <a:lnTo>
                    <a:pt x="19095" y="17368"/>
                  </a:lnTo>
                  <a:lnTo>
                    <a:pt x="19408" y="17549"/>
                  </a:lnTo>
                  <a:lnTo>
                    <a:pt x="19513" y="17729"/>
                  </a:lnTo>
                  <a:lnTo>
                    <a:pt x="19617" y="17909"/>
                  </a:lnTo>
                  <a:lnTo>
                    <a:pt x="19721" y="18102"/>
                  </a:lnTo>
                  <a:lnTo>
                    <a:pt x="19721" y="18294"/>
                  </a:lnTo>
                  <a:lnTo>
                    <a:pt x="19721" y="18486"/>
                  </a:lnTo>
                  <a:lnTo>
                    <a:pt x="19513" y="18691"/>
                  </a:lnTo>
                  <a:lnTo>
                    <a:pt x="19408" y="18907"/>
                  </a:lnTo>
                  <a:lnTo>
                    <a:pt x="19408" y="18907"/>
                  </a:lnTo>
                  <a:lnTo>
                    <a:pt x="18991" y="19220"/>
                  </a:lnTo>
                  <a:lnTo>
                    <a:pt x="18573" y="19532"/>
                  </a:lnTo>
                  <a:lnTo>
                    <a:pt x="18051" y="19796"/>
                  </a:lnTo>
                  <a:lnTo>
                    <a:pt x="17634" y="20061"/>
                  </a:lnTo>
                  <a:lnTo>
                    <a:pt x="17112" y="20301"/>
                  </a:lnTo>
                  <a:lnTo>
                    <a:pt x="16486" y="20517"/>
                  </a:lnTo>
                  <a:lnTo>
                    <a:pt x="15965" y="20722"/>
                  </a:lnTo>
                  <a:lnTo>
                    <a:pt x="15339" y="20902"/>
                  </a:lnTo>
                  <a:lnTo>
                    <a:pt x="14817" y="21058"/>
                  </a:lnTo>
                  <a:lnTo>
                    <a:pt x="14295" y="21215"/>
                  </a:lnTo>
                  <a:lnTo>
                    <a:pt x="13460" y="21419"/>
                  </a:lnTo>
                  <a:lnTo>
                    <a:pt x="12730" y="21551"/>
                  </a:lnTo>
                  <a:lnTo>
                    <a:pt x="12625" y="21600"/>
                  </a:lnTo>
                  <a:lnTo>
                    <a:pt x="0" y="21587"/>
                  </a:lnTo>
                  <a:lnTo>
                    <a:pt x="104" y="0"/>
                  </a:lnTo>
                  <a:lnTo>
                    <a:pt x="9391" y="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0" name="未知"/>
            <p:cNvSpPr/>
            <p:nvPr/>
          </p:nvSpPr>
          <p:spPr>
            <a:xfrm>
              <a:off x="191160" y="631440"/>
              <a:ext cx="1076760" cy="1074960"/>
            </a:xfrm>
            <a:custGeom>
              <a:avLst/>
              <a:gdLst/>
              <a:ahLst/>
              <a:rect l="l" t="t" r="r" b="b"/>
              <a:pathLst>
                <a:path w="21600" h="21600">
                  <a:moveTo>
                    <a:pt x="21600" y="10800"/>
                  </a:moveTo>
                  <a:lnTo>
                    <a:pt x="21600" y="10800"/>
                  </a:lnTo>
                  <a:lnTo>
                    <a:pt x="21523" y="11948"/>
                  </a:lnTo>
                  <a:lnTo>
                    <a:pt x="21370" y="13021"/>
                  </a:lnTo>
                  <a:lnTo>
                    <a:pt x="21065" y="14016"/>
                  </a:lnTo>
                  <a:lnTo>
                    <a:pt x="20760" y="15089"/>
                  </a:lnTo>
                  <a:lnTo>
                    <a:pt x="20302" y="15931"/>
                  </a:lnTo>
                  <a:lnTo>
                    <a:pt x="19691" y="16850"/>
                  </a:lnTo>
                  <a:lnTo>
                    <a:pt x="19157" y="17693"/>
                  </a:lnTo>
                  <a:lnTo>
                    <a:pt x="18394" y="18459"/>
                  </a:lnTo>
                  <a:lnTo>
                    <a:pt x="17707" y="19148"/>
                  </a:lnTo>
                  <a:lnTo>
                    <a:pt x="16791" y="19761"/>
                  </a:lnTo>
                  <a:lnTo>
                    <a:pt x="15875" y="20297"/>
                  </a:lnTo>
                  <a:lnTo>
                    <a:pt x="15035" y="20757"/>
                  </a:lnTo>
                  <a:lnTo>
                    <a:pt x="13967" y="21140"/>
                  </a:lnTo>
                  <a:lnTo>
                    <a:pt x="12974" y="21446"/>
                  </a:lnTo>
                  <a:lnTo>
                    <a:pt x="11830" y="21523"/>
                  </a:lnTo>
                  <a:lnTo>
                    <a:pt x="10761" y="21600"/>
                  </a:lnTo>
                  <a:lnTo>
                    <a:pt x="10761" y="21600"/>
                  </a:lnTo>
                  <a:lnTo>
                    <a:pt x="9616" y="21523"/>
                  </a:lnTo>
                  <a:lnTo>
                    <a:pt x="8548" y="21446"/>
                  </a:lnTo>
                  <a:lnTo>
                    <a:pt x="7556" y="21140"/>
                  </a:lnTo>
                  <a:lnTo>
                    <a:pt x="6563" y="20757"/>
                  </a:lnTo>
                  <a:lnTo>
                    <a:pt x="5571" y="20297"/>
                  </a:lnTo>
                  <a:lnTo>
                    <a:pt x="4731" y="19761"/>
                  </a:lnTo>
                  <a:lnTo>
                    <a:pt x="3892" y="19148"/>
                  </a:lnTo>
                  <a:lnTo>
                    <a:pt x="3129" y="18459"/>
                  </a:lnTo>
                  <a:lnTo>
                    <a:pt x="2442" y="17693"/>
                  </a:lnTo>
                  <a:lnTo>
                    <a:pt x="1755" y="16850"/>
                  </a:lnTo>
                  <a:lnTo>
                    <a:pt x="1297" y="15931"/>
                  </a:lnTo>
                  <a:lnTo>
                    <a:pt x="839" y="15089"/>
                  </a:lnTo>
                  <a:lnTo>
                    <a:pt x="457" y="14016"/>
                  </a:lnTo>
                  <a:lnTo>
                    <a:pt x="228" y="13021"/>
                  </a:lnTo>
                  <a:lnTo>
                    <a:pt x="0" y="11948"/>
                  </a:lnTo>
                  <a:lnTo>
                    <a:pt x="0" y="10800"/>
                  </a:lnTo>
                  <a:lnTo>
                    <a:pt x="0" y="10800"/>
                  </a:lnTo>
                  <a:lnTo>
                    <a:pt x="0" y="9727"/>
                  </a:lnTo>
                  <a:lnTo>
                    <a:pt x="228" y="8655"/>
                  </a:lnTo>
                  <a:lnTo>
                    <a:pt x="457" y="7582"/>
                  </a:lnTo>
                  <a:lnTo>
                    <a:pt x="839" y="6587"/>
                  </a:lnTo>
                  <a:lnTo>
                    <a:pt x="1297" y="5667"/>
                  </a:lnTo>
                  <a:lnTo>
                    <a:pt x="1755" y="4748"/>
                  </a:lnTo>
                  <a:lnTo>
                    <a:pt x="2442" y="3906"/>
                  </a:lnTo>
                  <a:lnTo>
                    <a:pt x="3129" y="3140"/>
                  </a:lnTo>
                  <a:lnTo>
                    <a:pt x="3892" y="2450"/>
                  </a:lnTo>
                  <a:lnTo>
                    <a:pt x="4731" y="1838"/>
                  </a:lnTo>
                  <a:lnTo>
                    <a:pt x="5571" y="1301"/>
                  </a:lnTo>
                  <a:lnTo>
                    <a:pt x="6563" y="918"/>
                  </a:lnTo>
                  <a:lnTo>
                    <a:pt x="7556" y="535"/>
                  </a:lnTo>
                  <a:lnTo>
                    <a:pt x="8548" y="229"/>
                  </a:lnTo>
                  <a:lnTo>
                    <a:pt x="9616" y="0"/>
                  </a:lnTo>
                  <a:lnTo>
                    <a:pt x="10761" y="0"/>
                  </a:lnTo>
                  <a:lnTo>
                    <a:pt x="10761" y="0"/>
                  </a:lnTo>
                  <a:lnTo>
                    <a:pt x="11830" y="0"/>
                  </a:lnTo>
                  <a:lnTo>
                    <a:pt x="12974" y="229"/>
                  </a:lnTo>
                  <a:lnTo>
                    <a:pt x="13967" y="535"/>
                  </a:lnTo>
                  <a:lnTo>
                    <a:pt x="15035" y="918"/>
                  </a:lnTo>
                  <a:lnTo>
                    <a:pt x="15875" y="1301"/>
                  </a:lnTo>
                  <a:lnTo>
                    <a:pt x="16791" y="1838"/>
                  </a:lnTo>
                  <a:lnTo>
                    <a:pt x="17707" y="2450"/>
                  </a:lnTo>
                  <a:lnTo>
                    <a:pt x="18394" y="3140"/>
                  </a:lnTo>
                  <a:lnTo>
                    <a:pt x="19157" y="3906"/>
                  </a:lnTo>
                  <a:lnTo>
                    <a:pt x="19691" y="4748"/>
                  </a:lnTo>
                  <a:lnTo>
                    <a:pt x="20302" y="5667"/>
                  </a:lnTo>
                  <a:lnTo>
                    <a:pt x="20760" y="6587"/>
                  </a:lnTo>
                  <a:lnTo>
                    <a:pt x="21065" y="7582"/>
                  </a:lnTo>
                  <a:lnTo>
                    <a:pt x="21370" y="8655"/>
                  </a:lnTo>
                  <a:lnTo>
                    <a:pt x="21523" y="9727"/>
                  </a:lnTo>
                  <a:lnTo>
                    <a:pt x="21600" y="10800"/>
                  </a:lnTo>
                  <a:lnTo>
                    <a:pt x="21600" y="10800"/>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1" name="未知"/>
            <p:cNvSpPr/>
            <p:nvPr/>
          </p:nvSpPr>
          <p:spPr>
            <a:xfrm>
              <a:off x="328320" y="765720"/>
              <a:ext cx="803520" cy="807840"/>
            </a:xfrm>
            <a:custGeom>
              <a:avLst/>
              <a:gdLst/>
              <a:ahLst/>
              <a:rect l="l" t="t" r="r" b="b"/>
              <a:pathLst>
                <a:path w="21600" h="21600">
                  <a:moveTo>
                    <a:pt x="21600" y="10800"/>
                  </a:moveTo>
                  <a:lnTo>
                    <a:pt x="21600" y="10800"/>
                  </a:lnTo>
                  <a:lnTo>
                    <a:pt x="21600" y="11920"/>
                  </a:lnTo>
                  <a:lnTo>
                    <a:pt x="21394" y="12939"/>
                  </a:lnTo>
                  <a:lnTo>
                    <a:pt x="21088" y="14060"/>
                  </a:lnTo>
                  <a:lnTo>
                    <a:pt x="20678" y="15079"/>
                  </a:lnTo>
                  <a:lnTo>
                    <a:pt x="20269" y="15995"/>
                  </a:lnTo>
                  <a:lnTo>
                    <a:pt x="19757" y="16811"/>
                  </a:lnTo>
                  <a:lnTo>
                    <a:pt x="19040" y="17727"/>
                  </a:lnTo>
                  <a:lnTo>
                    <a:pt x="18426" y="18441"/>
                  </a:lnTo>
                  <a:lnTo>
                    <a:pt x="17607" y="19154"/>
                  </a:lnTo>
                  <a:lnTo>
                    <a:pt x="16788" y="19765"/>
                  </a:lnTo>
                  <a:lnTo>
                    <a:pt x="15867" y="20275"/>
                  </a:lnTo>
                  <a:lnTo>
                    <a:pt x="15048" y="20784"/>
                  </a:lnTo>
                  <a:lnTo>
                    <a:pt x="13922" y="21192"/>
                  </a:lnTo>
                  <a:lnTo>
                    <a:pt x="12898" y="21395"/>
                  </a:lnTo>
                  <a:lnTo>
                    <a:pt x="11874" y="21600"/>
                  </a:lnTo>
                  <a:lnTo>
                    <a:pt x="10748" y="21600"/>
                  </a:lnTo>
                  <a:lnTo>
                    <a:pt x="10748" y="21600"/>
                  </a:lnTo>
                  <a:lnTo>
                    <a:pt x="9622" y="21600"/>
                  </a:lnTo>
                  <a:lnTo>
                    <a:pt x="8598" y="21395"/>
                  </a:lnTo>
                  <a:lnTo>
                    <a:pt x="7575" y="21192"/>
                  </a:lnTo>
                  <a:lnTo>
                    <a:pt x="6551" y="20784"/>
                  </a:lnTo>
                  <a:lnTo>
                    <a:pt x="5630" y="20275"/>
                  </a:lnTo>
                  <a:lnTo>
                    <a:pt x="4708" y="19765"/>
                  </a:lnTo>
                  <a:lnTo>
                    <a:pt x="3787" y="19154"/>
                  </a:lnTo>
                  <a:lnTo>
                    <a:pt x="3070" y="18441"/>
                  </a:lnTo>
                  <a:lnTo>
                    <a:pt x="2354" y="17727"/>
                  </a:lnTo>
                  <a:lnTo>
                    <a:pt x="1842" y="16811"/>
                  </a:lnTo>
                  <a:lnTo>
                    <a:pt x="1330" y="15995"/>
                  </a:lnTo>
                  <a:lnTo>
                    <a:pt x="716" y="15079"/>
                  </a:lnTo>
                  <a:lnTo>
                    <a:pt x="409" y="14060"/>
                  </a:lnTo>
                  <a:lnTo>
                    <a:pt x="204" y="12939"/>
                  </a:lnTo>
                  <a:lnTo>
                    <a:pt x="0" y="11920"/>
                  </a:lnTo>
                  <a:lnTo>
                    <a:pt x="0" y="10800"/>
                  </a:lnTo>
                  <a:lnTo>
                    <a:pt x="0" y="10800"/>
                  </a:lnTo>
                  <a:lnTo>
                    <a:pt x="0" y="9679"/>
                  </a:lnTo>
                  <a:lnTo>
                    <a:pt x="204" y="8660"/>
                  </a:lnTo>
                  <a:lnTo>
                    <a:pt x="409" y="7641"/>
                  </a:lnTo>
                  <a:lnTo>
                    <a:pt x="716" y="6622"/>
                  </a:lnTo>
                  <a:lnTo>
                    <a:pt x="1330" y="5705"/>
                  </a:lnTo>
                  <a:lnTo>
                    <a:pt x="1842" y="4788"/>
                  </a:lnTo>
                  <a:lnTo>
                    <a:pt x="2354" y="3871"/>
                  </a:lnTo>
                  <a:lnTo>
                    <a:pt x="3070" y="3158"/>
                  </a:lnTo>
                  <a:lnTo>
                    <a:pt x="3787" y="2445"/>
                  </a:lnTo>
                  <a:lnTo>
                    <a:pt x="4708" y="1833"/>
                  </a:lnTo>
                  <a:lnTo>
                    <a:pt x="5630" y="1426"/>
                  </a:lnTo>
                  <a:lnTo>
                    <a:pt x="6551" y="815"/>
                  </a:lnTo>
                  <a:lnTo>
                    <a:pt x="7575" y="509"/>
                  </a:lnTo>
                  <a:lnTo>
                    <a:pt x="8598" y="203"/>
                  </a:lnTo>
                  <a:lnTo>
                    <a:pt x="9622" y="0"/>
                  </a:lnTo>
                  <a:lnTo>
                    <a:pt x="10748" y="0"/>
                  </a:lnTo>
                  <a:lnTo>
                    <a:pt x="10748" y="0"/>
                  </a:lnTo>
                  <a:lnTo>
                    <a:pt x="11874" y="0"/>
                  </a:lnTo>
                  <a:lnTo>
                    <a:pt x="12898" y="203"/>
                  </a:lnTo>
                  <a:lnTo>
                    <a:pt x="13922" y="509"/>
                  </a:lnTo>
                  <a:lnTo>
                    <a:pt x="15048" y="815"/>
                  </a:lnTo>
                  <a:lnTo>
                    <a:pt x="15867" y="1426"/>
                  </a:lnTo>
                  <a:lnTo>
                    <a:pt x="16788" y="1833"/>
                  </a:lnTo>
                  <a:lnTo>
                    <a:pt x="17607" y="2445"/>
                  </a:lnTo>
                  <a:lnTo>
                    <a:pt x="18426" y="3158"/>
                  </a:lnTo>
                  <a:lnTo>
                    <a:pt x="19040" y="3871"/>
                  </a:lnTo>
                  <a:lnTo>
                    <a:pt x="19757" y="4788"/>
                  </a:lnTo>
                  <a:lnTo>
                    <a:pt x="20269" y="5705"/>
                  </a:lnTo>
                  <a:lnTo>
                    <a:pt x="20678" y="6622"/>
                  </a:lnTo>
                  <a:lnTo>
                    <a:pt x="21088" y="7641"/>
                  </a:lnTo>
                  <a:lnTo>
                    <a:pt x="21394" y="8660"/>
                  </a:lnTo>
                  <a:lnTo>
                    <a:pt x="21600" y="9679"/>
                  </a:lnTo>
                  <a:lnTo>
                    <a:pt x="21600" y="10800"/>
                  </a:lnTo>
                  <a:lnTo>
                    <a:pt x="21600" y="1080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2" name="未知"/>
            <p:cNvSpPr/>
            <p:nvPr/>
          </p:nvSpPr>
          <p:spPr>
            <a:xfrm>
              <a:off x="469440" y="906840"/>
              <a:ext cx="524880" cy="529200"/>
            </a:xfrm>
            <a:custGeom>
              <a:avLst/>
              <a:gdLst/>
              <a:ahLst/>
              <a:rect l="l" t="t" r="r" b="b"/>
              <a:pathLst>
                <a:path w="21600" h="21600">
                  <a:moveTo>
                    <a:pt x="21600" y="10722"/>
                  </a:moveTo>
                  <a:lnTo>
                    <a:pt x="21600" y="10722"/>
                  </a:lnTo>
                  <a:lnTo>
                    <a:pt x="21600" y="11965"/>
                  </a:lnTo>
                  <a:lnTo>
                    <a:pt x="21443" y="12897"/>
                  </a:lnTo>
                  <a:lnTo>
                    <a:pt x="21130" y="13985"/>
                  </a:lnTo>
                  <a:lnTo>
                    <a:pt x="20660" y="15073"/>
                  </a:lnTo>
                  <a:lnTo>
                    <a:pt x="20191" y="15850"/>
                  </a:lnTo>
                  <a:lnTo>
                    <a:pt x="19565" y="16937"/>
                  </a:lnTo>
                  <a:lnTo>
                    <a:pt x="19095" y="17714"/>
                  </a:lnTo>
                  <a:lnTo>
                    <a:pt x="18313" y="18336"/>
                  </a:lnTo>
                  <a:lnTo>
                    <a:pt x="17530" y="19113"/>
                  </a:lnTo>
                  <a:lnTo>
                    <a:pt x="16747" y="19735"/>
                  </a:lnTo>
                  <a:lnTo>
                    <a:pt x="15965" y="20356"/>
                  </a:lnTo>
                  <a:lnTo>
                    <a:pt x="15026" y="20822"/>
                  </a:lnTo>
                  <a:lnTo>
                    <a:pt x="13773" y="21133"/>
                  </a:lnTo>
                  <a:lnTo>
                    <a:pt x="12834" y="21444"/>
                  </a:lnTo>
                  <a:lnTo>
                    <a:pt x="11739" y="21600"/>
                  </a:lnTo>
                  <a:lnTo>
                    <a:pt x="10800" y="21600"/>
                  </a:lnTo>
                  <a:lnTo>
                    <a:pt x="10800" y="21600"/>
                  </a:lnTo>
                  <a:lnTo>
                    <a:pt x="9547" y="21600"/>
                  </a:lnTo>
                  <a:lnTo>
                    <a:pt x="8452" y="21444"/>
                  </a:lnTo>
                  <a:lnTo>
                    <a:pt x="7513" y="21133"/>
                  </a:lnTo>
                  <a:lnTo>
                    <a:pt x="6417" y="20822"/>
                  </a:lnTo>
                  <a:lnTo>
                    <a:pt x="5634" y="20356"/>
                  </a:lnTo>
                  <a:lnTo>
                    <a:pt x="4695" y="19735"/>
                  </a:lnTo>
                  <a:lnTo>
                    <a:pt x="3756" y="19113"/>
                  </a:lnTo>
                  <a:lnTo>
                    <a:pt x="2973" y="18336"/>
                  </a:lnTo>
                  <a:lnTo>
                    <a:pt x="2347" y="17714"/>
                  </a:lnTo>
                  <a:lnTo>
                    <a:pt x="1721" y="16937"/>
                  </a:lnTo>
                  <a:lnTo>
                    <a:pt x="1095" y="15850"/>
                  </a:lnTo>
                  <a:lnTo>
                    <a:pt x="782" y="15073"/>
                  </a:lnTo>
                  <a:lnTo>
                    <a:pt x="312" y="13985"/>
                  </a:lnTo>
                  <a:lnTo>
                    <a:pt x="156" y="12897"/>
                  </a:lnTo>
                  <a:lnTo>
                    <a:pt x="0" y="11965"/>
                  </a:lnTo>
                  <a:lnTo>
                    <a:pt x="0" y="10722"/>
                  </a:lnTo>
                  <a:lnTo>
                    <a:pt x="0" y="10722"/>
                  </a:lnTo>
                  <a:lnTo>
                    <a:pt x="0" y="9789"/>
                  </a:lnTo>
                  <a:lnTo>
                    <a:pt x="156" y="8701"/>
                  </a:lnTo>
                  <a:lnTo>
                    <a:pt x="312" y="7614"/>
                  </a:lnTo>
                  <a:lnTo>
                    <a:pt x="782" y="6681"/>
                  </a:lnTo>
                  <a:lnTo>
                    <a:pt x="1095" y="5594"/>
                  </a:lnTo>
                  <a:lnTo>
                    <a:pt x="1721" y="4661"/>
                  </a:lnTo>
                  <a:lnTo>
                    <a:pt x="2347" y="3884"/>
                  </a:lnTo>
                  <a:lnTo>
                    <a:pt x="2973" y="3263"/>
                  </a:lnTo>
                  <a:lnTo>
                    <a:pt x="3756" y="2330"/>
                  </a:lnTo>
                  <a:lnTo>
                    <a:pt x="4695" y="1864"/>
                  </a:lnTo>
                  <a:lnTo>
                    <a:pt x="5634" y="1242"/>
                  </a:lnTo>
                  <a:lnTo>
                    <a:pt x="6417" y="932"/>
                  </a:lnTo>
                  <a:lnTo>
                    <a:pt x="7513" y="466"/>
                  </a:lnTo>
                  <a:lnTo>
                    <a:pt x="8452" y="155"/>
                  </a:lnTo>
                  <a:lnTo>
                    <a:pt x="9547" y="0"/>
                  </a:lnTo>
                  <a:lnTo>
                    <a:pt x="10800" y="0"/>
                  </a:lnTo>
                  <a:lnTo>
                    <a:pt x="10800" y="0"/>
                  </a:lnTo>
                  <a:lnTo>
                    <a:pt x="11739" y="0"/>
                  </a:lnTo>
                  <a:lnTo>
                    <a:pt x="12834" y="155"/>
                  </a:lnTo>
                  <a:lnTo>
                    <a:pt x="13773" y="466"/>
                  </a:lnTo>
                  <a:lnTo>
                    <a:pt x="15026" y="932"/>
                  </a:lnTo>
                  <a:lnTo>
                    <a:pt x="15965" y="1242"/>
                  </a:lnTo>
                  <a:lnTo>
                    <a:pt x="16747" y="1864"/>
                  </a:lnTo>
                  <a:lnTo>
                    <a:pt x="17530" y="2330"/>
                  </a:lnTo>
                  <a:lnTo>
                    <a:pt x="18313" y="3263"/>
                  </a:lnTo>
                  <a:lnTo>
                    <a:pt x="19095" y="3884"/>
                  </a:lnTo>
                  <a:lnTo>
                    <a:pt x="19565" y="4661"/>
                  </a:lnTo>
                  <a:lnTo>
                    <a:pt x="20191" y="5594"/>
                  </a:lnTo>
                  <a:lnTo>
                    <a:pt x="20660" y="6681"/>
                  </a:lnTo>
                  <a:lnTo>
                    <a:pt x="21130" y="7614"/>
                  </a:lnTo>
                  <a:lnTo>
                    <a:pt x="21443" y="8701"/>
                  </a:lnTo>
                  <a:lnTo>
                    <a:pt x="21600" y="9789"/>
                  </a:lnTo>
                  <a:lnTo>
                    <a:pt x="21600" y="10722"/>
                  </a:lnTo>
                  <a:lnTo>
                    <a:pt x="21600" y="10722"/>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313" name=""/>
          <p:cNvGrpSpPr/>
          <p:nvPr/>
        </p:nvGrpSpPr>
        <p:grpSpPr>
          <a:xfrm>
            <a:off x="5818320" y="503280"/>
            <a:ext cx="1922040" cy="2144160"/>
            <a:chOff x="5818320" y="503280"/>
            <a:chExt cx="1922040" cy="2144160"/>
          </a:xfrm>
        </p:grpSpPr>
        <p:sp>
          <p:nvSpPr>
            <p:cNvPr id="314" name="未知"/>
            <p:cNvSpPr/>
            <p:nvPr/>
          </p:nvSpPr>
          <p:spPr>
            <a:xfrm>
              <a:off x="6662520" y="1569600"/>
              <a:ext cx="1077840" cy="1077840"/>
            </a:xfrm>
            <a:custGeom>
              <a:avLst/>
              <a:gdLst/>
              <a:ahLst/>
              <a:rect l="l" t="t" r="r" b="b"/>
              <a:pathLst>
                <a:path w="21600" h="21600">
                  <a:moveTo>
                    <a:pt x="21600" y="10761"/>
                  </a:moveTo>
                  <a:lnTo>
                    <a:pt x="21600" y="10761"/>
                  </a:lnTo>
                  <a:lnTo>
                    <a:pt x="21523" y="11830"/>
                  </a:lnTo>
                  <a:lnTo>
                    <a:pt x="21370" y="12898"/>
                  </a:lnTo>
                  <a:lnTo>
                    <a:pt x="21141" y="13967"/>
                  </a:lnTo>
                  <a:lnTo>
                    <a:pt x="20760" y="15035"/>
                  </a:lnTo>
                  <a:lnTo>
                    <a:pt x="20302" y="15875"/>
                  </a:lnTo>
                  <a:lnTo>
                    <a:pt x="19768" y="16715"/>
                  </a:lnTo>
                  <a:lnTo>
                    <a:pt x="19157" y="17707"/>
                  </a:lnTo>
                  <a:lnTo>
                    <a:pt x="18470" y="18394"/>
                  </a:lnTo>
                  <a:lnTo>
                    <a:pt x="17631" y="19157"/>
                  </a:lnTo>
                  <a:lnTo>
                    <a:pt x="16791" y="19691"/>
                  </a:lnTo>
                  <a:lnTo>
                    <a:pt x="15951" y="20302"/>
                  </a:lnTo>
                  <a:lnTo>
                    <a:pt x="15035" y="20684"/>
                  </a:lnTo>
                  <a:lnTo>
                    <a:pt x="13967" y="21065"/>
                  </a:lnTo>
                  <a:lnTo>
                    <a:pt x="12974" y="21370"/>
                  </a:lnTo>
                  <a:lnTo>
                    <a:pt x="11906" y="21523"/>
                  </a:lnTo>
                  <a:lnTo>
                    <a:pt x="10837" y="21600"/>
                  </a:lnTo>
                  <a:lnTo>
                    <a:pt x="10837" y="21600"/>
                  </a:lnTo>
                  <a:lnTo>
                    <a:pt x="9693" y="21523"/>
                  </a:lnTo>
                  <a:lnTo>
                    <a:pt x="8548" y="21370"/>
                  </a:lnTo>
                  <a:lnTo>
                    <a:pt x="7556" y="21065"/>
                  </a:lnTo>
                  <a:lnTo>
                    <a:pt x="6563" y="20684"/>
                  </a:lnTo>
                  <a:lnTo>
                    <a:pt x="5647" y="20302"/>
                  </a:lnTo>
                  <a:lnTo>
                    <a:pt x="4731" y="19691"/>
                  </a:lnTo>
                  <a:lnTo>
                    <a:pt x="3892" y="19157"/>
                  </a:lnTo>
                  <a:lnTo>
                    <a:pt x="3205" y="18394"/>
                  </a:lnTo>
                  <a:lnTo>
                    <a:pt x="2442" y="17707"/>
                  </a:lnTo>
                  <a:lnTo>
                    <a:pt x="1831" y="16715"/>
                  </a:lnTo>
                  <a:lnTo>
                    <a:pt x="1297" y="15875"/>
                  </a:lnTo>
                  <a:lnTo>
                    <a:pt x="839" y="15035"/>
                  </a:lnTo>
                  <a:lnTo>
                    <a:pt x="534" y="13967"/>
                  </a:lnTo>
                  <a:lnTo>
                    <a:pt x="228" y="12898"/>
                  </a:lnTo>
                  <a:lnTo>
                    <a:pt x="0" y="11830"/>
                  </a:lnTo>
                  <a:lnTo>
                    <a:pt x="0" y="10761"/>
                  </a:lnTo>
                  <a:lnTo>
                    <a:pt x="0" y="10761"/>
                  </a:lnTo>
                  <a:lnTo>
                    <a:pt x="0" y="9616"/>
                  </a:lnTo>
                  <a:lnTo>
                    <a:pt x="228" y="8548"/>
                  </a:lnTo>
                  <a:lnTo>
                    <a:pt x="534" y="7556"/>
                  </a:lnTo>
                  <a:lnTo>
                    <a:pt x="839" y="6487"/>
                  </a:lnTo>
                  <a:lnTo>
                    <a:pt x="1297" y="5571"/>
                  </a:lnTo>
                  <a:lnTo>
                    <a:pt x="1831" y="4731"/>
                  </a:lnTo>
                  <a:lnTo>
                    <a:pt x="2442" y="3892"/>
                  </a:lnTo>
                  <a:lnTo>
                    <a:pt x="3205" y="3129"/>
                  </a:lnTo>
                  <a:lnTo>
                    <a:pt x="3892" y="2442"/>
                  </a:lnTo>
                  <a:lnTo>
                    <a:pt x="4731" y="1755"/>
                  </a:lnTo>
                  <a:lnTo>
                    <a:pt x="5647" y="1297"/>
                  </a:lnTo>
                  <a:lnTo>
                    <a:pt x="6563" y="839"/>
                  </a:lnTo>
                  <a:lnTo>
                    <a:pt x="7556" y="457"/>
                  </a:lnTo>
                  <a:lnTo>
                    <a:pt x="8548" y="152"/>
                  </a:lnTo>
                  <a:lnTo>
                    <a:pt x="9693" y="0"/>
                  </a:lnTo>
                  <a:lnTo>
                    <a:pt x="10837" y="0"/>
                  </a:lnTo>
                  <a:lnTo>
                    <a:pt x="10837" y="0"/>
                  </a:lnTo>
                  <a:lnTo>
                    <a:pt x="11906" y="0"/>
                  </a:lnTo>
                  <a:lnTo>
                    <a:pt x="12974" y="152"/>
                  </a:lnTo>
                  <a:lnTo>
                    <a:pt x="13967" y="457"/>
                  </a:lnTo>
                  <a:lnTo>
                    <a:pt x="15035" y="839"/>
                  </a:lnTo>
                  <a:lnTo>
                    <a:pt x="15951" y="1297"/>
                  </a:lnTo>
                  <a:lnTo>
                    <a:pt x="16791" y="1755"/>
                  </a:lnTo>
                  <a:lnTo>
                    <a:pt x="17631" y="2442"/>
                  </a:lnTo>
                  <a:lnTo>
                    <a:pt x="18470" y="3129"/>
                  </a:lnTo>
                  <a:lnTo>
                    <a:pt x="19157" y="3892"/>
                  </a:lnTo>
                  <a:lnTo>
                    <a:pt x="19768" y="4731"/>
                  </a:lnTo>
                  <a:lnTo>
                    <a:pt x="20302" y="5571"/>
                  </a:lnTo>
                  <a:lnTo>
                    <a:pt x="20760" y="6487"/>
                  </a:lnTo>
                  <a:lnTo>
                    <a:pt x="21141" y="7556"/>
                  </a:lnTo>
                  <a:lnTo>
                    <a:pt x="21370" y="8548"/>
                  </a:lnTo>
                  <a:lnTo>
                    <a:pt x="21523" y="9616"/>
                  </a:lnTo>
                  <a:lnTo>
                    <a:pt x="21600" y="10761"/>
                  </a:lnTo>
                  <a:lnTo>
                    <a:pt x="21600" y="10761"/>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5" name="未知"/>
            <p:cNvSpPr/>
            <p:nvPr/>
          </p:nvSpPr>
          <p:spPr>
            <a:xfrm>
              <a:off x="6800400" y="1703880"/>
              <a:ext cx="807480" cy="806040"/>
            </a:xfrm>
            <a:custGeom>
              <a:avLst/>
              <a:gdLst/>
              <a:ahLst/>
              <a:rect l="l" t="t" r="r" b="b"/>
              <a:pathLst>
                <a:path w="21600" h="21600">
                  <a:moveTo>
                    <a:pt x="21600" y="10800"/>
                  </a:moveTo>
                  <a:lnTo>
                    <a:pt x="21600" y="10800"/>
                  </a:lnTo>
                  <a:lnTo>
                    <a:pt x="21600" y="11818"/>
                  </a:lnTo>
                  <a:lnTo>
                    <a:pt x="21395" y="12837"/>
                  </a:lnTo>
                  <a:lnTo>
                    <a:pt x="21192" y="13958"/>
                  </a:lnTo>
                  <a:lnTo>
                    <a:pt x="20784" y="14977"/>
                  </a:lnTo>
                  <a:lnTo>
                    <a:pt x="20275" y="15894"/>
                  </a:lnTo>
                  <a:lnTo>
                    <a:pt x="19765" y="16709"/>
                  </a:lnTo>
                  <a:lnTo>
                    <a:pt x="19154" y="17626"/>
                  </a:lnTo>
                  <a:lnTo>
                    <a:pt x="18441" y="18339"/>
                  </a:lnTo>
                  <a:lnTo>
                    <a:pt x="17727" y="19052"/>
                  </a:lnTo>
                  <a:lnTo>
                    <a:pt x="16811" y="19765"/>
                  </a:lnTo>
                  <a:lnTo>
                    <a:pt x="15894" y="20173"/>
                  </a:lnTo>
                  <a:lnTo>
                    <a:pt x="15079" y="20682"/>
                  </a:lnTo>
                  <a:lnTo>
                    <a:pt x="14060" y="21090"/>
                  </a:lnTo>
                  <a:lnTo>
                    <a:pt x="12939" y="21395"/>
                  </a:lnTo>
                  <a:lnTo>
                    <a:pt x="11920" y="21600"/>
                  </a:lnTo>
                  <a:lnTo>
                    <a:pt x="10800" y="21600"/>
                  </a:lnTo>
                  <a:lnTo>
                    <a:pt x="10800" y="21600"/>
                  </a:lnTo>
                  <a:lnTo>
                    <a:pt x="9679" y="21600"/>
                  </a:lnTo>
                  <a:lnTo>
                    <a:pt x="8660" y="21395"/>
                  </a:lnTo>
                  <a:lnTo>
                    <a:pt x="7641" y="21090"/>
                  </a:lnTo>
                  <a:lnTo>
                    <a:pt x="6622" y="20682"/>
                  </a:lnTo>
                  <a:lnTo>
                    <a:pt x="5705" y="20173"/>
                  </a:lnTo>
                  <a:lnTo>
                    <a:pt x="4788" y="19765"/>
                  </a:lnTo>
                  <a:lnTo>
                    <a:pt x="3871" y="19052"/>
                  </a:lnTo>
                  <a:lnTo>
                    <a:pt x="3158" y="18339"/>
                  </a:lnTo>
                  <a:lnTo>
                    <a:pt x="2445" y="17626"/>
                  </a:lnTo>
                  <a:lnTo>
                    <a:pt x="1833" y="16709"/>
                  </a:lnTo>
                  <a:lnTo>
                    <a:pt x="1426" y="15894"/>
                  </a:lnTo>
                  <a:lnTo>
                    <a:pt x="815" y="14977"/>
                  </a:lnTo>
                  <a:lnTo>
                    <a:pt x="509" y="13958"/>
                  </a:lnTo>
                  <a:lnTo>
                    <a:pt x="203" y="12837"/>
                  </a:lnTo>
                  <a:lnTo>
                    <a:pt x="0" y="11818"/>
                  </a:lnTo>
                  <a:lnTo>
                    <a:pt x="0" y="10800"/>
                  </a:lnTo>
                  <a:lnTo>
                    <a:pt x="0" y="10800"/>
                  </a:lnTo>
                  <a:lnTo>
                    <a:pt x="0" y="9577"/>
                  </a:lnTo>
                  <a:lnTo>
                    <a:pt x="203" y="8558"/>
                  </a:lnTo>
                  <a:lnTo>
                    <a:pt x="509" y="7539"/>
                  </a:lnTo>
                  <a:lnTo>
                    <a:pt x="815" y="6520"/>
                  </a:lnTo>
                  <a:lnTo>
                    <a:pt x="1426" y="5603"/>
                  </a:lnTo>
                  <a:lnTo>
                    <a:pt x="1833" y="4686"/>
                  </a:lnTo>
                  <a:lnTo>
                    <a:pt x="2445" y="3769"/>
                  </a:lnTo>
                  <a:lnTo>
                    <a:pt x="3158" y="3056"/>
                  </a:lnTo>
                  <a:lnTo>
                    <a:pt x="3871" y="2343"/>
                  </a:lnTo>
                  <a:lnTo>
                    <a:pt x="4788" y="1833"/>
                  </a:lnTo>
                  <a:lnTo>
                    <a:pt x="5705" y="1324"/>
                  </a:lnTo>
                  <a:lnTo>
                    <a:pt x="6622" y="712"/>
                  </a:lnTo>
                  <a:lnTo>
                    <a:pt x="7641" y="407"/>
                  </a:lnTo>
                  <a:lnTo>
                    <a:pt x="8660" y="101"/>
                  </a:lnTo>
                  <a:lnTo>
                    <a:pt x="9679" y="0"/>
                  </a:lnTo>
                  <a:lnTo>
                    <a:pt x="10800" y="0"/>
                  </a:lnTo>
                  <a:lnTo>
                    <a:pt x="10800" y="0"/>
                  </a:lnTo>
                  <a:lnTo>
                    <a:pt x="11920" y="0"/>
                  </a:lnTo>
                  <a:lnTo>
                    <a:pt x="12939" y="101"/>
                  </a:lnTo>
                  <a:lnTo>
                    <a:pt x="14060" y="407"/>
                  </a:lnTo>
                  <a:lnTo>
                    <a:pt x="15079" y="712"/>
                  </a:lnTo>
                  <a:lnTo>
                    <a:pt x="15894" y="1324"/>
                  </a:lnTo>
                  <a:lnTo>
                    <a:pt x="16811" y="1833"/>
                  </a:lnTo>
                  <a:lnTo>
                    <a:pt x="17727" y="2343"/>
                  </a:lnTo>
                  <a:lnTo>
                    <a:pt x="18441" y="3056"/>
                  </a:lnTo>
                  <a:lnTo>
                    <a:pt x="19154" y="3769"/>
                  </a:lnTo>
                  <a:lnTo>
                    <a:pt x="19765" y="4686"/>
                  </a:lnTo>
                  <a:lnTo>
                    <a:pt x="20275" y="5603"/>
                  </a:lnTo>
                  <a:lnTo>
                    <a:pt x="20784" y="6520"/>
                  </a:lnTo>
                  <a:lnTo>
                    <a:pt x="21192" y="7539"/>
                  </a:lnTo>
                  <a:lnTo>
                    <a:pt x="21395" y="8558"/>
                  </a:lnTo>
                  <a:lnTo>
                    <a:pt x="21600" y="9577"/>
                  </a:lnTo>
                  <a:lnTo>
                    <a:pt x="21600" y="10800"/>
                  </a:lnTo>
                  <a:lnTo>
                    <a:pt x="21600" y="1080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6" name="未知"/>
            <p:cNvSpPr/>
            <p:nvPr/>
          </p:nvSpPr>
          <p:spPr>
            <a:xfrm>
              <a:off x="6941160" y="1839960"/>
              <a:ext cx="528840" cy="530640"/>
            </a:xfrm>
            <a:custGeom>
              <a:avLst/>
              <a:gdLst/>
              <a:ahLst/>
              <a:rect l="l" t="t" r="r" b="b"/>
              <a:pathLst>
                <a:path w="21600" h="21600">
                  <a:moveTo>
                    <a:pt x="21600" y="10722"/>
                  </a:moveTo>
                  <a:lnTo>
                    <a:pt x="21600" y="10722"/>
                  </a:lnTo>
                  <a:lnTo>
                    <a:pt x="21600" y="11965"/>
                  </a:lnTo>
                  <a:lnTo>
                    <a:pt x="21444" y="13053"/>
                  </a:lnTo>
                  <a:lnTo>
                    <a:pt x="21133" y="13985"/>
                  </a:lnTo>
                  <a:lnTo>
                    <a:pt x="20667" y="15073"/>
                  </a:lnTo>
                  <a:lnTo>
                    <a:pt x="20356" y="16005"/>
                  </a:lnTo>
                  <a:lnTo>
                    <a:pt x="19735" y="16937"/>
                  </a:lnTo>
                  <a:lnTo>
                    <a:pt x="19113" y="17714"/>
                  </a:lnTo>
                  <a:lnTo>
                    <a:pt x="18336" y="18491"/>
                  </a:lnTo>
                  <a:lnTo>
                    <a:pt x="17714" y="19113"/>
                  </a:lnTo>
                  <a:lnTo>
                    <a:pt x="16937" y="19735"/>
                  </a:lnTo>
                  <a:lnTo>
                    <a:pt x="15850" y="20356"/>
                  </a:lnTo>
                  <a:lnTo>
                    <a:pt x="15073" y="20822"/>
                  </a:lnTo>
                  <a:lnTo>
                    <a:pt x="13985" y="21289"/>
                  </a:lnTo>
                  <a:lnTo>
                    <a:pt x="12897" y="21444"/>
                  </a:lnTo>
                  <a:lnTo>
                    <a:pt x="11965" y="21600"/>
                  </a:lnTo>
                  <a:lnTo>
                    <a:pt x="10722" y="21600"/>
                  </a:lnTo>
                  <a:lnTo>
                    <a:pt x="10722" y="21600"/>
                  </a:lnTo>
                  <a:lnTo>
                    <a:pt x="9789" y="21600"/>
                  </a:lnTo>
                  <a:lnTo>
                    <a:pt x="8701" y="21444"/>
                  </a:lnTo>
                  <a:lnTo>
                    <a:pt x="7614" y="21289"/>
                  </a:lnTo>
                  <a:lnTo>
                    <a:pt x="6681" y="20822"/>
                  </a:lnTo>
                  <a:lnTo>
                    <a:pt x="5594" y="20356"/>
                  </a:lnTo>
                  <a:lnTo>
                    <a:pt x="4661" y="19735"/>
                  </a:lnTo>
                  <a:lnTo>
                    <a:pt x="3884" y="19113"/>
                  </a:lnTo>
                  <a:lnTo>
                    <a:pt x="3263" y="18491"/>
                  </a:lnTo>
                  <a:lnTo>
                    <a:pt x="2330" y="17714"/>
                  </a:lnTo>
                  <a:lnTo>
                    <a:pt x="1709" y="16937"/>
                  </a:lnTo>
                  <a:lnTo>
                    <a:pt x="1242" y="16005"/>
                  </a:lnTo>
                  <a:lnTo>
                    <a:pt x="932" y="15073"/>
                  </a:lnTo>
                  <a:lnTo>
                    <a:pt x="466" y="13985"/>
                  </a:lnTo>
                  <a:lnTo>
                    <a:pt x="155" y="13053"/>
                  </a:lnTo>
                  <a:lnTo>
                    <a:pt x="0" y="11965"/>
                  </a:lnTo>
                  <a:lnTo>
                    <a:pt x="0" y="10722"/>
                  </a:lnTo>
                  <a:lnTo>
                    <a:pt x="0" y="10722"/>
                  </a:lnTo>
                  <a:lnTo>
                    <a:pt x="0" y="9789"/>
                  </a:lnTo>
                  <a:lnTo>
                    <a:pt x="155" y="8701"/>
                  </a:lnTo>
                  <a:lnTo>
                    <a:pt x="466" y="7769"/>
                  </a:lnTo>
                  <a:lnTo>
                    <a:pt x="932" y="6681"/>
                  </a:lnTo>
                  <a:lnTo>
                    <a:pt x="1242" y="5594"/>
                  </a:lnTo>
                  <a:lnTo>
                    <a:pt x="1709" y="4816"/>
                  </a:lnTo>
                  <a:lnTo>
                    <a:pt x="2330" y="3884"/>
                  </a:lnTo>
                  <a:lnTo>
                    <a:pt x="3263" y="3263"/>
                  </a:lnTo>
                  <a:lnTo>
                    <a:pt x="3884" y="2486"/>
                  </a:lnTo>
                  <a:lnTo>
                    <a:pt x="4661" y="1864"/>
                  </a:lnTo>
                  <a:lnTo>
                    <a:pt x="5594" y="1242"/>
                  </a:lnTo>
                  <a:lnTo>
                    <a:pt x="6681" y="932"/>
                  </a:lnTo>
                  <a:lnTo>
                    <a:pt x="7614" y="466"/>
                  </a:lnTo>
                  <a:lnTo>
                    <a:pt x="8701" y="155"/>
                  </a:lnTo>
                  <a:lnTo>
                    <a:pt x="9789" y="0"/>
                  </a:lnTo>
                  <a:lnTo>
                    <a:pt x="10722" y="0"/>
                  </a:lnTo>
                  <a:lnTo>
                    <a:pt x="10722" y="0"/>
                  </a:lnTo>
                  <a:lnTo>
                    <a:pt x="11965" y="0"/>
                  </a:lnTo>
                  <a:lnTo>
                    <a:pt x="12897" y="155"/>
                  </a:lnTo>
                  <a:lnTo>
                    <a:pt x="13985" y="466"/>
                  </a:lnTo>
                  <a:lnTo>
                    <a:pt x="15073" y="932"/>
                  </a:lnTo>
                  <a:lnTo>
                    <a:pt x="15850" y="1242"/>
                  </a:lnTo>
                  <a:lnTo>
                    <a:pt x="16937" y="1864"/>
                  </a:lnTo>
                  <a:lnTo>
                    <a:pt x="17714" y="2486"/>
                  </a:lnTo>
                  <a:lnTo>
                    <a:pt x="18336" y="3263"/>
                  </a:lnTo>
                  <a:lnTo>
                    <a:pt x="19113" y="3884"/>
                  </a:lnTo>
                  <a:lnTo>
                    <a:pt x="19735" y="4816"/>
                  </a:lnTo>
                  <a:lnTo>
                    <a:pt x="20356" y="5594"/>
                  </a:lnTo>
                  <a:lnTo>
                    <a:pt x="20667" y="6681"/>
                  </a:lnTo>
                  <a:lnTo>
                    <a:pt x="21133" y="7769"/>
                  </a:lnTo>
                  <a:lnTo>
                    <a:pt x="21444" y="8701"/>
                  </a:lnTo>
                  <a:lnTo>
                    <a:pt x="21600" y="9789"/>
                  </a:lnTo>
                  <a:lnTo>
                    <a:pt x="21600" y="10722"/>
                  </a:lnTo>
                  <a:lnTo>
                    <a:pt x="21600" y="10722"/>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7" name="未知"/>
            <p:cNvSpPr/>
            <p:nvPr/>
          </p:nvSpPr>
          <p:spPr>
            <a:xfrm>
              <a:off x="5818320" y="503280"/>
              <a:ext cx="1477440" cy="1477800"/>
            </a:xfrm>
            <a:custGeom>
              <a:avLst/>
              <a:gdLst/>
              <a:ahLst/>
              <a:rect l="l" t="t" r="r" b="b"/>
              <a:pathLst>
                <a:path w="21600" h="21600">
                  <a:moveTo>
                    <a:pt x="21600" y="10744"/>
                  </a:moveTo>
                  <a:lnTo>
                    <a:pt x="21600" y="10744"/>
                  </a:lnTo>
                  <a:lnTo>
                    <a:pt x="21600" y="11300"/>
                  </a:lnTo>
                  <a:lnTo>
                    <a:pt x="21544" y="11857"/>
                  </a:lnTo>
                  <a:lnTo>
                    <a:pt x="21377" y="12915"/>
                  </a:lnTo>
                  <a:lnTo>
                    <a:pt x="21098" y="14028"/>
                  </a:lnTo>
                  <a:lnTo>
                    <a:pt x="20764" y="14975"/>
                  </a:lnTo>
                  <a:lnTo>
                    <a:pt x="20263" y="15921"/>
                  </a:lnTo>
                  <a:lnTo>
                    <a:pt x="19762" y="16867"/>
                  </a:lnTo>
                  <a:lnTo>
                    <a:pt x="19150" y="17647"/>
                  </a:lnTo>
                  <a:lnTo>
                    <a:pt x="18426" y="18426"/>
                  </a:lnTo>
                  <a:lnTo>
                    <a:pt x="17647" y="19094"/>
                  </a:lnTo>
                  <a:lnTo>
                    <a:pt x="16867" y="19762"/>
                  </a:lnTo>
                  <a:lnTo>
                    <a:pt x="15921" y="20263"/>
                  </a:lnTo>
                  <a:lnTo>
                    <a:pt x="14975" y="20709"/>
                  </a:lnTo>
                  <a:lnTo>
                    <a:pt x="14028" y="21098"/>
                  </a:lnTo>
                  <a:lnTo>
                    <a:pt x="12915" y="21377"/>
                  </a:lnTo>
                  <a:lnTo>
                    <a:pt x="11857" y="21544"/>
                  </a:lnTo>
                  <a:lnTo>
                    <a:pt x="11356" y="21600"/>
                  </a:lnTo>
                  <a:lnTo>
                    <a:pt x="10744" y="21600"/>
                  </a:lnTo>
                  <a:lnTo>
                    <a:pt x="10744" y="21600"/>
                  </a:lnTo>
                  <a:lnTo>
                    <a:pt x="10187" y="21600"/>
                  </a:lnTo>
                  <a:lnTo>
                    <a:pt x="9742" y="21544"/>
                  </a:lnTo>
                  <a:lnTo>
                    <a:pt x="8628" y="21377"/>
                  </a:lnTo>
                  <a:lnTo>
                    <a:pt x="7571" y="21098"/>
                  </a:lnTo>
                  <a:lnTo>
                    <a:pt x="6624" y="20709"/>
                  </a:lnTo>
                  <a:lnTo>
                    <a:pt x="5622" y="20263"/>
                  </a:lnTo>
                  <a:lnTo>
                    <a:pt x="4731" y="19762"/>
                  </a:lnTo>
                  <a:lnTo>
                    <a:pt x="3896" y="19094"/>
                  </a:lnTo>
                  <a:lnTo>
                    <a:pt x="3172" y="18426"/>
                  </a:lnTo>
                  <a:lnTo>
                    <a:pt x="2449" y="17647"/>
                  </a:lnTo>
                  <a:lnTo>
                    <a:pt x="1836" y="16867"/>
                  </a:lnTo>
                  <a:lnTo>
                    <a:pt x="1280" y="15921"/>
                  </a:lnTo>
                  <a:lnTo>
                    <a:pt x="834" y="14975"/>
                  </a:lnTo>
                  <a:lnTo>
                    <a:pt x="445" y="14028"/>
                  </a:lnTo>
                  <a:lnTo>
                    <a:pt x="222" y="12915"/>
                  </a:lnTo>
                  <a:lnTo>
                    <a:pt x="55" y="11857"/>
                  </a:lnTo>
                  <a:lnTo>
                    <a:pt x="0" y="11300"/>
                  </a:lnTo>
                  <a:lnTo>
                    <a:pt x="0" y="10744"/>
                  </a:lnTo>
                  <a:lnTo>
                    <a:pt x="0" y="10744"/>
                  </a:lnTo>
                  <a:lnTo>
                    <a:pt x="0" y="10187"/>
                  </a:lnTo>
                  <a:lnTo>
                    <a:pt x="55" y="9686"/>
                  </a:lnTo>
                  <a:lnTo>
                    <a:pt x="222" y="8572"/>
                  </a:lnTo>
                  <a:lnTo>
                    <a:pt x="445" y="7515"/>
                  </a:lnTo>
                  <a:lnTo>
                    <a:pt x="834" y="6624"/>
                  </a:lnTo>
                  <a:lnTo>
                    <a:pt x="1280" y="5622"/>
                  </a:lnTo>
                  <a:lnTo>
                    <a:pt x="1836" y="4731"/>
                  </a:lnTo>
                  <a:lnTo>
                    <a:pt x="2449" y="3841"/>
                  </a:lnTo>
                  <a:lnTo>
                    <a:pt x="3172" y="3117"/>
                  </a:lnTo>
                  <a:lnTo>
                    <a:pt x="3896" y="2449"/>
                  </a:lnTo>
                  <a:lnTo>
                    <a:pt x="4731" y="1836"/>
                  </a:lnTo>
                  <a:lnTo>
                    <a:pt x="5622" y="1224"/>
                  </a:lnTo>
                  <a:lnTo>
                    <a:pt x="6624" y="834"/>
                  </a:lnTo>
                  <a:lnTo>
                    <a:pt x="7571" y="445"/>
                  </a:lnTo>
                  <a:lnTo>
                    <a:pt x="8628" y="166"/>
                  </a:lnTo>
                  <a:lnTo>
                    <a:pt x="9742" y="0"/>
                  </a:lnTo>
                  <a:lnTo>
                    <a:pt x="10187" y="0"/>
                  </a:lnTo>
                  <a:lnTo>
                    <a:pt x="10744" y="0"/>
                  </a:lnTo>
                  <a:lnTo>
                    <a:pt x="10744" y="0"/>
                  </a:lnTo>
                  <a:lnTo>
                    <a:pt x="11356" y="0"/>
                  </a:lnTo>
                  <a:lnTo>
                    <a:pt x="11857" y="0"/>
                  </a:lnTo>
                  <a:lnTo>
                    <a:pt x="12915" y="166"/>
                  </a:lnTo>
                  <a:lnTo>
                    <a:pt x="14028" y="445"/>
                  </a:lnTo>
                  <a:lnTo>
                    <a:pt x="14975" y="834"/>
                  </a:lnTo>
                  <a:lnTo>
                    <a:pt x="15921" y="1224"/>
                  </a:lnTo>
                  <a:lnTo>
                    <a:pt x="16867" y="1836"/>
                  </a:lnTo>
                  <a:lnTo>
                    <a:pt x="17647" y="2449"/>
                  </a:lnTo>
                  <a:lnTo>
                    <a:pt x="18426" y="3117"/>
                  </a:lnTo>
                  <a:lnTo>
                    <a:pt x="19150" y="3841"/>
                  </a:lnTo>
                  <a:lnTo>
                    <a:pt x="19762" y="4731"/>
                  </a:lnTo>
                  <a:lnTo>
                    <a:pt x="20263" y="5622"/>
                  </a:lnTo>
                  <a:lnTo>
                    <a:pt x="20764" y="6624"/>
                  </a:lnTo>
                  <a:lnTo>
                    <a:pt x="21098" y="7515"/>
                  </a:lnTo>
                  <a:lnTo>
                    <a:pt x="21377" y="8572"/>
                  </a:lnTo>
                  <a:lnTo>
                    <a:pt x="21544" y="9686"/>
                  </a:lnTo>
                  <a:lnTo>
                    <a:pt x="21600" y="10187"/>
                  </a:lnTo>
                  <a:lnTo>
                    <a:pt x="21600" y="10744"/>
                  </a:lnTo>
                  <a:lnTo>
                    <a:pt x="21600" y="10744"/>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8" name="未知"/>
            <p:cNvSpPr/>
            <p:nvPr/>
          </p:nvSpPr>
          <p:spPr>
            <a:xfrm>
              <a:off x="6004440" y="689400"/>
              <a:ext cx="1108080" cy="1108440"/>
            </a:xfrm>
            <a:custGeom>
              <a:avLst/>
              <a:gdLst/>
              <a:ahLst/>
              <a:rect l="l" t="t" r="r" b="b"/>
              <a:pathLst>
                <a:path w="21600" h="21600">
                  <a:moveTo>
                    <a:pt x="21600" y="10762"/>
                  </a:moveTo>
                  <a:lnTo>
                    <a:pt x="21600" y="10762"/>
                  </a:lnTo>
                  <a:lnTo>
                    <a:pt x="21525" y="11876"/>
                  </a:lnTo>
                  <a:lnTo>
                    <a:pt x="21303" y="12915"/>
                  </a:lnTo>
                  <a:lnTo>
                    <a:pt x="21006" y="13954"/>
                  </a:lnTo>
                  <a:lnTo>
                    <a:pt x="20709" y="14993"/>
                  </a:lnTo>
                  <a:lnTo>
                    <a:pt x="20263" y="15884"/>
                  </a:lnTo>
                  <a:lnTo>
                    <a:pt x="19669" y="16849"/>
                  </a:lnTo>
                  <a:lnTo>
                    <a:pt x="19076" y="17665"/>
                  </a:lnTo>
                  <a:lnTo>
                    <a:pt x="18333" y="18407"/>
                  </a:lnTo>
                  <a:lnTo>
                    <a:pt x="17591" y="19076"/>
                  </a:lnTo>
                  <a:lnTo>
                    <a:pt x="16849" y="19744"/>
                  </a:lnTo>
                  <a:lnTo>
                    <a:pt x="15810" y="20263"/>
                  </a:lnTo>
                  <a:lnTo>
                    <a:pt x="14919" y="20709"/>
                  </a:lnTo>
                  <a:lnTo>
                    <a:pt x="13954" y="21080"/>
                  </a:lnTo>
                  <a:lnTo>
                    <a:pt x="12915" y="21377"/>
                  </a:lnTo>
                  <a:lnTo>
                    <a:pt x="11801" y="21525"/>
                  </a:lnTo>
                  <a:lnTo>
                    <a:pt x="10688" y="21600"/>
                  </a:lnTo>
                  <a:lnTo>
                    <a:pt x="10688" y="21600"/>
                  </a:lnTo>
                  <a:lnTo>
                    <a:pt x="9649" y="21525"/>
                  </a:lnTo>
                  <a:lnTo>
                    <a:pt x="8536" y="21377"/>
                  </a:lnTo>
                  <a:lnTo>
                    <a:pt x="7571" y="21080"/>
                  </a:lnTo>
                  <a:lnTo>
                    <a:pt x="6605" y="20709"/>
                  </a:lnTo>
                  <a:lnTo>
                    <a:pt x="5566" y="20263"/>
                  </a:lnTo>
                  <a:lnTo>
                    <a:pt x="4676" y="19744"/>
                  </a:lnTo>
                  <a:lnTo>
                    <a:pt x="3933" y="19076"/>
                  </a:lnTo>
                  <a:lnTo>
                    <a:pt x="3117" y="18407"/>
                  </a:lnTo>
                  <a:lnTo>
                    <a:pt x="2449" y="17665"/>
                  </a:lnTo>
                  <a:lnTo>
                    <a:pt x="1781" y="16849"/>
                  </a:lnTo>
                  <a:lnTo>
                    <a:pt x="1261" y="15884"/>
                  </a:lnTo>
                  <a:lnTo>
                    <a:pt x="816" y="14993"/>
                  </a:lnTo>
                  <a:lnTo>
                    <a:pt x="445" y="13954"/>
                  </a:lnTo>
                  <a:lnTo>
                    <a:pt x="222" y="12915"/>
                  </a:lnTo>
                  <a:lnTo>
                    <a:pt x="0" y="11876"/>
                  </a:lnTo>
                  <a:lnTo>
                    <a:pt x="0" y="10762"/>
                  </a:lnTo>
                  <a:lnTo>
                    <a:pt x="0" y="10762"/>
                  </a:lnTo>
                  <a:lnTo>
                    <a:pt x="0" y="9723"/>
                  </a:lnTo>
                  <a:lnTo>
                    <a:pt x="222" y="8610"/>
                  </a:lnTo>
                  <a:lnTo>
                    <a:pt x="445" y="7571"/>
                  </a:lnTo>
                  <a:lnTo>
                    <a:pt x="816" y="6605"/>
                  </a:lnTo>
                  <a:lnTo>
                    <a:pt x="1261" y="5640"/>
                  </a:lnTo>
                  <a:lnTo>
                    <a:pt x="1781" y="4750"/>
                  </a:lnTo>
                  <a:lnTo>
                    <a:pt x="2449" y="3933"/>
                  </a:lnTo>
                  <a:lnTo>
                    <a:pt x="3117" y="3191"/>
                  </a:lnTo>
                  <a:lnTo>
                    <a:pt x="3933" y="2449"/>
                  </a:lnTo>
                  <a:lnTo>
                    <a:pt x="4676" y="1855"/>
                  </a:lnTo>
                  <a:lnTo>
                    <a:pt x="5566" y="1261"/>
                  </a:lnTo>
                  <a:lnTo>
                    <a:pt x="6605" y="890"/>
                  </a:lnTo>
                  <a:lnTo>
                    <a:pt x="7571" y="519"/>
                  </a:lnTo>
                  <a:lnTo>
                    <a:pt x="8536" y="222"/>
                  </a:lnTo>
                  <a:lnTo>
                    <a:pt x="9649" y="0"/>
                  </a:lnTo>
                  <a:lnTo>
                    <a:pt x="10688" y="0"/>
                  </a:lnTo>
                  <a:lnTo>
                    <a:pt x="10688" y="0"/>
                  </a:lnTo>
                  <a:lnTo>
                    <a:pt x="11801" y="0"/>
                  </a:lnTo>
                  <a:lnTo>
                    <a:pt x="12915" y="222"/>
                  </a:lnTo>
                  <a:lnTo>
                    <a:pt x="13954" y="519"/>
                  </a:lnTo>
                  <a:lnTo>
                    <a:pt x="14919" y="890"/>
                  </a:lnTo>
                  <a:lnTo>
                    <a:pt x="15810" y="1261"/>
                  </a:lnTo>
                  <a:lnTo>
                    <a:pt x="16849" y="1855"/>
                  </a:lnTo>
                  <a:lnTo>
                    <a:pt x="17591" y="2449"/>
                  </a:lnTo>
                  <a:lnTo>
                    <a:pt x="18333" y="3191"/>
                  </a:lnTo>
                  <a:lnTo>
                    <a:pt x="19076" y="3933"/>
                  </a:lnTo>
                  <a:lnTo>
                    <a:pt x="19669" y="4750"/>
                  </a:lnTo>
                  <a:lnTo>
                    <a:pt x="20263" y="5640"/>
                  </a:lnTo>
                  <a:lnTo>
                    <a:pt x="20709" y="6605"/>
                  </a:lnTo>
                  <a:lnTo>
                    <a:pt x="21006" y="7571"/>
                  </a:lnTo>
                  <a:lnTo>
                    <a:pt x="21303" y="8610"/>
                  </a:lnTo>
                  <a:lnTo>
                    <a:pt x="21525" y="9723"/>
                  </a:lnTo>
                  <a:lnTo>
                    <a:pt x="21600" y="10762"/>
                  </a:lnTo>
                  <a:lnTo>
                    <a:pt x="21600" y="10762"/>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9" name="未知"/>
            <p:cNvSpPr/>
            <p:nvPr/>
          </p:nvSpPr>
          <p:spPr>
            <a:xfrm>
              <a:off x="6199200" y="880920"/>
              <a:ext cx="718200" cy="723960"/>
            </a:xfrm>
            <a:custGeom>
              <a:avLst/>
              <a:gdLst/>
              <a:ahLst/>
              <a:rect l="l" t="t" r="r" b="b"/>
              <a:pathLst>
                <a:path w="21600" h="21600">
                  <a:moveTo>
                    <a:pt x="21600" y="10800"/>
                  </a:moveTo>
                  <a:lnTo>
                    <a:pt x="21600" y="10800"/>
                  </a:lnTo>
                  <a:lnTo>
                    <a:pt x="21600" y="11936"/>
                  </a:lnTo>
                  <a:lnTo>
                    <a:pt x="21371" y="12959"/>
                  </a:lnTo>
                  <a:lnTo>
                    <a:pt x="21142" y="13982"/>
                  </a:lnTo>
                  <a:lnTo>
                    <a:pt x="20799" y="15119"/>
                  </a:lnTo>
                  <a:lnTo>
                    <a:pt x="20342" y="15915"/>
                  </a:lnTo>
                  <a:lnTo>
                    <a:pt x="19771" y="16825"/>
                  </a:lnTo>
                  <a:lnTo>
                    <a:pt x="19199" y="17620"/>
                  </a:lnTo>
                  <a:lnTo>
                    <a:pt x="18399" y="18416"/>
                  </a:lnTo>
                  <a:lnTo>
                    <a:pt x="17599" y="19098"/>
                  </a:lnTo>
                  <a:lnTo>
                    <a:pt x="16799" y="19780"/>
                  </a:lnTo>
                  <a:lnTo>
                    <a:pt x="15885" y="20349"/>
                  </a:lnTo>
                  <a:lnTo>
                    <a:pt x="15085" y="20804"/>
                  </a:lnTo>
                  <a:lnTo>
                    <a:pt x="14057" y="21145"/>
                  </a:lnTo>
                  <a:lnTo>
                    <a:pt x="12913" y="21372"/>
                  </a:lnTo>
                  <a:lnTo>
                    <a:pt x="11999" y="21600"/>
                  </a:lnTo>
                  <a:lnTo>
                    <a:pt x="10742" y="21600"/>
                  </a:lnTo>
                  <a:lnTo>
                    <a:pt x="10742" y="21600"/>
                  </a:lnTo>
                  <a:lnTo>
                    <a:pt x="9714" y="21600"/>
                  </a:lnTo>
                  <a:lnTo>
                    <a:pt x="8571" y="21372"/>
                  </a:lnTo>
                  <a:lnTo>
                    <a:pt x="7542" y="21145"/>
                  </a:lnTo>
                  <a:lnTo>
                    <a:pt x="6628" y="20804"/>
                  </a:lnTo>
                  <a:lnTo>
                    <a:pt x="5599" y="20349"/>
                  </a:lnTo>
                  <a:lnTo>
                    <a:pt x="4799" y="19780"/>
                  </a:lnTo>
                  <a:lnTo>
                    <a:pt x="3999" y="19098"/>
                  </a:lnTo>
                  <a:lnTo>
                    <a:pt x="3199" y="18416"/>
                  </a:lnTo>
                  <a:lnTo>
                    <a:pt x="2399" y="17620"/>
                  </a:lnTo>
                  <a:lnTo>
                    <a:pt x="1828" y="16825"/>
                  </a:lnTo>
                  <a:lnTo>
                    <a:pt x="1371" y="15915"/>
                  </a:lnTo>
                  <a:lnTo>
                    <a:pt x="799" y="15119"/>
                  </a:lnTo>
                  <a:lnTo>
                    <a:pt x="571" y="13982"/>
                  </a:lnTo>
                  <a:lnTo>
                    <a:pt x="228" y="12959"/>
                  </a:lnTo>
                  <a:lnTo>
                    <a:pt x="0" y="11936"/>
                  </a:lnTo>
                  <a:lnTo>
                    <a:pt x="0" y="10800"/>
                  </a:lnTo>
                  <a:lnTo>
                    <a:pt x="0" y="10800"/>
                  </a:lnTo>
                  <a:lnTo>
                    <a:pt x="0" y="9662"/>
                  </a:lnTo>
                  <a:lnTo>
                    <a:pt x="228" y="8639"/>
                  </a:lnTo>
                  <a:lnTo>
                    <a:pt x="571" y="7616"/>
                  </a:lnTo>
                  <a:lnTo>
                    <a:pt x="799" y="6593"/>
                  </a:lnTo>
                  <a:lnTo>
                    <a:pt x="1371" y="5570"/>
                  </a:lnTo>
                  <a:lnTo>
                    <a:pt x="1828" y="4774"/>
                  </a:lnTo>
                  <a:lnTo>
                    <a:pt x="2399" y="3978"/>
                  </a:lnTo>
                  <a:lnTo>
                    <a:pt x="3199" y="3182"/>
                  </a:lnTo>
                  <a:lnTo>
                    <a:pt x="3999" y="2387"/>
                  </a:lnTo>
                  <a:lnTo>
                    <a:pt x="4799" y="1818"/>
                  </a:lnTo>
                  <a:lnTo>
                    <a:pt x="5599" y="1364"/>
                  </a:lnTo>
                  <a:lnTo>
                    <a:pt x="6628" y="795"/>
                  </a:lnTo>
                  <a:lnTo>
                    <a:pt x="7542" y="568"/>
                  </a:lnTo>
                  <a:lnTo>
                    <a:pt x="8571" y="227"/>
                  </a:lnTo>
                  <a:lnTo>
                    <a:pt x="9714" y="0"/>
                  </a:lnTo>
                  <a:lnTo>
                    <a:pt x="10742" y="0"/>
                  </a:lnTo>
                  <a:lnTo>
                    <a:pt x="10742" y="0"/>
                  </a:lnTo>
                  <a:lnTo>
                    <a:pt x="11999" y="0"/>
                  </a:lnTo>
                  <a:lnTo>
                    <a:pt x="12913" y="227"/>
                  </a:lnTo>
                  <a:lnTo>
                    <a:pt x="14057" y="568"/>
                  </a:lnTo>
                  <a:lnTo>
                    <a:pt x="15085" y="795"/>
                  </a:lnTo>
                  <a:lnTo>
                    <a:pt x="15885" y="1364"/>
                  </a:lnTo>
                  <a:lnTo>
                    <a:pt x="16799" y="1818"/>
                  </a:lnTo>
                  <a:lnTo>
                    <a:pt x="17599" y="2387"/>
                  </a:lnTo>
                  <a:lnTo>
                    <a:pt x="18399" y="3182"/>
                  </a:lnTo>
                  <a:lnTo>
                    <a:pt x="19199" y="3978"/>
                  </a:lnTo>
                  <a:lnTo>
                    <a:pt x="19771" y="4774"/>
                  </a:lnTo>
                  <a:lnTo>
                    <a:pt x="20342" y="5570"/>
                  </a:lnTo>
                  <a:lnTo>
                    <a:pt x="20799" y="6593"/>
                  </a:lnTo>
                  <a:lnTo>
                    <a:pt x="21142" y="7616"/>
                  </a:lnTo>
                  <a:lnTo>
                    <a:pt x="21371" y="8639"/>
                  </a:lnTo>
                  <a:lnTo>
                    <a:pt x="21600" y="9662"/>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320" name=""/>
          <p:cNvGrpSpPr/>
          <p:nvPr/>
        </p:nvGrpSpPr>
        <p:grpSpPr>
          <a:xfrm>
            <a:off x="7543800" y="4033800"/>
            <a:ext cx="766440" cy="766440"/>
            <a:chOff x="7543800" y="4033800"/>
            <a:chExt cx="766440" cy="766440"/>
          </a:xfrm>
        </p:grpSpPr>
        <p:sp>
          <p:nvSpPr>
            <p:cNvPr id="321" name="未知"/>
            <p:cNvSpPr/>
            <p:nvPr/>
          </p:nvSpPr>
          <p:spPr>
            <a:xfrm>
              <a:off x="7543800" y="4033800"/>
              <a:ext cx="766440" cy="766440"/>
            </a:xfrm>
            <a:custGeom>
              <a:avLst/>
              <a:gdLst/>
              <a:ahLst/>
              <a:rect l="l" t="t" r="r" b="b"/>
              <a:pathLst>
                <a:path w="21600" h="21600">
                  <a:moveTo>
                    <a:pt x="21600" y="10745"/>
                  </a:moveTo>
                  <a:lnTo>
                    <a:pt x="21600" y="10745"/>
                  </a:lnTo>
                  <a:lnTo>
                    <a:pt x="21492" y="11820"/>
                  </a:lnTo>
                  <a:lnTo>
                    <a:pt x="21384" y="12895"/>
                  </a:lnTo>
                  <a:lnTo>
                    <a:pt x="21062" y="13969"/>
                  </a:lnTo>
                  <a:lnTo>
                    <a:pt x="20632" y="14937"/>
                  </a:lnTo>
                  <a:lnTo>
                    <a:pt x="20310" y="15904"/>
                  </a:lnTo>
                  <a:lnTo>
                    <a:pt x="19665" y="16763"/>
                  </a:lnTo>
                  <a:lnTo>
                    <a:pt x="19128" y="17623"/>
                  </a:lnTo>
                  <a:lnTo>
                    <a:pt x="18483" y="18375"/>
                  </a:lnTo>
                  <a:lnTo>
                    <a:pt x="17623" y="19128"/>
                  </a:lnTo>
                  <a:lnTo>
                    <a:pt x="16871" y="19665"/>
                  </a:lnTo>
                  <a:lnTo>
                    <a:pt x="15904" y="20202"/>
                  </a:lnTo>
                  <a:lnTo>
                    <a:pt x="15044" y="20632"/>
                  </a:lnTo>
                  <a:lnTo>
                    <a:pt x="13969" y="21062"/>
                  </a:lnTo>
                  <a:lnTo>
                    <a:pt x="13002" y="21384"/>
                  </a:lnTo>
                  <a:lnTo>
                    <a:pt x="11820" y="21492"/>
                  </a:lnTo>
                  <a:lnTo>
                    <a:pt x="10745" y="21600"/>
                  </a:lnTo>
                  <a:lnTo>
                    <a:pt x="10745" y="21600"/>
                  </a:lnTo>
                  <a:lnTo>
                    <a:pt x="9671" y="21492"/>
                  </a:lnTo>
                  <a:lnTo>
                    <a:pt x="8596" y="21384"/>
                  </a:lnTo>
                  <a:lnTo>
                    <a:pt x="7629" y="21062"/>
                  </a:lnTo>
                  <a:lnTo>
                    <a:pt x="6555" y="20632"/>
                  </a:lnTo>
                  <a:lnTo>
                    <a:pt x="5587" y="20202"/>
                  </a:lnTo>
                  <a:lnTo>
                    <a:pt x="4620" y="19665"/>
                  </a:lnTo>
                  <a:lnTo>
                    <a:pt x="3868" y="19128"/>
                  </a:lnTo>
                  <a:lnTo>
                    <a:pt x="3116" y="18375"/>
                  </a:lnTo>
                  <a:lnTo>
                    <a:pt x="2471" y="17623"/>
                  </a:lnTo>
                  <a:lnTo>
                    <a:pt x="1826" y="16763"/>
                  </a:lnTo>
                  <a:lnTo>
                    <a:pt x="1289" y="15904"/>
                  </a:lnTo>
                  <a:lnTo>
                    <a:pt x="859" y="14937"/>
                  </a:lnTo>
                  <a:lnTo>
                    <a:pt x="537" y="13969"/>
                  </a:lnTo>
                  <a:lnTo>
                    <a:pt x="214" y="12895"/>
                  </a:lnTo>
                  <a:lnTo>
                    <a:pt x="0" y="11820"/>
                  </a:lnTo>
                  <a:lnTo>
                    <a:pt x="0" y="10745"/>
                  </a:lnTo>
                  <a:lnTo>
                    <a:pt x="0" y="10745"/>
                  </a:lnTo>
                  <a:lnTo>
                    <a:pt x="0" y="9564"/>
                  </a:lnTo>
                  <a:lnTo>
                    <a:pt x="214" y="8596"/>
                  </a:lnTo>
                  <a:lnTo>
                    <a:pt x="537" y="7522"/>
                  </a:lnTo>
                  <a:lnTo>
                    <a:pt x="859" y="6555"/>
                  </a:lnTo>
                  <a:lnTo>
                    <a:pt x="1289" y="5587"/>
                  </a:lnTo>
                  <a:lnTo>
                    <a:pt x="1826" y="4620"/>
                  </a:lnTo>
                  <a:lnTo>
                    <a:pt x="2471" y="3868"/>
                  </a:lnTo>
                  <a:lnTo>
                    <a:pt x="3116" y="3116"/>
                  </a:lnTo>
                  <a:lnTo>
                    <a:pt x="3868" y="2364"/>
                  </a:lnTo>
                  <a:lnTo>
                    <a:pt x="4620" y="1826"/>
                  </a:lnTo>
                  <a:lnTo>
                    <a:pt x="5587" y="1289"/>
                  </a:lnTo>
                  <a:lnTo>
                    <a:pt x="6555" y="752"/>
                  </a:lnTo>
                  <a:lnTo>
                    <a:pt x="7629" y="429"/>
                  </a:lnTo>
                  <a:lnTo>
                    <a:pt x="8596" y="214"/>
                  </a:lnTo>
                  <a:lnTo>
                    <a:pt x="9671" y="0"/>
                  </a:lnTo>
                  <a:lnTo>
                    <a:pt x="10745" y="0"/>
                  </a:lnTo>
                  <a:lnTo>
                    <a:pt x="10745" y="0"/>
                  </a:lnTo>
                  <a:lnTo>
                    <a:pt x="11820" y="0"/>
                  </a:lnTo>
                  <a:lnTo>
                    <a:pt x="13002" y="214"/>
                  </a:lnTo>
                  <a:lnTo>
                    <a:pt x="13969" y="429"/>
                  </a:lnTo>
                  <a:lnTo>
                    <a:pt x="15044" y="752"/>
                  </a:lnTo>
                  <a:lnTo>
                    <a:pt x="15904" y="1289"/>
                  </a:lnTo>
                  <a:lnTo>
                    <a:pt x="16871" y="1826"/>
                  </a:lnTo>
                  <a:lnTo>
                    <a:pt x="17623" y="2364"/>
                  </a:lnTo>
                  <a:lnTo>
                    <a:pt x="18483" y="3116"/>
                  </a:lnTo>
                  <a:lnTo>
                    <a:pt x="19128" y="3868"/>
                  </a:lnTo>
                  <a:lnTo>
                    <a:pt x="19665" y="4620"/>
                  </a:lnTo>
                  <a:lnTo>
                    <a:pt x="20310" y="5587"/>
                  </a:lnTo>
                  <a:lnTo>
                    <a:pt x="20632" y="6555"/>
                  </a:lnTo>
                  <a:lnTo>
                    <a:pt x="21062" y="7522"/>
                  </a:lnTo>
                  <a:lnTo>
                    <a:pt x="21384" y="8596"/>
                  </a:lnTo>
                  <a:lnTo>
                    <a:pt x="21492" y="9564"/>
                  </a:lnTo>
                  <a:lnTo>
                    <a:pt x="21600" y="10745"/>
                  </a:lnTo>
                  <a:lnTo>
                    <a:pt x="21600" y="10745"/>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22" name="未知"/>
            <p:cNvSpPr/>
            <p:nvPr/>
          </p:nvSpPr>
          <p:spPr>
            <a:xfrm>
              <a:off x="7636320" y="4129200"/>
              <a:ext cx="574920" cy="571680"/>
            </a:xfrm>
            <a:custGeom>
              <a:avLst/>
              <a:gdLst/>
              <a:ahLst/>
              <a:rect l="l" t="t" r="r" b="b"/>
              <a:pathLst>
                <a:path w="21600" h="21600">
                  <a:moveTo>
                    <a:pt x="21600" y="10655"/>
                  </a:moveTo>
                  <a:lnTo>
                    <a:pt x="21600" y="10655"/>
                  </a:lnTo>
                  <a:lnTo>
                    <a:pt x="21600" y="11807"/>
                  </a:lnTo>
                  <a:lnTo>
                    <a:pt x="21313" y="12815"/>
                  </a:lnTo>
                  <a:lnTo>
                    <a:pt x="21027" y="13967"/>
                  </a:lnTo>
                  <a:lnTo>
                    <a:pt x="20598" y="14831"/>
                  </a:lnTo>
                  <a:lnTo>
                    <a:pt x="20169" y="15839"/>
                  </a:lnTo>
                  <a:lnTo>
                    <a:pt x="19740" y="16703"/>
                  </a:lnTo>
                  <a:lnTo>
                    <a:pt x="19024" y="17567"/>
                  </a:lnTo>
                  <a:lnTo>
                    <a:pt x="18309" y="18287"/>
                  </a:lnTo>
                  <a:lnTo>
                    <a:pt x="17737" y="19007"/>
                  </a:lnTo>
                  <a:lnTo>
                    <a:pt x="16736" y="19583"/>
                  </a:lnTo>
                  <a:lnTo>
                    <a:pt x="15877" y="20159"/>
                  </a:lnTo>
                  <a:lnTo>
                    <a:pt x="15019" y="20591"/>
                  </a:lnTo>
                  <a:lnTo>
                    <a:pt x="13875" y="21023"/>
                  </a:lnTo>
                  <a:lnTo>
                    <a:pt x="12874" y="21311"/>
                  </a:lnTo>
                  <a:lnTo>
                    <a:pt x="11872" y="21600"/>
                  </a:lnTo>
                  <a:lnTo>
                    <a:pt x="10728" y="21600"/>
                  </a:lnTo>
                  <a:lnTo>
                    <a:pt x="10728" y="21600"/>
                  </a:lnTo>
                  <a:lnTo>
                    <a:pt x="9583" y="21600"/>
                  </a:lnTo>
                  <a:lnTo>
                    <a:pt x="8582" y="21311"/>
                  </a:lnTo>
                  <a:lnTo>
                    <a:pt x="7581" y="21023"/>
                  </a:lnTo>
                  <a:lnTo>
                    <a:pt x="6579" y="20591"/>
                  </a:lnTo>
                  <a:lnTo>
                    <a:pt x="5721" y="20159"/>
                  </a:lnTo>
                  <a:lnTo>
                    <a:pt x="4720" y="19583"/>
                  </a:lnTo>
                  <a:lnTo>
                    <a:pt x="3719" y="19007"/>
                  </a:lnTo>
                  <a:lnTo>
                    <a:pt x="3146" y="18287"/>
                  </a:lnTo>
                  <a:lnTo>
                    <a:pt x="2431" y="17567"/>
                  </a:lnTo>
                  <a:lnTo>
                    <a:pt x="1716" y="16703"/>
                  </a:lnTo>
                  <a:lnTo>
                    <a:pt x="1287" y="15839"/>
                  </a:lnTo>
                  <a:lnTo>
                    <a:pt x="858" y="14831"/>
                  </a:lnTo>
                  <a:lnTo>
                    <a:pt x="429" y="13967"/>
                  </a:lnTo>
                  <a:lnTo>
                    <a:pt x="143" y="12815"/>
                  </a:lnTo>
                  <a:lnTo>
                    <a:pt x="0" y="11807"/>
                  </a:lnTo>
                  <a:lnTo>
                    <a:pt x="0" y="10655"/>
                  </a:lnTo>
                  <a:lnTo>
                    <a:pt x="0" y="10655"/>
                  </a:lnTo>
                  <a:lnTo>
                    <a:pt x="0" y="9647"/>
                  </a:lnTo>
                  <a:lnTo>
                    <a:pt x="143" y="8495"/>
                  </a:lnTo>
                  <a:lnTo>
                    <a:pt x="429" y="7487"/>
                  </a:lnTo>
                  <a:lnTo>
                    <a:pt x="858" y="6479"/>
                  </a:lnTo>
                  <a:lnTo>
                    <a:pt x="1287" y="5471"/>
                  </a:lnTo>
                  <a:lnTo>
                    <a:pt x="1716" y="4751"/>
                  </a:lnTo>
                  <a:lnTo>
                    <a:pt x="2431" y="3743"/>
                  </a:lnTo>
                  <a:lnTo>
                    <a:pt x="3146" y="3023"/>
                  </a:lnTo>
                  <a:lnTo>
                    <a:pt x="3719" y="2447"/>
                  </a:lnTo>
                  <a:lnTo>
                    <a:pt x="4720" y="1727"/>
                  </a:lnTo>
                  <a:lnTo>
                    <a:pt x="5721" y="1295"/>
                  </a:lnTo>
                  <a:lnTo>
                    <a:pt x="6579" y="719"/>
                  </a:lnTo>
                  <a:lnTo>
                    <a:pt x="7581" y="287"/>
                  </a:lnTo>
                  <a:lnTo>
                    <a:pt x="8582" y="0"/>
                  </a:lnTo>
                  <a:lnTo>
                    <a:pt x="9583" y="0"/>
                  </a:lnTo>
                  <a:lnTo>
                    <a:pt x="10728" y="0"/>
                  </a:lnTo>
                  <a:lnTo>
                    <a:pt x="10728" y="0"/>
                  </a:lnTo>
                  <a:lnTo>
                    <a:pt x="11872" y="0"/>
                  </a:lnTo>
                  <a:lnTo>
                    <a:pt x="12874" y="0"/>
                  </a:lnTo>
                  <a:lnTo>
                    <a:pt x="13875" y="287"/>
                  </a:lnTo>
                  <a:lnTo>
                    <a:pt x="15019" y="719"/>
                  </a:lnTo>
                  <a:lnTo>
                    <a:pt x="15877" y="1295"/>
                  </a:lnTo>
                  <a:lnTo>
                    <a:pt x="16736" y="1727"/>
                  </a:lnTo>
                  <a:lnTo>
                    <a:pt x="17737" y="2447"/>
                  </a:lnTo>
                  <a:lnTo>
                    <a:pt x="18309" y="3023"/>
                  </a:lnTo>
                  <a:lnTo>
                    <a:pt x="19024" y="3743"/>
                  </a:lnTo>
                  <a:lnTo>
                    <a:pt x="19740" y="4751"/>
                  </a:lnTo>
                  <a:lnTo>
                    <a:pt x="20169" y="5471"/>
                  </a:lnTo>
                  <a:lnTo>
                    <a:pt x="20598" y="6479"/>
                  </a:lnTo>
                  <a:lnTo>
                    <a:pt x="21027" y="7487"/>
                  </a:lnTo>
                  <a:lnTo>
                    <a:pt x="21313" y="8495"/>
                  </a:lnTo>
                  <a:lnTo>
                    <a:pt x="21600" y="9647"/>
                  </a:lnTo>
                  <a:lnTo>
                    <a:pt x="21600" y="10655"/>
                  </a:lnTo>
                  <a:lnTo>
                    <a:pt x="21600" y="10655"/>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23" name="未知"/>
            <p:cNvSpPr/>
            <p:nvPr/>
          </p:nvSpPr>
          <p:spPr>
            <a:xfrm>
              <a:off x="7738920" y="4231800"/>
              <a:ext cx="372600" cy="375120"/>
            </a:xfrm>
            <a:custGeom>
              <a:avLst/>
              <a:gdLst/>
              <a:ahLst/>
              <a:rect l="l" t="t" r="r" b="b"/>
              <a:pathLst>
                <a:path w="21600" h="21600">
                  <a:moveTo>
                    <a:pt x="21600" y="10800"/>
                  </a:moveTo>
                  <a:lnTo>
                    <a:pt x="21600" y="10800"/>
                  </a:lnTo>
                  <a:lnTo>
                    <a:pt x="21600" y="11901"/>
                  </a:lnTo>
                  <a:lnTo>
                    <a:pt x="21379" y="13003"/>
                  </a:lnTo>
                  <a:lnTo>
                    <a:pt x="21159" y="14106"/>
                  </a:lnTo>
                  <a:lnTo>
                    <a:pt x="20718" y="14987"/>
                  </a:lnTo>
                  <a:lnTo>
                    <a:pt x="20056" y="16089"/>
                  </a:lnTo>
                  <a:lnTo>
                    <a:pt x="19616" y="16971"/>
                  </a:lnTo>
                  <a:lnTo>
                    <a:pt x="18955" y="17852"/>
                  </a:lnTo>
                  <a:lnTo>
                    <a:pt x="18293" y="18293"/>
                  </a:lnTo>
                  <a:lnTo>
                    <a:pt x="17632" y="19175"/>
                  </a:lnTo>
                  <a:lnTo>
                    <a:pt x="16750" y="19836"/>
                  </a:lnTo>
                  <a:lnTo>
                    <a:pt x="15869" y="20277"/>
                  </a:lnTo>
                  <a:lnTo>
                    <a:pt x="14987" y="20938"/>
                  </a:lnTo>
                  <a:lnTo>
                    <a:pt x="13885" y="21379"/>
                  </a:lnTo>
                  <a:lnTo>
                    <a:pt x="12783" y="21379"/>
                  </a:lnTo>
                  <a:lnTo>
                    <a:pt x="11681" y="21600"/>
                  </a:lnTo>
                  <a:lnTo>
                    <a:pt x="10800" y="21600"/>
                  </a:lnTo>
                  <a:lnTo>
                    <a:pt x="10800" y="21600"/>
                  </a:lnTo>
                  <a:lnTo>
                    <a:pt x="9477" y="21600"/>
                  </a:lnTo>
                  <a:lnTo>
                    <a:pt x="8375" y="21379"/>
                  </a:lnTo>
                  <a:lnTo>
                    <a:pt x="7493" y="21379"/>
                  </a:lnTo>
                  <a:lnTo>
                    <a:pt x="6391" y="20938"/>
                  </a:lnTo>
                  <a:lnTo>
                    <a:pt x="5510" y="20277"/>
                  </a:lnTo>
                  <a:lnTo>
                    <a:pt x="4628" y="19836"/>
                  </a:lnTo>
                  <a:lnTo>
                    <a:pt x="3746" y="19175"/>
                  </a:lnTo>
                  <a:lnTo>
                    <a:pt x="3085" y="18293"/>
                  </a:lnTo>
                  <a:lnTo>
                    <a:pt x="2203" y="17852"/>
                  </a:lnTo>
                  <a:lnTo>
                    <a:pt x="1542" y="16971"/>
                  </a:lnTo>
                  <a:lnTo>
                    <a:pt x="1101" y="16089"/>
                  </a:lnTo>
                  <a:lnTo>
                    <a:pt x="661" y="14987"/>
                  </a:lnTo>
                  <a:lnTo>
                    <a:pt x="440" y="14106"/>
                  </a:lnTo>
                  <a:lnTo>
                    <a:pt x="220" y="13003"/>
                  </a:lnTo>
                  <a:lnTo>
                    <a:pt x="0" y="11901"/>
                  </a:lnTo>
                  <a:lnTo>
                    <a:pt x="0" y="10800"/>
                  </a:lnTo>
                  <a:lnTo>
                    <a:pt x="0" y="10800"/>
                  </a:lnTo>
                  <a:lnTo>
                    <a:pt x="0" y="9697"/>
                  </a:lnTo>
                  <a:lnTo>
                    <a:pt x="220" y="8595"/>
                  </a:lnTo>
                  <a:lnTo>
                    <a:pt x="440" y="7493"/>
                  </a:lnTo>
                  <a:lnTo>
                    <a:pt x="661" y="6612"/>
                  </a:lnTo>
                  <a:lnTo>
                    <a:pt x="1101" y="5730"/>
                  </a:lnTo>
                  <a:lnTo>
                    <a:pt x="1542" y="4848"/>
                  </a:lnTo>
                  <a:lnTo>
                    <a:pt x="2203" y="3746"/>
                  </a:lnTo>
                  <a:lnTo>
                    <a:pt x="3085" y="3306"/>
                  </a:lnTo>
                  <a:lnTo>
                    <a:pt x="3746" y="2424"/>
                  </a:lnTo>
                  <a:lnTo>
                    <a:pt x="4628" y="1762"/>
                  </a:lnTo>
                  <a:lnTo>
                    <a:pt x="5510" y="1322"/>
                  </a:lnTo>
                  <a:lnTo>
                    <a:pt x="6391" y="881"/>
                  </a:lnTo>
                  <a:lnTo>
                    <a:pt x="7493" y="440"/>
                  </a:lnTo>
                  <a:lnTo>
                    <a:pt x="8375" y="220"/>
                  </a:lnTo>
                  <a:lnTo>
                    <a:pt x="9477" y="0"/>
                  </a:lnTo>
                  <a:lnTo>
                    <a:pt x="10800" y="0"/>
                  </a:lnTo>
                  <a:lnTo>
                    <a:pt x="10800" y="0"/>
                  </a:lnTo>
                  <a:lnTo>
                    <a:pt x="11681" y="0"/>
                  </a:lnTo>
                  <a:lnTo>
                    <a:pt x="12783" y="220"/>
                  </a:lnTo>
                  <a:lnTo>
                    <a:pt x="13885" y="440"/>
                  </a:lnTo>
                  <a:lnTo>
                    <a:pt x="14987" y="881"/>
                  </a:lnTo>
                  <a:lnTo>
                    <a:pt x="15869" y="1322"/>
                  </a:lnTo>
                  <a:lnTo>
                    <a:pt x="16750" y="1762"/>
                  </a:lnTo>
                  <a:lnTo>
                    <a:pt x="17632" y="2424"/>
                  </a:lnTo>
                  <a:lnTo>
                    <a:pt x="18293" y="3306"/>
                  </a:lnTo>
                  <a:lnTo>
                    <a:pt x="18955" y="3746"/>
                  </a:lnTo>
                  <a:lnTo>
                    <a:pt x="19616" y="4848"/>
                  </a:lnTo>
                  <a:lnTo>
                    <a:pt x="20056" y="5730"/>
                  </a:lnTo>
                  <a:lnTo>
                    <a:pt x="20718" y="6612"/>
                  </a:lnTo>
                  <a:lnTo>
                    <a:pt x="21159" y="7493"/>
                  </a:lnTo>
                  <a:lnTo>
                    <a:pt x="21379" y="8595"/>
                  </a:lnTo>
                  <a:lnTo>
                    <a:pt x="21600" y="9697"/>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sp>
        <p:nvSpPr>
          <p:cNvPr id="32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Click to edit the title text format</a:t>
            </a:r>
            <a:endParaRPr b="1" lang="en-US" sz="4400" spc="-1" strike="noStrike">
              <a:solidFill>
                <a:srgbClr val="666699"/>
              </a:solidFill>
              <a:latin typeface="Arial"/>
            </a:endParaRPr>
          </a:p>
        </p:txBody>
      </p:sp>
      <p:sp>
        <p:nvSpPr>
          <p:cNvPr id="325" name="PlaceHolder 2"/>
          <p:cNvSpPr>
            <a:spLocks noGrp="1"/>
          </p:cNvSpPr>
          <p:nvPr>
            <p:ph type="dt" idx="16"/>
          </p:nvPr>
        </p:nvSpPr>
        <p:spPr>
          <a:xfrm>
            <a:off x="456840" y="6244920"/>
            <a:ext cx="2133720" cy="47628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6" name="PlaceHolder 3"/>
          <p:cNvSpPr>
            <a:spLocks noGrp="1"/>
          </p:cNvSpPr>
          <p:nvPr>
            <p:ph type="ftr" idx="17"/>
          </p:nvPr>
        </p:nvSpPr>
        <p:spPr>
          <a:xfrm>
            <a:off x="3124080" y="6244920"/>
            <a:ext cx="2895840" cy="47628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7" name="PlaceHolder 4"/>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FA9A-26C2-4197-A4AA-FAFB1A65C24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66"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BC93-C083-452B-99B6-A6F2ACE741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23640" y="1427760"/>
            <a:ext cx="8569080" cy="91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中华人民共和国民法典解读</a:t>
            </a:r>
            <a:endParaRPr b="1" lang="en-US" sz="5400" spc="-1" strike="noStrike">
              <a:solidFill>
                <a:srgbClr val="000000"/>
              </a:solidFill>
              <a:latin typeface="Arial"/>
            </a:endParaRPr>
          </a:p>
        </p:txBody>
      </p:sp>
      <p:sp>
        <p:nvSpPr>
          <p:cNvPr id="567" name="PlaceHolder 2"/>
          <p:cNvSpPr>
            <a:spLocks noGrp="1"/>
          </p:cNvSpPr>
          <p:nvPr>
            <p:ph type="subTitle"/>
          </p:nvPr>
        </p:nvSpPr>
        <p:spPr>
          <a:xfrm>
            <a:off x="1403280" y="2428560"/>
            <a:ext cx="6400800" cy="2937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邹克成</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98330013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Q</a:t>
            </a:r>
            <a:r>
              <a:rPr b="0" lang="zh-CN" sz="3200" spc="-1" strike="noStrike">
                <a:solidFill>
                  <a:srgbClr val="000000"/>
                </a:solidFill>
                <a:latin typeface="Arial"/>
              </a:rPr>
              <a:t>：</a:t>
            </a:r>
            <a:r>
              <a:rPr b="0" lang="en-US" sz="3200" spc="-1" strike="noStrike">
                <a:solidFill>
                  <a:srgbClr val="000000"/>
                </a:solidFill>
                <a:latin typeface="Arial"/>
              </a:rPr>
              <a:t>46176824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020.11.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262160" y="46080"/>
            <a:ext cx="7588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666699"/>
                </a:solidFill>
                <a:latin typeface="Arial"/>
              </a:rPr>
              <a:t> </a:t>
            </a:r>
            <a:br>
              <a:rPr sz="4800"/>
            </a:br>
            <a:endParaRPr b="1" lang="en-US" sz="8800" spc="-1" strike="noStrike">
              <a:solidFill>
                <a:srgbClr val="666699"/>
              </a:solidFill>
              <a:latin typeface="Arial"/>
            </a:endParaRPr>
          </a:p>
        </p:txBody>
      </p:sp>
      <p:sp>
        <p:nvSpPr>
          <p:cNvPr id="584" name="PlaceHolder 2"/>
          <p:cNvSpPr>
            <a:spLocks noGrp="1"/>
          </p:cNvSpPr>
          <p:nvPr>
            <p:ph/>
          </p:nvPr>
        </p:nvSpPr>
        <p:spPr>
          <a:xfrm>
            <a:off x="395280" y="1268280"/>
            <a:ext cx="8569440" cy="58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
          <p:cNvSpPr/>
          <p:nvPr/>
        </p:nvSpPr>
        <p:spPr>
          <a:xfrm>
            <a:off x="1044720" y="1844640"/>
            <a:ext cx="6067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7.</a:t>
            </a:r>
            <a:r>
              <a:rPr b="0" lang="zh-CN" sz="3200" spc="-1" strike="noStrike">
                <a:solidFill>
                  <a:srgbClr val="000000"/>
                </a:solidFill>
                <a:latin typeface="宋体"/>
                <a:ea typeface="宋体"/>
              </a:rPr>
              <a:t>承租人的优先承租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租赁期限届满，承租人继续使用租赁物，出租人没有提出异议的，原租赁合同继续有效，但是租赁期限为不定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租赁期限届满，房屋承租人享有以同等条件优先承租的权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260000" y="-419040"/>
            <a:ext cx="7588440" cy="252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666699"/>
              </a:solidFill>
              <a:latin typeface="Arial"/>
            </a:endParaRPr>
          </a:p>
        </p:txBody>
      </p:sp>
      <p:sp>
        <p:nvSpPr>
          <p:cNvPr id="587" name="PlaceHolder 2"/>
          <p:cNvSpPr>
            <a:spLocks noGrp="1"/>
          </p:cNvSpPr>
          <p:nvPr>
            <p:ph/>
          </p:nvPr>
        </p:nvSpPr>
        <p:spPr>
          <a:xfrm>
            <a:off x="826560" y="907920"/>
            <a:ext cx="813780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3600" spc="-1" strike="noStrike">
                <a:solidFill>
                  <a:srgbClr val="000000"/>
                </a:solidFill>
                <a:latin typeface="Arial"/>
              </a:rPr>
              <a:t>8.</a:t>
            </a:r>
            <a:r>
              <a:rPr b="1" lang="zh-CN" sz="3600" spc="-1" strike="noStrike">
                <a:solidFill>
                  <a:srgbClr val="000000"/>
                </a:solidFill>
                <a:latin typeface="Arial"/>
              </a:rPr>
              <a:t>禁止旅客霸座</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旅客应当按照有效客票记载的时间、班次和座位号乘坐。</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旅客无票乘坐、超程乘坐、越级乘坐或者持不符合减价条件的优惠客票乘坐的，应当补交票款，承运人可以按照规定加收票款；旅客不支付票款的，承运人可以拒绝运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187280" y="274680"/>
            <a:ext cx="7661520" cy="459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Arial"/>
              </a:rPr>
              <a:t>9.</a:t>
            </a:r>
            <a:r>
              <a:rPr b="1" lang="zh-CN" sz="3600" spc="-1" strike="noStrike">
                <a:solidFill>
                  <a:srgbClr val="666699"/>
                </a:solidFill>
                <a:latin typeface="Arial"/>
              </a:rPr>
              <a:t>禁止性骚扰</a:t>
            </a:r>
            <a:br>
              <a:rPr sz="2400"/>
            </a:br>
            <a:r>
              <a:rPr b="1" lang="zh-CN" sz="2800" spc="-1" strike="noStrike">
                <a:solidFill>
                  <a:srgbClr val="666699"/>
                </a:solidFill>
                <a:latin typeface="Arial"/>
              </a:rPr>
              <a:t>       性骚扰违背他人意愿，以言语、文字、图像、肢体行为等方式对他人实施性骚扰的，受害人有权依法请求行为人承担民事责任。</a:t>
            </a:r>
            <a:br>
              <a:rPr sz="2800"/>
            </a:br>
            <a:br>
              <a:rPr sz="2800"/>
            </a:br>
            <a:r>
              <a:rPr b="1" lang="zh-CN" sz="2800" spc="-1" strike="noStrike">
                <a:solidFill>
                  <a:srgbClr val="666699"/>
                </a:solidFill>
                <a:latin typeface="Arial"/>
              </a:rPr>
              <a:t>       机关、企业、学校等单位应当采取合理的预防、受理投诉、调查处置等措施，防止和制止利用职权、从属关系等实施性骚扰。 </a:t>
            </a:r>
            <a:endParaRPr b="1" lang="en-US" sz="2800" spc="-1" strike="noStrike">
              <a:solidFill>
                <a:srgbClr val="666699"/>
              </a:solidFill>
              <a:latin typeface="Arial"/>
            </a:endParaRPr>
          </a:p>
        </p:txBody>
      </p:sp>
      <p:sp>
        <p:nvSpPr>
          <p:cNvPr id="589" name="PlaceHolder 2"/>
          <p:cNvSpPr>
            <a:spLocks noGrp="1"/>
          </p:cNvSpPr>
          <p:nvPr>
            <p:ph/>
          </p:nvPr>
        </p:nvSpPr>
        <p:spPr>
          <a:xfrm>
            <a:off x="1246320" y="1600200"/>
            <a:ext cx="7440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1" name="PlaceHolder 2"/>
          <p:cNvSpPr>
            <a:spLocks noGrp="1"/>
          </p:cNvSpPr>
          <p:nvPr>
            <p:ph/>
          </p:nvPr>
        </p:nvSpPr>
        <p:spPr>
          <a:xfrm>
            <a:off x="107640" y="117360"/>
            <a:ext cx="8929800" cy="5905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0.</a:t>
            </a:r>
            <a:r>
              <a:rPr b="0" lang="zh-CN" sz="3600" spc="-1" strike="noStrike">
                <a:solidFill>
                  <a:srgbClr val="000000"/>
                </a:solidFill>
                <a:latin typeface="Arial"/>
              </a:rPr>
              <a:t>肖像权消极权能</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任何组织或者个人不得以丑化、污损，或者利用信息技术手段伪造等方式侵害他人的肖像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未经肖像权人同意，不得制作、使用、公开肖像权人的肖像，但是法律另有规定的除外。</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未经肖像权人同意，肖像作品权利人不得以发表、复制、发行、出租、展览等方式使用或者公开肖像权人的肖像。</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3" name="PlaceHolder 2"/>
          <p:cNvSpPr>
            <a:spLocks noGrp="1"/>
          </p:cNvSpPr>
          <p:nvPr>
            <p:ph/>
          </p:nvPr>
        </p:nvSpPr>
        <p:spPr>
          <a:xfrm>
            <a:off x="468360" y="333360"/>
            <a:ext cx="8229600" cy="568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3600" spc="-1" strike="noStrike">
                <a:solidFill>
                  <a:srgbClr val="000000"/>
                </a:solidFill>
                <a:latin typeface="Arial"/>
              </a:rPr>
              <a:t>11.</a:t>
            </a:r>
            <a:r>
              <a:rPr b="0" lang="zh-CN" sz="3600" spc="-1" strike="noStrike">
                <a:solidFill>
                  <a:srgbClr val="000000"/>
                </a:solidFill>
                <a:latin typeface="Arial"/>
              </a:rPr>
              <a:t>婚姻无效与可撤销</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有下列情形之一的，婚姻无效：</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重婚；</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有禁止结婚的亲属关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未到法定婚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因胁迫结婚的，受胁迫的一方可以向人民法院请求撤销婚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请求撤销婚姻的，应当自胁迫行为终止之日起一年内提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被非法限制人身自由的当事人请求撤销婚姻的，应当自恢复人身自由之日起一年内提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方患有重大疾病的，应当在结婚登记前如实告知另一方；不如实告知的，另一方可以向人民法院请求撤销婚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请求撤销婚姻的，应当自知道或者应当知道撤销事由之日起一年内提出。</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5" name="PlaceHolder 2"/>
          <p:cNvSpPr>
            <a:spLocks noGrp="1"/>
          </p:cNvSpPr>
          <p:nvPr>
            <p:ph/>
          </p:nvPr>
        </p:nvSpPr>
        <p:spPr>
          <a:xfrm>
            <a:off x="-360" y="233280"/>
            <a:ext cx="9001080" cy="662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3600" spc="-1" strike="noStrike">
                <a:solidFill>
                  <a:srgbClr val="000000"/>
                </a:solidFill>
                <a:latin typeface="Arial"/>
              </a:rPr>
              <a:t>12.</a:t>
            </a:r>
            <a:r>
              <a:rPr b="0" lang="zh-CN" sz="3600" spc="-1" strike="noStrike">
                <a:solidFill>
                  <a:srgbClr val="000000"/>
                </a:solidFill>
                <a:latin typeface="Arial"/>
              </a:rPr>
              <a:t>日常家事代理权</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夫妻一方因家庭日常生活需要而实施的民事法律行为，对夫妻双方发生效力，但是夫妻一方与相对人另有约定的除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夫妻之间对一方可以实施的民事法律行为范围的限制，不得对抗善意相对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堵塞了恶意逃债。</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252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7"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zh-CN" sz="3600" spc="-1" strike="noStrike">
                <a:solidFill>
                  <a:srgbClr val="000000"/>
                </a:solidFill>
                <a:latin typeface="Arial"/>
              </a:rPr>
              <a:t>13.</a:t>
            </a:r>
            <a:r>
              <a:rPr b="0" lang="zh-CN" sz="3600" spc="-1" strike="noStrike">
                <a:solidFill>
                  <a:srgbClr val="000000"/>
                </a:solidFill>
                <a:latin typeface="Arial"/>
              </a:rPr>
              <a:t>夫妻共同债务</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夫妻双方共同签名或者夫妻一方事后追认等共同意思表示所负的债务，以及夫妻一方在婚姻关系存续期间以个人名义为家庭日常生活需要所负的债务，属于夫妻共同债务。</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夫妻一方在婚姻关系存续期间以个人名义超出家庭日常生活需要所负的债务，不属于夫妻共同债务；但是，债权人能够证明该债务用于夫妻共同生活、共同生产经营或者基于夫妻双方共同意思表示的除外。</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9" name="PlaceHolder 2"/>
          <p:cNvSpPr>
            <a:spLocks noGrp="1"/>
          </p:cNvSpPr>
          <p:nvPr>
            <p:ph/>
          </p:nvPr>
        </p:nvSpPr>
        <p:spPr>
          <a:xfrm>
            <a:off x="142560" y="0"/>
            <a:ext cx="9001080" cy="6624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600" spc="-1" strike="noStrike">
                <a:solidFill>
                  <a:srgbClr val="000000"/>
                </a:solidFill>
                <a:latin typeface="Arial"/>
              </a:rPr>
              <a:t>  </a:t>
            </a:r>
            <a:r>
              <a:rPr b="0" lang="zh-CN" sz="3600" spc="-1" strike="noStrike">
                <a:solidFill>
                  <a:srgbClr val="000000"/>
                </a:solidFill>
                <a:latin typeface="Arial"/>
              </a:rPr>
              <a:t>14.</a:t>
            </a:r>
            <a:r>
              <a:rPr b="0" lang="zh-CN" sz="3600" spc="-1" strike="noStrike">
                <a:solidFill>
                  <a:srgbClr val="000000"/>
                </a:solidFill>
                <a:latin typeface="Arial"/>
              </a:rPr>
              <a:t>离婚冷静期</a:t>
            </a:r>
            <a:endParaRPr b="0" lang="en-US" sz="3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自婚姻登记机关收到离婚登记申请之日起三十日内，任何一方不愿意离婚的，可以向婚姻登记机关撤回离婚登记申请。</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前款规定期限届满后三十日内，双方应当亲自到婚姻登记机关申请发给离婚证；未申请的，视为撤回离婚登记申请。</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1" name="PlaceHolder 2"/>
          <p:cNvSpPr>
            <a:spLocks noGrp="1"/>
          </p:cNvSpPr>
          <p:nvPr>
            <p:ph/>
          </p:nvPr>
        </p:nvSpPr>
        <p:spPr>
          <a:xfrm>
            <a:off x="107640" y="118800"/>
            <a:ext cx="8929800" cy="65530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3600" spc="-1" strike="noStrike">
                <a:solidFill>
                  <a:srgbClr val="000000"/>
                </a:solidFill>
                <a:latin typeface="Arial"/>
              </a:rPr>
              <a:t>15.</a:t>
            </a:r>
            <a:r>
              <a:rPr b="0" lang="zh-CN" sz="3600" spc="-1" strike="noStrike">
                <a:solidFill>
                  <a:srgbClr val="000000"/>
                </a:solidFill>
                <a:latin typeface="Arial"/>
              </a:rPr>
              <a:t>被收养人的范围及收养人的条件</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下列未成年人，可以被收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丧失父母的孤儿；</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查找不到生父母的未成年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生父母有特殊困难无力抚养的子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收养人应当同时具备下列条件：</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无子女或者只有一名子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有抚养、教育和保护被收养人的能力；</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未患有在医学上认为不应当收养子女的疾病；</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四）无不利于被收养人健康成长的违法犯罪记录；</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五）年满三十周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3" name="PlaceHolder 2"/>
          <p:cNvSpPr>
            <a:spLocks noGrp="1"/>
          </p:cNvSpPr>
          <p:nvPr>
            <p:ph/>
          </p:nvPr>
        </p:nvSpPr>
        <p:spPr>
          <a:xfrm>
            <a:off x="107640" y="333360"/>
            <a:ext cx="8929800" cy="64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Arial"/>
              </a:rPr>
              <a:t>16.</a:t>
            </a:r>
            <a:r>
              <a:rPr b="1" lang="zh-CN" sz="2800" spc="-1" strike="noStrike">
                <a:solidFill>
                  <a:srgbClr val="000000"/>
                </a:solidFill>
                <a:latin typeface="Arial"/>
              </a:rPr>
              <a:t>继承权的丧失和恢复</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继承人有下列行为之一的，丧失继承权：</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故意杀害被继承人；</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为争夺遗产而杀害其他继承人；</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遗弃被继承人，或者虐待被继承人情节严重； </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四）伪造、篡改、隐匿或者销毁遗嘱，情节严重；</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五）以欺诈、胁迫手段迫使或者妨碍被继承人设立、变更或者撤回遗嘱，情节严重。继承人有前款第三项至第五项行为，确有悔改表现，</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被继承人表示宽恕或者事后在遗嘱中将其列为继承人的，该继承人不丧失继承权。</a:t>
            </a:r>
            <a:br>
              <a:rPr sz="2800"/>
            </a:b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6400" y="981000"/>
            <a:ext cx="8202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幼圆"/>
              </a:rPr>
              <a:t>    </a:t>
            </a:r>
            <a:endParaRPr b="1" lang="en-US" sz="4000" spc="-1" strike="noStrike">
              <a:solidFill>
                <a:srgbClr val="000099"/>
              </a:solidFill>
              <a:latin typeface="Arial"/>
            </a:endParaRPr>
          </a:p>
        </p:txBody>
      </p:sp>
      <p:sp>
        <p:nvSpPr>
          <p:cNvPr id="569" name="PlaceHolder 2"/>
          <p:cNvSpPr>
            <a:spLocks noGrp="1"/>
          </p:cNvSpPr>
          <p:nvPr>
            <p:ph type="subTitle"/>
          </p:nvPr>
        </p:nvSpPr>
        <p:spPr>
          <a:xfrm>
            <a:off x="468360" y="3236760"/>
            <a:ext cx="8207280" cy="408240"/>
          </a:xfrm>
          <a:prstGeom prst="rect">
            <a:avLst/>
          </a:prstGeom>
          <a:noFill/>
          <a:ln w="0">
            <a:noFill/>
          </a:ln>
        </p:spPr>
        <p:txBody>
          <a:bodyPr lIns="90000" rIns="90000" tIns="46800" bIns="46800" anchor="ctr">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Arial"/>
              </a:rPr>
              <a:t>  </a:t>
            </a:r>
            <a:r>
              <a:rPr b="1" lang="zh-CN" sz="2400" spc="-1" strike="noStrike">
                <a:solidFill>
                  <a:srgbClr val="000099"/>
                </a:solidFill>
                <a:latin typeface="Arial"/>
              </a:rPr>
              <a:t>  </a:t>
            </a:r>
            <a:r>
              <a:rPr b="1" lang="zh-CN" sz="2400" spc="-1" strike="noStrike">
                <a:solidFill>
                  <a:srgbClr val="000099"/>
                </a:solidFill>
                <a:latin typeface="Arial"/>
              </a:rPr>
              <a:t>《中华人民共和国民法典》是我国历史上第一部民法典。</a:t>
            </a:r>
            <a:r>
              <a:rPr b="1" lang="zh-CN" sz="2400" spc="-1" strike="noStrike">
                <a:solidFill>
                  <a:srgbClr val="000099"/>
                </a:solidFill>
                <a:latin typeface="Arial"/>
              </a:rPr>
              <a:t>2020</a:t>
            </a:r>
            <a:r>
              <a:rPr b="1" lang="zh-CN" sz="2400" spc="-1" strike="noStrike">
                <a:solidFill>
                  <a:srgbClr val="000099"/>
                </a:solidFill>
                <a:latin typeface="Arial"/>
              </a:rPr>
              <a:t>年</a:t>
            </a:r>
            <a:r>
              <a:rPr b="1" lang="zh-CN" sz="2400" spc="-1" strike="noStrike">
                <a:solidFill>
                  <a:srgbClr val="000099"/>
                </a:solidFill>
                <a:latin typeface="Arial"/>
              </a:rPr>
              <a:t>5</a:t>
            </a:r>
            <a:r>
              <a:rPr b="1" lang="zh-CN" sz="2400" spc="-1" strike="noStrike">
                <a:solidFill>
                  <a:srgbClr val="000099"/>
                </a:solidFill>
                <a:latin typeface="Arial"/>
              </a:rPr>
              <a:t>月</a:t>
            </a:r>
            <a:r>
              <a:rPr b="1" lang="zh-CN" sz="2400" spc="-1" strike="noStrike">
                <a:solidFill>
                  <a:srgbClr val="000099"/>
                </a:solidFill>
                <a:latin typeface="Arial"/>
              </a:rPr>
              <a:t>28</a:t>
            </a:r>
            <a:r>
              <a:rPr b="1" lang="zh-CN" sz="2400" spc="-1" strike="noStrike">
                <a:solidFill>
                  <a:srgbClr val="000099"/>
                </a:solidFill>
                <a:latin typeface="Arial"/>
              </a:rPr>
              <a:t>日第十三届全国人大第三次会议通过，将于</a:t>
            </a:r>
            <a:r>
              <a:rPr b="1" lang="zh-CN" sz="2400" spc="-1" strike="noStrike">
                <a:solidFill>
                  <a:srgbClr val="000099"/>
                </a:solidFill>
                <a:latin typeface="Arial"/>
              </a:rPr>
              <a:t>2021</a:t>
            </a:r>
            <a:r>
              <a:rPr b="1" lang="zh-CN" sz="2400" spc="-1" strike="noStrike">
                <a:solidFill>
                  <a:srgbClr val="000099"/>
                </a:solidFill>
                <a:latin typeface="Arial"/>
              </a:rPr>
              <a:t>年</a:t>
            </a:r>
            <a:r>
              <a:rPr b="1" lang="zh-CN" sz="2400" spc="-1" strike="noStrike">
                <a:solidFill>
                  <a:srgbClr val="000099"/>
                </a:solidFill>
                <a:latin typeface="Arial"/>
              </a:rPr>
              <a:t>1</a:t>
            </a:r>
            <a:r>
              <a:rPr b="1" lang="zh-CN" sz="2400" spc="-1" strike="noStrike">
                <a:solidFill>
                  <a:srgbClr val="000099"/>
                </a:solidFill>
                <a:latin typeface="Arial"/>
              </a:rPr>
              <a:t>月</a:t>
            </a:r>
            <a:r>
              <a:rPr b="1" lang="zh-CN" sz="2400" spc="-1" strike="noStrike">
                <a:solidFill>
                  <a:srgbClr val="000099"/>
                </a:solidFill>
                <a:latin typeface="Arial"/>
              </a:rPr>
              <a:t>1</a:t>
            </a:r>
            <a:r>
              <a:rPr b="1" lang="zh-CN" sz="2400" spc="-1" strike="noStrike">
                <a:solidFill>
                  <a:srgbClr val="000099"/>
                </a:solidFill>
                <a:latin typeface="Arial"/>
              </a:rPr>
              <a:t>日起生效。</a:t>
            </a:r>
            <a:endParaRPr b="1" lang="en-US" sz="2400" spc="-1" strike="noStrike">
              <a:solidFill>
                <a:srgbClr val="000099"/>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民法典分总则、物权、合同、人格权、婚姻家</a:t>
            </a:r>
            <a:endParaRPr b="1" lang="en-US" sz="2400" spc="-1" strike="noStrike">
              <a:solidFill>
                <a:srgbClr val="000099"/>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庭、继承、侵权责任共七编，另加附则。对应有</a:t>
            </a:r>
            <a:r>
              <a:rPr b="1" lang="zh-CN" sz="2400" spc="-1" strike="noStrike">
                <a:solidFill>
                  <a:srgbClr val="000099"/>
                </a:solidFill>
                <a:latin typeface="Arial"/>
              </a:rPr>
              <a:t>10</a:t>
            </a:r>
            <a:r>
              <a:rPr b="1" lang="zh-CN" sz="2400" spc="-1" strike="noStrike">
                <a:solidFill>
                  <a:srgbClr val="000099"/>
                </a:solidFill>
                <a:latin typeface="Arial"/>
              </a:rPr>
              <a:t>章、</a:t>
            </a:r>
            <a:r>
              <a:rPr b="1" lang="zh-CN" sz="2400" spc="-1" strike="noStrike">
                <a:solidFill>
                  <a:srgbClr val="000099"/>
                </a:solidFill>
                <a:latin typeface="Arial"/>
              </a:rPr>
              <a:t>20</a:t>
            </a:r>
            <a:r>
              <a:rPr b="1" lang="zh-CN" sz="2400" spc="-1" strike="noStrike">
                <a:solidFill>
                  <a:srgbClr val="000099"/>
                </a:solidFill>
                <a:latin typeface="Arial"/>
              </a:rPr>
              <a:t>章、</a:t>
            </a:r>
            <a:r>
              <a:rPr b="1" lang="zh-CN" sz="2400" spc="-1" strike="noStrike">
                <a:solidFill>
                  <a:srgbClr val="000099"/>
                </a:solidFill>
                <a:latin typeface="Arial"/>
              </a:rPr>
              <a:t>29</a:t>
            </a:r>
            <a:r>
              <a:rPr b="1" lang="zh-CN" sz="2400" spc="-1" strike="noStrike">
                <a:solidFill>
                  <a:srgbClr val="000099"/>
                </a:solidFill>
                <a:latin typeface="Arial"/>
              </a:rPr>
              <a:t>章、</a:t>
            </a:r>
            <a:r>
              <a:rPr b="1" lang="zh-CN" sz="2400" spc="-1" strike="noStrike">
                <a:solidFill>
                  <a:srgbClr val="000099"/>
                </a:solidFill>
                <a:latin typeface="Arial"/>
              </a:rPr>
              <a:t>6</a:t>
            </a:r>
            <a:r>
              <a:rPr b="1" lang="zh-CN" sz="2400" spc="-1" strike="noStrike">
                <a:solidFill>
                  <a:srgbClr val="000099"/>
                </a:solidFill>
                <a:latin typeface="Arial"/>
              </a:rPr>
              <a:t>章、</a:t>
            </a:r>
            <a:r>
              <a:rPr b="1" lang="zh-CN" sz="2400" spc="-1" strike="noStrike">
                <a:solidFill>
                  <a:srgbClr val="000099"/>
                </a:solidFill>
                <a:latin typeface="Arial"/>
              </a:rPr>
              <a:t>5</a:t>
            </a:r>
            <a:r>
              <a:rPr b="1" lang="zh-CN" sz="2400" spc="-1" strike="noStrike">
                <a:solidFill>
                  <a:srgbClr val="000099"/>
                </a:solidFill>
                <a:latin typeface="Arial"/>
              </a:rPr>
              <a:t>章、</a:t>
            </a:r>
            <a:r>
              <a:rPr b="1" lang="zh-CN" sz="2400" spc="-1" strike="noStrike">
                <a:solidFill>
                  <a:srgbClr val="000099"/>
                </a:solidFill>
                <a:latin typeface="Arial"/>
              </a:rPr>
              <a:t>4</a:t>
            </a:r>
            <a:r>
              <a:rPr b="1" lang="zh-CN" sz="2400" spc="-1" strike="noStrike">
                <a:solidFill>
                  <a:srgbClr val="000099"/>
                </a:solidFill>
                <a:latin typeface="Arial"/>
              </a:rPr>
              <a:t>章、</a:t>
            </a:r>
            <a:r>
              <a:rPr b="1" lang="zh-CN" sz="2400" spc="-1" strike="noStrike">
                <a:solidFill>
                  <a:srgbClr val="000099"/>
                </a:solidFill>
                <a:latin typeface="Arial"/>
              </a:rPr>
              <a:t>10</a:t>
            </a:r>
            <a:r>
              <a:rPr b="1" lang="zh-CN" sz="2400" spc="-1" strike="noStrike">
                <a:solidFill>
                  <a:srgbClr val="000099"/>
                </a:solidFill>
                <a:latin typeface="Arial"/>
              </a:rPr>
              <a:t>章。物权、合同占的比重很大。</a:t>
            </a:r>
            <a:endParaRPr b="1" lang="en-US" sz="2400" spc="-1" strike="noStrike">
              <a:solidFill>
                <a:srgbClr val="000099"/>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民法典共</a:t>
            </a:r>
            <a:r>
              <a:rPr b="1" lang="zh-CN" sz="2400" spc="-1" strike="noStrike">
                <a:solidFill>
                  <a:srgbClr val="000099"/>
                </a:solidFill>
                <a:latin typeface="Arial"/>
              </a:rPr>
              <a:t>1260</a:t>
            </a:r>
            <a:r>
              <a:rPr b="1" lang="zh-CN" sz="2400" spc="-1" strike="noStrike">
                <a:solidFill>
                  <a:srgbClr val="000099"/>
                </a:solidFill>
                <a:latin typeface="Arial"/>
              </a:rPr>
              <a:t>条，包含了《民法总则》、《合同法》、《继承法》《婚姻法》《担保法》、《侵权责任法》《收养法》、《物权法》等内容。</a:t>
            </a:r>
            <a:endParaRPr b="1" lang="en-US" sz="2400" spc="-1" strike="noStrike">
              <a:solidFill>
                <a:srgbClr val="000099"/>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本次课程只对新增部分内容进行解读和讲解。</a:t>
            </a:r>
            <a:endParaRPr b="1" lang="en-US" sz="2400" spc="-1" strike="noStrike">
              <a:solidFill>
                <a:srgbClr val="0000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不妥之处，请批评指正！</a:t>
            </a:r>
            <a:br>
              <a:rPr sz="3200"/>
            </a:b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5"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7.</a:t>
            </a:r>
            <a:r>
              <a:rPr b="1" lang="zh-CN" sz="3600" spc="-1" strike="noStrike">
                <a:solidFill>
                  <a:srgbClr val="000000"/>
                </a:solidFill>
                <a:latin typeface="Arial"/>
              </a:rPr>
              <a:t>代位继承</a:t>
            </a:r>
            <a:endParaRPr b="1"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被继承人的子女先于被继承人死亡的，由被继承人的子女的直系晚辈血亲代位继承。</a:t>
            </a: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被继承人的兄弟姐妹先于被继承人死亡的，由被继承人的兄弟姐妹的子女代位继承。</a:t>
            </a: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68360" y="40104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7" name="PlaceHolder 2"/>
          <p:cNvSpPr>
            <a:spLocks noGrp="1"/>
          </p:cNvSpPr>
          <p:nvPr>
            <p:ph/>
          </p:nvPr>
        </p:nvSpPr>
        <p:spPr>
          <a:xfrm>
            <a:off x="-360" y="620640"/>
            <a:ext cx="8675640" cy="5688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3600" spc="-1" strike="noStrike">
                <a:solidFill>
                  <a:srgbClr val="000000"/>
                </a:solidFill>
                <a:latin typeface="Arial"/>
              </a:rPr>
              <a:t>18.</a:t>
            </a:r>
            <a:r>
              <a:rPr b="1" lang="zh-CN" sz="3600" spc="-1" strike="noStrike">
                <a:solidFill>
                  <a:srgbClr val="000000"/>
                </a:solidFill>
                <a:latin typeface="Arial"/>
              </a:rPr>
              <a:t>打印、录像遗嘱</a:t>
            </a:r>
            <a:endParaRPr b="1"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打印遗嘱应当有两个以上见证人在场见证。遗嘱人和见证人应当在遗嘱每一页签名，注明年、月、日。</a:t>
            </a: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以录音录像形式立的遗嘱，应当有两个以上见证人在场见证。遗嘱人和见证人应当在录音录像中记录其姓名或者肖像，以及年、月、日。</a:t>
            </a: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9.</a:t>
            </a:r>
            <a:r>
              <a:rPr b="0" lang="zh-CN" sz="3200" spc="-1" strike="noStrike">
                <a:solidFill>
                  <a:srgbClr val="000000"/>
                </a:solidFill>
                <a:latin typeface="Arial"/>
              </a:rPr>
              <a:t>遗嘱的撤回、变更以及遗嘱效力顺位</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200" spc="-1" strike="noStrike">
                <a:solidFill>
                  <a:srgbClr val="000000"/>
                </a:solidFill>
                <a:latin typeface="Arial"/>
              </a:rPr>
              <a:t>      </a:t>
            </a:r>
            <a:r>
              <a:rPr b="0" lang="zh-CN" sz="3200" spc="-1" strike="noStrike">
                <a:solidFill>
                  <a:srgbClr val="000000"/>
                </a:solidFill>
                <a:latin typeface="Arial"/>
              </a:rPr>
              <a:t>遗嘱人可以撤回、变更自己所立的遗嘱。立遗嘱后，遗嘱人实施与遗嘱内容相反的民事法律行为的，视为对遗嘱相关内容的撤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立有数份遗嘱，内容相抵触的，以最后的遗嘱为准。</a:t>
            </a:r>
            <a:endParaRPr b="0" lang="en-US" sz="3200" spc="-1" strike="noStrike">
              <a:solidFill>
                <a:srgbClr val="000000"/>
              </a:solidFill>
              <a:latin typeface="Arial"/>
            </a:endParaRPr>
          </a:p>
        </p:txBody>
      </p:sp>
      <p:sp>
        <p:nvSpPr>
          <p:cNvPr id="609" name="PlaceHolder 2"/>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0" name=""/>
          <p:cNvSpPr/>
          <p:nvPr/>
        </p:nvSpPr>
        <p:spPr>
          <a:xfrm>
            <a:off x="-1746000" y="3977640"/>
            <a:ext cx="377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76400" y="981000"/>
            <a:ext cx="8202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幼圆"/>
              </a:rPr>
              <a:t>    </a:t>
            </a:r>
            <a:endParaRPr b="1" lang="en-US" sz="4000" spc="-1" strike="noStrike">
              <a:solidFill>
                <a:srgbClr val="000099"/>
              </a:solidFill>
              <a:latin typeface="Arial"/>
            </a:endParaRPr>
          </a:p>
        </p:txBody>
      </p:sp>
      <p:sp>
        <p:nvSpPr>
          <p:cNvPr id="612" name="PlaceHolder 2"/>
          <p:cNvSpPr>
            <a:spLocks noGrp="1"/>
          </p:cNvSpPr>
          <p:nvPr>
            <p:ph type="subTitle"/>
          </p:nvPr>
        </p:nvSpPr>
        <p:spPr>
          <a:xfrm>
            <a:off x="468360" y="3236760"/>
            <a:ext cx="8207280" cy="408240"/>
          </a:xfrm>
          <a:prstGeom prst="rect">
            <a:avLst/>
          </a:prstGeom>
          <a:noFill/>
          <a:ln w="0">
            <a:noFill/>
          </a:ln>
        </p:spPr>
        <p:txBody>
          <a:bodyPr lIns="90000" rIns="90000" tIns="46800" bIns="46800" anchor="ctr">
            <a:noAutofit/>
          </a:bodyPr>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20.</a:t>
            </a:r>
            <a:r>
              <a:rPr b="1" lang="zh-CN" sz="3600" spc="-1" strike="noStrike">
                <a:solidFill>
                  <a:srgbClr val="000099"/>
                </a:solidFill>
                <a:latin typeface="Arial"/>
              </a:rPr>
              <a:t>自担风险</a:t>
            </a:r>
            <a:endParaRPr b="1" lang="en-US" sz="3600" spc="-1" strike="noStrike">
              <a:solidFill>
                <a:srgbClr val="0000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3200" spc="-1" strike="noStrike">
                <a:solidFill>
                  <a:srgbClr val="000099"/>
                </a:solidFill>
                <a:latin typeface="Arial"/>
              </a:rPr>
              <a:t>自愿参加具有一定风险的文体活动，因其他参加者的行为受到损害的，受害人不得请求其他参加者承担侵权责任；但是，其他参加者对损害的发生有故意或者重大过失的除外。</a:t>
            </a:r>
            <a:br>
              <a:rPr sz="3200"/>
            </a:b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3" name="Picture 2" descr="C:\Users\Administrator\Desktop\党政机关\素材\长城\矢量长城\线稿长111城2.png"/>
          <p:cNvPicPr/>
          <p:nvPr/>
        </p:nvPicPr>
        <p:blipFill>
          <a:blip r:embed="rId1"/>
          <a:stretch/>
        </p:blipFill>
        <p:spPr>
          <a:xfrm>
            <a:off x="728640" y="388800"/>
            <a:ext cx="8045640" cy="2584440"/>
          </a:xfrm>
          <a:prstGeom prst="rect">
            <a:avLst/>
          </a:prstGeom>
          <a:ln w="0">
            <a:noFill/>
          </a:ln>
        </p:spPr>
      </p:pic>
      <p:pic>
        <p:nvPicPr>
          <p:cNvPr id="614" name="Picture 3" descr="C:\Users\Administrator\Desktop\党政机关\素材\党徽\Nipic_5916570_20120618220329321399.png"/>
          <p:cNvPicPr/>
          <p:nvPr/>
        </p:nvPicPr>
        <p:blipFill>
          <a:blip r:embed="rId2"/>
          <a:stretch/>
        </p:blipFill>
        <p:spPr>
          <a:xfrm>
            <a:off x="311040" y="388800"/>
            <a:ext cx="997200" cy="1206720"/>
          </a:xfrm>
          <a:prstGeom prst="rect">
            <a:avLst/>
          </a:prstGeom>
          <a:ln w="0">
            <a:noFill/>
          </a:ln>
        </p:spPr>
      </p:pic>
      <p:grpSp>
        <p:nvGrpSpPr>
          <p:cNvPr id="615" name=""/>
          <p:cNvGrpSpPr/>
          <p:nvPr/>
        </p:nvGrpSpPr>
        <p:grpSpPr>
          <a:xfrm>
            <a:off x="1190520" y="-1657440"/>
            <a:ext cx="1113120" cy="1205280"/>
            <a:chOff x="1190520" y="-1657440"/>
            <a:chExt cx="1113120" cy="1205280"/>
          </a:xfrm>
        </p:grpSpPr>
        <p:sp>
          <p:nvSpPr>
            <p:cNvPr id="616" name="五角星 6"/>
            <p:cNvSpPr/>
            <p:nvPr/>
          </p:nvSpPr>
          <p:spPr>
            <a:xfrm>
              <a:off x="1968480" y="-1657440"/>
              <a:ext cx="335160" cy="470880"/>
            </a:xfrm>
            <a:custGeom>
              <a:avLst/>
              <a:gdLst>
                <a:gd name="textAreaLeft" fmla="*/ 103680 w 335160"/>
                <a:gd name="textAreaRight" fmla="*/ 231480 w 335160"/>
                <a:gd name="textAreaTop" fmla="*/ 179640 h 470880"/>
                <a:gd name="textAreaBottom" fmla="*/ 359640 h 470880"/>
              </a:gdLst>
              <a:ahLst/>
              <a:rect l="textAreaLeft" t="textAreaTop" r="textAreaRight" b="textAreaBottom"/>
              <a:pathLst>
                <a:path w="335999" h="353541">
                  <a:moveTo>
                    <a:pt x="0" y="135040"/>
                  </a:moveTo>
                  <a:lnTo>
                    <a:pt x="128341" y="135041"/>
                  </a:lnTo>
                  <a:lnTo>
                    <a:pt x="168000" y="0"/>
                  </a:lnTo>
                  <a:lnTo>
                    <a:pt x="207658" y="135041"/>
                  </a:lnTo>
                  <a:lnTo>
                    <a:pt x="335999" y="135040"/>
                  </a:lnTo>
                  <a:lnTo>
                    <a:pt x="232169" y="218499"/>
                  </a:lnTo>
                  <a:lnTo>
                    <a:pt x="271829" y="353540"/>
                  </a:lnTo>
                  <a:lnTo>
                    <a:pt x="168000" y="270079"/>
                  </a:lnTo>
                  <a:lnTo>
                    <a:pt x="64170" y="353540"/>
                  </a:lnTo>
                  <a:lnTo>
                    <a:pt x="103830" y="218499"/>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五角星 40"/>
            <p:cNvSpPr/>
            <p:nvPr/>
          </p:nvSpPr>
          <p:spPr>
            <a:xfrm>
              <a:off x="1333440" y="-1191240"/>
              <a:ext cx="188640" cy="264960"/>
            </a:xfrm>
            <a:custGeom>
              <a:avLst/>
              <a:gdLst>
                <a:gd name="textAreaLeft" fmla="*/ 58320 w 188640"/>
                <a:gd name="textAreaRight" fmla="*/ 130320 w 188640"/>
                <a:gd name="textAreaTop" fmla="*/ 101160 h 264960"/>
                <a:gd name="textAreaBottom" fmla="*/ 202680 h 264960"/>
              </a:gdLst>
              <a:ahLst/>
              <a:rect l="textAreaLeft" t="textAreaTop" r="textAreaRight" b="textAreaBottom"/>
              <a:pathLst>
                <a:path w="189193" h="199071">
                  <a:moveTo>
                    <a:pt x="0" y="76038"/>
                  </a:moveTo>
                  <a:lnTo>
                    <a:pt x="72266" y="76039"/>
                  </a:lnTo>
                  <a:lnTo>
                    <a:pt x="94597" y="0"/>
                  </a:lnTo>
                  <a:lnTo>
                    <a:pt x="116927" y="76039"/>
                  </a:lnTo>
                  <a:lnTo>
                    <a:pt x="189193" y="76038"/>
                  </a:lnTo>
                  <a:lnTo>
                    <a:pt x="130729" y="123032"/>
                  </a:lnTo>
                  <a:lnTo>
                    <a:pt x="153060" y="199070"/>
                  </a:lnTo>
                  <a:lnTo>
                    <a:pt x="94597" y="152076"/>
                  </a:lnTo>
                  <a:lnTo>
                    <a:pt x="36133" y="199070"/>
                  </a:lnTo>
                  <a:lnTo>
                    <a:pt x="58464" y="123032"/>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五角星 42"/>
            <p:cNvSpPr/>
            <p:nvPr/>
          </p:nvSpPr>
          <p:spPr>
            <a:xfrm>
              <a:off x="1225440" y="-910800"/>
              <a:ext cx="143640" cy="201600"/>
            </a:xfrm>
            <a:custGeom>
              <a:avLst/>
              <a:gdLst>
                <a:gd name="textAreaLeft" fmla="*/ 44280 w 143640"/>
                <a:gd name="textAreaRight" fmla="*/ 99360 w 143640"/>
                <a:gd name="textAreaTop" fmla="*/ 77040 h 201600"/>
                <a:gd name="textAreaBottom" fmla="*/ 154080 h 201600"/>
              </a:gdLst>
              <a:ahLst/>
              <a:rect l="textAreaLeft" t="textAreaTop" r="textAreaRight" b="textAreaBottom"/>
              <a:pathLst>
                <a:path w="144016" h="151535">
                  <a:moveTo>
                    <a:pt x="0" y="57881"/>
                  </a:moveTo>
                  <a:lnTo>
                    <a:pt x="55010" y="57881"/>
                  </a:lnTo>
                  <a:lnTo>
                    <a:pt x="72008" y="0"/>
                  </a:lnTo>
                  <a:lnTo>
                    <a:pt x="89006" y="57881"/>
                  </a:lnTo>
                  <a:lnTo>
                    <a:pt x="144016" y="57881"/>
                  </a:lnTo>
                  <a:lnTo>
                    <a:pt x="99512" y="93653"/>
                  </a:lnTo>
                  <a:lnTo>
                    <a:pt x="116511" y="151534"/>
                  </a:lnTo>
                  <a:lnTo>
                    <a:pt x="72008" y="115762"/>
                  </a:lnTo>
                  <a:lnTo>
                    <a:pt x="27505" y="151534"/>
                  </a:lnTo>
                  <a:lnTo>
                    <a:pt x="44504" y="93653"/>
                  </a:lnTo>
                  <a:close/>
                </a:path>
              </a:pathLst>
            </a:custGeom>
            <a:solidFill>
              <a:srgbClr val="c00000"/>
            </a:solidFill>
            <a:ln w="0">
              <a:noFill/>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619" name="五角星 43"/>
            <p:cNvSpPr/>
            <p:nvPr/>
          </p:nvSpPr>
          <p:spPr>
            <a:xfrm>
              <a:off x="1190520" y="-552960"/>
              <a:ext cx="71640" cy="100800"/>
            </a:xfrm>
            <a:custGeom>
              <a:avLst/>
              <a:gdLst>
                <a:gd name="textAreaLeft" fmla="*/ 21960 w 71640"/>
                <a:gd name="textAreaRight" fmla="*/ 49680 w 71640"/>
                <a:gd name="textAreaTop" fmla="*/ 38520 h 100800"/>
                <a:gd name="textAreaBottom" fmla="*/ 77040 h 100800"/>
              </a:gdLst>
              <a:ahLst/>
              <a:rect l="textAreaLeft" t="textAreaTop" r="textAreaRight" b="textAreaBottom"/>
              <a:pathLst>
                <a:path w="72008" h="75767">
                  <a:moveTo>
                    <a:pt x="0" y="28940"/>
                  </a:moveTo>
                  <a:lnTo>
                    <a:pt x="27505" y="28941"/>
                  </a:lnTo>
                  <a:lnTo>
                    <a:pt x="36004" y="0"/>
                  </a:lnTo>
                  <a:lnTo>
                    <a:pt x="44503" y="28941"/>
                  </a:lnTo>
                  <a:lnTo>
                    <a:pt x="72008" y="28940"/>
                  </a:lnTo>
                  <a:lnTo>
                    <a:pt x="49756" y="46826"/>
                  </a:lnTo>
                  <a:lnTo>
                    <a:pt x="58256" y="75767"/>
                  </a:lnTo>
                  <a:lnTo>
                    <a:pt x="36004" y="57880"/>
                  </a:lnTo>
                  <a:lnTo>
                    <a:pt x="13752" y="75767"/>
                  </a:lnTo>
                  <a:lnTo>
                    <a:pt x="22252" y="46826"/>
                  </a:lnTo>
                  <a:close/>
                </a:path>
              </a:pathLst>
            </a:custGeom>
            <a:solidFill>
              <a:srgbClr val="c00000"/>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620" name="五角星 44"/>
            <p:cNvSpPr/>
            <p:nvPr/>
          </p:nvSpPr>
          <p:spPr>
            <a:xfrm>
              <a:off x="1616760" y="-1438560"/>
              <a:ext cx="248760" cy="349200"/>
            </a:xfrm>
            <a:custGeom>
              <a:avLst/>
              <a:gdLst>
                <a:gd name="textAreaLeft" fmla="*/ 76680 w 248760"/>
                <a:gd name="textAreaRight" fmla="*/ 172080 w 248760"/>
                <a:gd name="textAreaTop" fmla="*/ 133200 h 349200"/>
                <a:gd name="textAreaBottom" fmla="*/ 266760 h 349200"/>
              </a:gdLst>
              <a:ahLst/>
              <a:rect l="textAreaLeft" t="textAreaTop" r="textAreaRight" b="textAreaBottom"/>
              <a:pathLst>
                <a:path w="249277" h="262292">
                  <a:moveTo>
                    <a:pt x="0" y="100186"/>
                  </a:moveTo>
                  <a:lnTo>
                    <a:pt x="95216" y="100187"/>
                  </a:lnTo>
                  <a:lnTo>
                    <a:pt x="124639" y="0"/>
                  </a:lnTo>
                  <a:lnTo>
                    <a:pt x="154061" y="100187"/>
                  </a:lnTo>
                  <a:lnTo>
                    <a:pt x="249277" y="100186"/>
                  </a:lnTo>
                  <a:lnTo>
                    <a:pt x="172245" y="162105"/>
                  </a:lnTo>
                  <a:lnTo>
                    <a:pt x="201669" y="262291"/>
                  </a:lnTo>
                  <a:lnTo>
                    <a:pt x="124639" y="200372"/>
                  </a:lnTo>
                  <a:lnTo>
                    <a:pt x="47608" y="262291"/>
                  </a:lnTo>
                  <a:lnTo>
                    <a:pt x="77032" y="162105"/>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1" name=""/>
          <p:cNvGrpSpPr/>
          <p:nvPr/>
        </p:nvGrpSpPr>
        <p:grpSpPr>
          <a:xfrm>
            <a:off x="0" y="190440"/>
            <a:ext cx="9180360" cy="6667560"/>
            <a:chOff x="0" y="190440"/>
            <a:chExt cx="9180360" cy="6667560"/>
          </a:xfrm>
        </p:grpSpPr>
        <p:pic>
          <p:nvPicPr>
            <p:cNvPr id="622" name="Picture 5" descr="C:\Users\Administrator\Desktop\党政机关\素材\长城\矢量长城\线稿长城2.png"/>
            <p:cNvPicPr/>
            <p:nvPr/>
          </p:nvPicPr>
          <p:blipFill>
            <a:blip r:embed="rId3"/>
            <a:srcRect l="0" t="0" r="0" b="5838"/>
            <a:stretch/>
          </p:blipFill>
          <p:spPr>
            <a:xfrm>
              <a:off x="0" y="190440"/>
              <a:ext cx="9180360" cy="6407280"/>
            </a:xfrm>
            <a:prstGeom prst="rect">
              <a:avLst/>
            </a:prstGeom>
            <a:ln w="0">
              <a:noFill/>
            </a:ln>
          </p:spPr>
        </p:pic>
        <p:sp>
          <p:nvSpPr>
            <p:cNvPr id="623" name="矩形 17"/>
            <p:cNvSpPr/>
            <p:nvPr/>
          </p:nvSpPr>
          <p:spPr>
            <a:xfrm>
              <a:off x="0" y="6597720"/>
              <a:ext cx="9180360" cy="260280"/>
            </a:xfrm>
            <a:prstGeom prst="rect">
              <a:avLst/>
            </a:prstGeom>
            <a:solidFill>
              <a:srgbClr val="9b0d13"/>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
          <p:cNvGrpSpPr/>
          <p:nvPr/>
        </p:nvGrpSpPr>
        <p:grpSpPr>
          <a:xfrm>
            <a:off x="6526080" y="3394080"/>
            <a:ext cx="1267560" cy="1063800"/>
            <a:chOff x="6526080" y="3394080"/>
            <a:chExt cx="1267560" cy="1063800"/>
          </a:xfrm>
        </p:grpSpPr>
        <p:pic>
          <p:nvPicPr>
            <p:cNvPr id="625" name="Picture 4" descr="C:\Users\Administrator\Desktop\线稿长城11.png"/>
            <p:cNvPicPr/>
            <p:nvPr/>
          </p:nvPicPr>
          <p:blipFill>
            <a:blip r:embed="rId4"/>
            <a:stretch/>
          </p:blipFill>
          <p:spPr>
            <a:xfrm>
              <a:off x="6526080" y="3394080"/>
              <a:ext cx="908640" cy="1063800"/>
            </a:xfrm>
            <a:prstGeom prst="rect">
              <a:avLst/>
            </a:prstGeom>
            <a:ln w="0">
              <a:noFill/>
            </a:ln>
          </p:spPr>
        </p:pic>
        <p:pic>
          <p:nvPicPr>
            <p:cNvPr id="626" name="Picture 4" descr="C:\Users\Administrator\Desktop\线稿长城11.png"/>
            <p:cNvPicPr/>
            <p:nvPr/>
          </p:nvPicPr>
          <p:blipFill>
            <a:blip r:embed="rId5"/>
            <a:stretch/>
          </p:blipFill>
          <p:spPr>
            <a:xfrm rot="900000">
              <a:off x="7196400" y="3579120"/>
              <a:ext cx="526320" cy="616320"/>
            </a:xfrm>
            <a:prstGeom prst="rect">
              <a:avLst/>
            </a:prstGeom>
            <a:ln w="0">
              <a:noFill/>
            </a:ln>
          </p:spPr>
        </p:pic>
      </p:grpSp>
      <p:sp>
        <p:nvSpPr>
          <p:cNvPr id="627" name="文本框 8"/>
          <p:cNvSpPr/>
          <p:nvPr/>
        </p:nvSpPr>
        <p:spPr>
          <a:xfrm>
            <a:off x="1979640" y="1557360"/>
            <a:ext cx="5224320" cy="1661040"/>
          </a:xfrm>
          <a:prstGeom prst="rect">
            <a:avLst/>
          </a:prstGeom>
          <a:noFill/>
          <a:ln w="0">
            <a:noFill/>
          </a:ln>
        </p:spPr>
        <p:style>
          <a:lnRef idx="0"/>
          <a:fillRef idx="0"/>
          <a:effectRef idx="0"/>
          <a:fontRef idx="minor"/>
        </p:style>
        <p:txBody>
          <a:bodyPr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500" spc="-1" strike="noStrike">
                <a:solidFill>
                  <a:srgbClr val="c00000"/>
                </a:solidFill>
                <a:latin typeface="华康俪金黑W8(P)"/>
                <a:ea typeface="华康俪金黑W8(P)"/>
              </a:rPr>
              <a:t>谢谢大家</a:t>
            </a:r>
            <a:endParaRPr b="0" lang="en-US" sz="6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华康俪金黑W8(P)"/>
                <a:ea typeface="华康俪金黑W8(P)"/>
              </a:rPr>
              <a:t>20</a:t>
            </a:r>
            <a:r>
              <a:rPr b="1" lang="zh-CN" sz="3600" spc="-1" strike="noStrike">
                <a:solidFill>
                  <a:srgbClr val="c00000"/>
                </a:solidFill>
                <a:latin typeface="华康俪金黑W8(P)"/>
                <a:ea typeface="华康俪金黑W8(P)"/>
              </a:rPr>
              <a:t>20</a:t>
            </a:r>
            <a:r>
              <a:rPr b="1" lang="en-US" sz="3600" spc="-1" strike="noStrike">
                <a:solidFill>
                  <a:srgbClr val="c00000"/>
                </a:solidFill>
                <a:latin typeface="华康俪金黑W8(P)"/>
                <a:ea typeface="华康俪金黑W8(P)"/>
              </a:rPr>
              <a:t>.</a:t>
            </a:r>
            <a:r>
              <a:rPr b="1" lang="zh-CN" sz="3600" spc="-1" strike="noStrike">
                <a:solidFill>
                  <a:srgbClr val="c00000"/>
                </a:solidFill>
                <a:latin typeface="华康俪金黑W8(P)"/>
                <a:ea typeface="华康俪金黑W8(P)"/>
              </a:rPr>
              <a:t>11</a:t>
            </a:r>
            <a:r>
              <a:rPr b="1" lang="en-US" sz="3600" spc="-1" strike="noStrike">
                <a:solidFill>
                  <a:srgbClr val="c00000"/>
                </a:solidFill>
                <a:latin typeface="华康俪金黑W8(P)"/>
                <a:ea typeface="华康俪金黑W8(P)"/>
              </a:rPr>
              <a:t>.1</a:t>
            </a:r>
            <a:r>
              <a:rPr b="1" lang="zh-CN" sz="3600" spc="-1" strike="noStrike">
                <a:solidFill>
                  <a:srgbClr val="c00000"/>
                </a:solidFill>
                <a:latin typeface="华康俪金黑W8(P)"/>
                <a:ea typeface="华康俪金黑W8(P)"/>
              </a:rPr>
              <a:t>7</a:t>
            </a:r>
            <a:r>
              <a:rPr b="1" lang="en-US" sz="3600" spc="-1" strike="noStrike">
                <a:solidFill>
                  <a:srgbClr val="c00000"/>
                </a:solidFill>
                <a:latin typeface="华康俪金黑W8(P)"/>
                <a:ea typeface="华康俪金黑W8(P)"/>
              </a:rPr>
              <a:t>.</a:t>
            </a:r>
            <a:endParaRPr b="0" lang="en-US" sz="3600" spc="-1" strike="noStrike">
              <a:solidFill>
                <a:srgbClr val="000000"/>
              </a:solidFill>
              <a:latin typeface="Arial"/>
            </a:endParaRPr>
          </a:p>
        </p:txBody>
      </p:sp>
    </p:spTree>
  </p:cSld>
  <p:transition spd="slow" advTm="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21"/>
                                        </p:tgtEl>
                                        <p:attrNameLst>
                                          <p:attrName>style.visibility</p:attrName>
                                        </p:attrNameLst>
                                      </p:cBhvr>
                                      <p:to>
                                        <p:strVal val="visible"/>
                                      </p:to>
                                    </p:set>
                                    <p:animEffect filter="fade" transition="in">
                                      <p:cBhvr additive="repl">
                                        <p:cTn id="7" dur="1000"/>
                                        <p:tgtEl>
                                          <p:spTgt spid="621"/>
                                        </p:tgtEl>
                                      </p:cBhvr>
                                    </p:animEffect>
                                  </p:childTnLst>
                                </p:cTn>
                              </p:par>
                            </p:childTnLst>
                          </p:cTn>
                        </p:par>
                        <p:par>
                          <p:cTn id="8" fill="hold">
                            <p:stCondLst>
                              <p:cond delay="1000"/>
                            </p:stCondLst>
                            <p:childTnLst>
                              <p:par>
                                <p:cTn id="9" nodeType="afterEffect" fill="hold" presetClass="entr" presetID="22" presetSubtype="2">
                                  <p:stCondLst>
                                    <p:cond delay="0"/>
                                  </p:stCondLst>
                                  <p:childTnLst>
                                    <p:set>
                                      <p:cBhvr>
                                        <p:cTn id="10" dur="1" fill="hold">
                                          <p:stCondLst>
                                            <p:cond delay="0"/>
                                          </p:stCondLst>
                                        </p:cTn>
                                        <p:tgtEl>
                                          <p:spTgt spid="613"/>
                                        </p:tgtEl>
                                        <p:attrNameLst>
                                          <p:attrName>style.visibility</p:attrName>
                                        </p:attrNameLst>
                                      </p:cBhvr>
                                      <p:to>
                                        <p:strVal val="visible"/>
                                      </p:to>
                                    </p:set>
                                    <p:animEffect filter="wipe(right)" transition="in">
                                      <p:cBhvr additive="repl">
                                        <p:cTn id="11" dur="1500"/>
                                        <p:tgtEl>
                                          <p:spTgt spid="613"/>
                                        </p:tgtEl>
                                      </p:cBhvr>
                                    </p:animEffect>
                                  </p:childTnLst>
                                </p:cTn>
                              </p:par>
                            </p:childTnLst>
                          </p:cTn>
                        </p:par>
                        <p:par>
                          <p:cTn id="12" fill="hold">
                            <p:stCondLst>
                              <p:cond delay="2500"/>
                            </p:stCondLst>
                            <p:childTnLst>
                              <p:par>
                                <p:cTn id="13" nodeType="afterEffect" fill="hold" presetClass="entr" presetID="10">
                                  <p:stCondLst>
                                    <p:cond delay="0"/>
                                  </p:stCondLst>
                                  <p:childTnLst>
                                    <p:set>
                                      <p:cBhvr>
                                        <p:cTn id="14" dur="1" fill="hold">
                                          <p:stCondLst>
                                            <p:cond delay="0"/>
                                          </p:stCondLst>
                                        </p:cTn>
                                        <p:tgtEl>
                                          <p:spTgt spid="614"/>
                                        </p:tgtEl>
                                        <p:attrNameLst>
                                          <p:attrName>style.visibility</p:attrName>
                                        </p:attrNameLst>
                                      </p:cBhvr>
                                      <p:to>
                                        <p:strVal val="visible"/>
                                      </p:to>
                                    </p:set>
                                    <p:animEffect filter="fade" transition="in">
                                      <p:cBhvr additive="repl">
                                        <p:cTn id="15" dur="1700"/>
                                        <p:tgtEl>
                                          <p:spTgt spid="614"/>
                                        </p:tgtEl>
                                      </p:cBhvr>
                                    </p:animEffect>
                                  </p:childTnLst>
                                </p:cTn>
                              </p:par>
                            </p:childTnLst>
                          </p:cTn>
                        </p:par>
                        <p:par>
                          <p:cTn id="16" fill="hold">
                            <p:stCondLst>
                              <p:cond delay="4200"/>
                            </p:stCondLst>
                            <p:childTnLst>
                              <p:par>
                                <p:cTn id="17" nodeType="afterEffect" fill="hold" presetClass="entr" presetID="23" presetSubtype="32">
                                  <p:stCondLst>
                                    <p:cond delay="0"/>
                                  </p:stCondLst>
                                  <p:iterate type="lt">
                                    <p:tmAbs val="633.334999084473"/>
                                  </p:iterate>
                                  <p:childTnLst>
                                    <p:set>
                                      <p:cBhvr>
                                        <p:cTn id="18" dur="1" fill="hold">
                                          <p:stCondLst>
                                            <p:cond delay="0"/>
                                          </p:stCondLst>
                                        </p:cTn>
                                        <p:tgtEl>
                                          <p:spTgt spid="627"/>
                                        </p:tgtEl>
                                        <p:attrNameLst>
                                          <p:attrName>style.visibility</p:attrName>
                                        </p:attrNameLst>
                                      </p:cBhvr>
                                      <p:to>
                                        <p:strVal val="visible"/>
                                      </p:to>
                                    </p:set>
                                    <p:anim calcmode="lin" valueType="num">
                                      <p:cBhvr additive="repl">
                                        <p:cTn id="19" dur="500" fill="hold"/>
                                        <p:tgtEl>
                                          <p:spTgt spid="627"/>
                                        </p:tgtEl>
                                        <p:attrNameLst>
                                          <p:attrName>ppt_w</p:attrName>
                                        </p:attrNameLst>
                                      </p:cBhvr>
                                      <p:tavLst>
                                        <p:tav tm="0">
                                          <p:val>
                                            <p:strVal val="4*#ppt_w"/>
                                          </p:val>
                                        </p:tav>
                                        <p:tav tm="100000">
                                          <p:val>
                                            <p:strVal val="#ppt_w"/>
                                          </p:val>
                                        </p:tav>
                                      </p:tavLst>
                                    </p:anim>
                                    <p:anim calcmode="lin" valueType="num">
                                      <p:cBhvr additive="repl">
                                        <p:cTn id="20" dur="500" fill="hold"/>
                                        <p:tgtEl>
                                          <p:spTgt spid="627"/>
                                        </p:tgtEl>
                                        <p:attrNameLst>
                                          <p:attrName>ppt_h</p:attrName>
                                        </p:attrNameLst>
                                      </p:cBhvr>
                                      <p:tavLst>
                                        <p:tav tm="0">
                                          <p:val>
                                            <p:strVal val="4*#ppt_h"/>
                                          </p:val>
                                        </p:tav>
                                        <p:tav tm="100000">
                                          <p:val>
                                            <p:strVal val="#ppt_h"/>
                                          </p:val>
                                        </p:tav>
                                      </p:tavLst>
                                    </p:anim>
                                  </p:childTnLst>
                                </p:cTn>
                              </p:par>
                            </p:childTnLst>
                          </p:cTn>
                        </p:par>
                        <p:par>
                          <p:cTn id="21" fill="hold">
                            <p:stCondLst>
                              <p:cond delay="13567"/>
                            </p:stCondLst>
                            <p:childTnLst>
                              <p:par>
                                <p:cTn id="22" nodeType="afterEffect" fill="hold" presetClass="entr" presetID="10">
                                  <p:stCondLst>
                                    <p:cond delay="0"/>
                                  </p:stCondLst>
                                  <p:childTnLst>
                                    <p:set>
                                      <p:cBhvr>
                                        <p:cTn id="23" dur="1" fill="hold">
                                          <p:stCondLst>
                                            <p:cond delay="0"/>
                                          </p:stCondLst>
                                        </p:cTn>
                                        <p:tgtEl>
                                          <p:spTgt spid="624"/>
                                        </p:tgtEl>
                                        <p:attrNameLst>
                                          <p:attrName>style.visibility</p:attrName>
                                        </p:attrNameLst>
                                      </p:cBhvr>
                                      <p:to>
                                        <p:strVal val="visible"/>
                                      </p:to>
                                    </p:set>
                                    <p:animEffect filter="fade" transition="in">
                                      <p:cBhvr additive="repl">
                                        <p:cTn id="24"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69440" y="334800"/>
            <a:ext cx="8207640" cy="612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幼圆"/>
              </a:rPr>
              <a:t>       </a:t>
            </a:r>
            <a:r>
              <a:rPr b="1" lang="zh-CN" sz="3200" spc="-1" strike="noStrike">
                <a:solidFill>
                  <a:srgbClr val="000099"/>
                </a:solidFill>
                <a:latin typeface="Arial"/>
                <a:ea typeface="幼圆"/>
              </a:rPr>
              <a:t>  </a:t>
            </a:r>
            <a:r>
              <a:rPr b="1" lang="zh-CN" sz="3200" spc="-1" strike="noStrike">
                <a:solidFill>
                  <a:srgbClr val="000099"/>
                </a:solidFill>
                <a:latin typeface="Arial"/>
                <a:ea typeface="幼圆"/>
              </a:rPr>
              <a:t>民法典“新规定”重要点共</a:t>
            </a:r>
            <a:r>
              <a:rPr b="1" lang="zh-CN" sz="3200" spc="-1" strike="noStrike">
                <a:solidFill>
                  <a:srgbClr val="000099"/>
                </a:solidFill>
                <a:latin typeface="Arial"/>
                <a:ea typeface="幼圆"/>
              </a:rPr>
              <a:t>20</a:t>
            </a:r>
            <a:r>
              <a:rPr b="1" lang="zh-CN" sz="3200" spc="-1" strike="noStrike">
                <a:solidFill>
                  <a:srgbClr val="000099"/>
                </a:solidFill>
                <a:latin typeface="Arial"/>
                <a:ea typeface="幼圆"/>
              </a:rPr>
              <a:t>处</a:t>
            </a:r>
            <a:br>
              <a:rPr sz="2800"/>
            </a:br>
            <a:br>
              <a:rPr sz="2800"/>
            </a:br>
            <a:r>
              <a:rPr b="1" lang="zh-CN" sz="3200" spc="-1" strike="noStrike">
                <a:solidFill>
                  <a:srgbClr val="000099"/>
                </a:solidFill>
                <a:latin typeface="Arial"/>
                <a:ea typeface="幼圆"/>
              </a:rPr>
              <a:t>1.</a:t>
            </a:r>
            <a:r>
              <a:rPr b="1" lang="zh-CN" sz="3200" spc="-1" strike="noStrike">
                <a:solidFill>
                  <a:srgbClr val="000099"/>
                </a:solidFill>
                <a:latin typeface="Arial"/>
                <a:ea typeface="幼圆"/>
              </a:rPr>
              <a:t>业主的建筑物区分所有权</a:t>
            </a:r>
            <a:br>
              <a:rPr sz="2800"/>
            </a:br>
            <a:r>
              <a:rPr b="1" lang="zh-CN" sz="2800" spc="-1" strike="noStrike">
                <a:solidFill>
                  <a:srgbClr val="000099"/>
                </a:solidFill>
                <a:latin typeface="Arial"/>
                <a:ea typeface="幼圆"/>
              </a:rPr>
              <a:t>      </a:t>
            </a:r>
            <a:r>
              <a:rPr b="1" lang="zh-CN" sz="2400" spc="-1" strike="noStrike">
                <a:solidFill>
                  <a:srgbClr val="000099"/>
                </a:solidFill>
                <a:latin typeface="Arial"/>
                <a:ea typeface="幼圆"/>
              </a:rPr>
              <a:t>业主可以设立业主大会，选举业主委员会。</a:t>
            </a:r>
            <a:br>
              <a:rPr sz="2400"/>
            </a:br>
            <a:r>
              <a:rPr b="1" lang="zh-CN" sz="2400" spc="-1" strike="noStrike">
                <a:solidFill>
                  <a:srgbClr val="000099"/>
                </a:solidFill>
                <a:latin typeface="Arial"/>
                <a:ea typeface="幼圆"/>
              </a:rPr>
              <a:t>       业主大会、业主委员会成立的具体条件和程序，依照法律、法规的规定。</a:t>
            </a:r>
            <a:br>
              <a:rPr sz="2400"/>
            </a:br>
            <a:r>
              <a:rPr b="1" lang="zh-CN" sz="2400" spc="-1" strike="noStrike">
                <a:solidFill>
                  <a:srgbClr val="000099"/>
                </a:solidFill>
                <a:latin typeface="Arial"/>
                <a:ea typeface="幼圆"/>
              </a:rPr>
              <a:t>       地方人民政府有关部门、居民委员会应当对设立业主大会和选举业主委员会给予指导和协助。</a:t>
            </a:r>
            <a:br>
              <a:rPr sz="2400"/>
            </a:br>
            <a:r>
              <a:rPr b="1" lang="zh-CN" sz="2400" spc="-1" strike="noStrike">
                <a:solidFill>
                  <a:srgbClr val="000099"/>
                </a:solidFill>
                <a:latin typeface="Arial"/>
                <a:ea typeface="幼圆"/>
              </a:rPr>
              <a:t>       业主共同决定事项，应当由专有部分面积占比三分之二以上的业主且人数占比三分之二以上的业主参与表决。……   </a:t>
            </a:r>
            <a:br>
              <a:rPr sz="2400"/>
            </a:br>
            <a:r>
              <a:rPr b="1" lang="zh-CN" sz="2400" spc="-1" strike="noStrike">
                <a:solidFill>
                  <a:srgbClr val="000099"/>
                </a:solidFill>
                <a:latin typeface="Arial"/>
                <a:ea typeface="幼圆"/>
              </a:rPr>
              <a:t>      使用建筑物及其附属设施的维修资金，应当经参与表决专有部分面积过半数的业主且参与表决人数过半数的业主同意。</a:t>
            </a:r>
            <a:br>
              <a:rPr sz="2400"/>
            </a:b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11280" y="336240"/>
            <a:ext cx="8424720" cy="611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99"/>
                </a:solidFill>
                <a:latin typeface="Arial"/>
                <a:ea typeface="幼圆"/>
              </a:rPr>
              <a:t>2.</a:t>
            </a:r>
            <a:r>
              <a:rPr b="1" lang="zh-CN" sz="3000" spc="-1" strike="noStrike">
                <a:solidFill>
                  <a:srgbClr val="000099"/>
                </a:solidFill>
                <a:latin typeface="Arial"/>
                <a:ea typeface="幼圆"/>
              </a:rPr>
              <a:t>农村土地三权分置</a:t>
            </a:r>
            <a:br>
              <a:rPr sz="3000"/>
            </a:br>
            <a:r>
              <a:rPr b="1" lang="zh-CN" sz="3000" spc="-1" strike="noStrike">
                <a:solidFill>
                  <a:srgbClr val="000099"/>
                </a:solidFill>
                <a:latin typeface="Arial"/>
                <a:ea typeface="幼圆"/>
              </a:rPr>
              <a:t>       农村土地三权：所有权、承包权、经营权。</a:t>
            </a:r>
            <a:br>
              <a:rPr sz="3000"/>
            </a:br>
            <a:r>
              <a:rPr b="1" lang="zh-CN" sz="3000" spc="-1" strike="noStrike">
                <a:solidFill>
                  <a:srgbClr val="000099"/>
                </a:solidFill>
                <a:latin typeface="Arial"/>
                <a:ea typeface="幼圆"/>
              </a:rPr>
              <a:t>      土地承包经营权人可以自主决定依法采取出租、入股或者其他方式向他人流转土地经营权。</a:t>
            </a:r>
            <a:br>
              <a:rPr sz="3000"/>
            </a:br>
            <a:r>
              <a:rPr b="1" lang="zh-CN" sz="3000" spc="-1" strike="noStrike">
                <a:solidFill>
                  <a:srgbClr val="000099"/>
                </a:solidFill>
                <a:latin typeface="Arial"/>
                <a:ea typeface="幼圆"/>
              </a:rPr>
              <a:t>      “三权分置”下，所有权、承包权、经营权既存在整体效应，又有各自功能。</a:t>
            </a:r>
            <a:br>
              <a:rPr sz="3000"/>
            </a:br>
            <a:r>
              <a:rPr b="1" lang="zh-CN" sz="3000" spc="-1" strike="noStrike">
                <a:solidFill>
                  <a:srgbClr val="000099"/>
                </a:solidFill>
                <a:latin typeface="Arial"/>
                <a:ea typeface="幼圆"/>
              </a:rPr>
              <a:t>        通过“三权分置”，土地的综合效应能得到充分体现，能广泛调动农民积极性，彻底解决三农问题。利用市场功能自动调节，农业人口能自动回归农村。</a:t>
            </a:r>
            <a:br>
              <a:rPr sz="3000"/>
            </a:br>
            <a:r>
              <a:rPr b="1" lang="zh-CN" sz="3000" spc="-1" strike="noStrike">
                <a:solidFill>
                  <a:srgbClr val="000099"/>
                </a:solidFill>
                <a:latin typeface="Arial"/>
                <a:ea typeface="幼圆"/>
              </a:rPr>
              <a:t>      </a:t>
            </a:r>
            <a:br>
              <a:rPr sz="3000"/>
            </a:br>
            <a:endParaRPr b="1" lang="en-US" sz="3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3"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3600" spc="-1" strike="noStrike">
                <a:solidFill>
                  <a:srgbClr val="000000"/>
                </a:solidFill>
                <a:latin typeface="Arial"/>
              </a:rPr>
              <a:t>3.</a:t>
            </a:r>
            <a:r>
              <a:rPr b="1" lang="zh-CN" sz="3600" spc="-1" strike="noStrike">
                <a:solidFill>
                  <a:srgbClr val="000000"/>
                </a:solidFill>
                <a:latin typeface="Arial"/>
              </a:rPr>
              <a:t>建设用地使用权的续期</a:t>
            </a:r>
            <a:endParaRPr b="1" lang="en-US" sz="36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住宅建设用地使用权期限届满的，自动续期。  </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续期费用的缴纳或者减免，依照法律、行政法规的规定办理。</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届满后，涉及重新缴纳土地出让金。</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给百姓吃了“定心丸”！</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PlaceHolder 2"/>
          <p:cNvSpPr>
            <a:spLocks noGrp="1"/>
          </p:cNvSpPr>
          <p:nvPr>
            <p:ph/>
          </p:nvPr>
        </p:nvSpPr>
        <p:spPr>
          <a:xfrm>
            <a:off x="-360" y="909720"/>
            <a:ext cx="8642520" cy="4597200"/>
          </a:xfrm>
          <a:prstGeom prst="rect">
            <a:avLst/>
          </a:prstGeom>
          <a:noFill/>
          <a:ln w="0">
            <a:noFill/>
          </a:ln>
        </p:spPr>
        <p:txBody>
          <a:bodyPr lIns="90000" rIns="90000" tIns="46800" bIns="46800"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居住权</a:t>
            </a:r>
            <a:br>
              <a:rPr sz="1400"/>
            </a:br>
            <a:br>
              <a:rPr sz="1400"/>
            </a:br>
            <a:r>
              <a:rPr b="0" lang="zh-CN" sz="1600" spc="-1" strike="noStrike">
                <a:solidFill>
                  <a:srgbClr val="000000"/>
                </a:solidFill>
                <a:latin typeface="Arial"/>
              </a:rPr>
              <a:t>       </a:t>
            </a:r>
            <a:r>
              <a:rPr b="0" lang="zh-CN" sz="2800" spc="-1" strike="noStrike">
                <a:solidFill>
                  <a:srgbClr val="000000"/>
                </a:solidFill>
                <a:latin typeface="Arial"/>
              </a:rPr>
              <a:t>    居住权人有权按照合同约定，对他人的住宅享有占有、使用的用益物权，以满足生活需要。</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立居住权，当事人应当采用书面形式订立居住权合同。</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居住权合同一般包括下列条款：</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当事人的姓名或者名称和住所；</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住宅的位置；</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居住的条件和要求；</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四）居住权期限；</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五）解决争议的方法。</a:t>
            </a:r>
            <a:endParaRPr b="0" lang="en-US" sz="2800" spc="-1" strike="noStrike">
              <a:solidFill>
                <a:srgbClr val="000000"/>
              </a:solidFill>
              <a:latin typeface="Arial"/>
            </a:endParaRPr>
          </a:p>
          <a:p>
            <a:pPr marL="301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577" name="PlaceHolder 2"/>
          <p:cNvSpPr>
            <a:spLocks noGrp="1"/>
          </p:cNvSpPr>
          <p:nvPr>
            <p:ph/>
          </p:nvPr>
        </p:nvSpPr>
        <p:spPr>
          <a:xfrm>
            <a:off x="469800" y="1196640"/>
            <a:ext cx="8568000" cy="4606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800" spc="-1" strike="noStrike">
                <a:solidFill>
                  <a:srgbClr val="000000"/>
                </a:solidFill>
                <a:latin typeface="Arial"/>
              </a:rPr>
              <a:t>居住权无偿设立，但是当事人另有约定的除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立居住权的，应当向登记机构申请居住权登记。居住权自登记时设立。居住权不得转让、继承。</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立居住权的住宅不得出租，但是当事人另有约定的除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居住权期限届满或者居住权人死亡的，居住权消灭。</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居住权消灭的，应当及时办理注销登记。</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400"/>
            </a:br>
            <a:endParaRPr b="0" lang="en-US" sz="2800" spc="-1" strike="noStrike">
              <a:solidFill>
                <a:srgbClr val="000000"/>
              </a:solidFill>
              <a:latin typeface="Arial"/>
            </a:endParaRPr>
          </a:p>
        </p:txBody>
      </p:sp>
      <p:sp>
        <p:nvSpPr>
          <p:cNvPr id="578" name=""/>
          <p:cNvSpPr/>
          <p:nvPr/>
        </p:nvSpPr>
        <p:spPr>
          <a:xfrm>
            <a:off x="181080" y="190440"/>
            <a:ext cx="1150920" cy="307080"/>
          </a:xfrm>
          <a:prstGeom prst="rect">
            <a:avLst/>
          </a:prstGeom>
          <a:noFill/>
          <a:ln w="9360">
            <a:solidFill>
              <a:srgbClr val="808080"/>
            </a:solidFill>
            <a:prstDash val="dashDot"/>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OG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60000" y="274320"/>
            <a:ext cx="758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5.</a:t>
            </a:r>
            <a:r>
              <a:rPr b="1" lang="zh-CN" sz="4400" spc="-1" strike="noStrike">
                <a:solidFill>
                  <a:srgbClr val="666699"/>
                </a:solidFill>
                <a:latin typeface="Arial"/>
              </a:rPr>
              <a:t>预约合同</a:t>
            </a:r>
            <a:endParaRPr b="1" lang="en-US" sz="4400" spc="-1" strike="noStrike">
              <a:solidFill>
                <a:srgbClr val="666699"/>
              </a:solidFill>
              <a:latin typeface="Arial"/>
            </a:endParaRPr>
          </a:p>
        </p:txBody>
      </p:sp>
      <p:sp>
        <p:nvSpPr>
          <p:cNvPr id="580" name="PlaceHolder 2"/>
          <p:cNvSpPr>
            <a:spLocks noGrp="1"/>
          </p:cNvSpPr>
          <p:nvPr>
            <p:ph/>
          </p:nvPr>
        </p:nvSpPr>
        <p:spPr>
          <a:xfrm>
            <a:off x="1116000" y="1125000"/>
            <a:ext cx="7440480" cy="4526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当事人约定在将来一定期限内订立合同的认购书、订购书、预订书等，构成预约合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当事人一方不履行预约合同约定的订立合同义务的，对方可以请求其承担预约合同的违约责任。</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所谓预约，即约定将来定立一定契约的契约。是合同的一部分。与民事要约不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332000" y="169200"/>
            <a:ext cx="7516800" cy="70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6699"/>
              </a:solidFill>
              <a:latin typeface="Arial"/>
            </a:endParaRPr>
          </a:p>
        </p:txBody>
      </p:sp>
      <p:sp>
        <p:nvSpPr>
          <p:cNvPr id="582" name="PlaceHolder 2"/>
          <p:cNvSpPr>
            <a:spLocks noGrp="1"/>
          </p:cNvSpPr>
          <p:nvPr>
            <p:ph/>
          </p:nvPr>
        </p:nvSpPr>
        <p:spPr>
          <a:xfrm>
            <a:off x="1258560" y="1197000"/>
            <a:ext cx="7427880" cy="49291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6.</a:t>
            </a:r>
            <a:r>
              <a:rPr b="0" lang="zh-CN" sz="3200" spc="-1" strike="noStrike">
                <a:solidFill>
                  <a:srgbClr val="000000"/>
                </a:solidFill>
                <a:latin typeface="Arial"/>
              </a:rPr>
              <a:t>明确规定禁止高利放贷</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禁止高利放贷，借款的利率不得违反国家有关规定。</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借款合同对支付利息没有约定的，视为没有利息。</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按照国家规定，年利率超过</a:t>
            </a:r>
            <a:r>
              <a:rPr b="0" lang="zh-CN" sz="2400" spc="-1" strike="noStrike">
                <a:solidFill>
                  <a:srgbClr val="000000"/>
                </a:solidFill>
                <a:latin typeface="Arial"/>
              </a:rPr>
              <a:t>36%</a:t>
            </a:r>
            <a:r>
              <a:rPr b="0" lang="zh-CN" sz="2400" spc="-1" strike="noStrike">
                <a:solidFill>
                  <a:srgbClr val="000000"/>
                </a:solidFill>
                <a:latin typeface="Arial"/>
              </a:rPr>
              <a:t>的，则是高利贷。</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最高人民法院《关于审理民间借贷案件适用法律若干问题的规定》中第二十六条规定：借贷双方约定的利率未超过年利率</a:t>
            </a:r>
            <a:r>
              <a:rPr b="0" lang="zh-CN" sz="2400" spc="-1" strike="noStrike">
                <a:solidFill>
                  <a:srgbClr val="000000"/>
                </a:solidFill>
                <a:latin typeface="Arial"/>
              </a:rPr>
              <a:t>24%</a:t>
            </a:r>
            <a:r>
              <a:rPr b="0" lang="zh-CN" sz="2400" spc="-1" strike="noStrike">
                <a:solidFill>
                  <a:srgbClr val="000000"/>
                </a:solidFill>
                <a:latin typeface="Arial"/>
              </a:rPr>
              <a:t>，出借人请求借款人按照约定的利率支付利息的，人民法院应予支持。</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借贷双方约定的利率超过年利率</a:t>
            </a:r>
            <a:r>
              <a:rPr b="0" lang="zh-CN" sz="2400" spc="-1" strike="noStrike">
                <a:solidFill>
                  <a:srgbClr val="000000"/>
                </a:solidFill>
                <a:latin typeface="Arial"/>
              </a:rPr>
              <a:t>36%</a:t>
            </a:r>
            <a:r>
              <a:rPr b="0" lang="zh-CN" sz="2400" spc="-1" strike="noStrike">
                <a:solidFill>
                  <a:srgbClr val="000000"/>
                </a:solidFill>
                <a:latin typeface="Arial"/>
              </a:rPr>
              <a:t>，超过部分的利息约定无效。借款人请求出借人返还已支付的超过年利率</a:t>
            </a:r>
            <a:r>
              <a:rPr b="0" lang="zh-CN" sz="2400" spc="-1" strike="noStrike">
                <a:solidFill>
                  <a:srgbClr val="000000"/>
                </a:solidFill>
                <a:latin typeface="Arial"/>
              </a:rPr>
              <a:t>36%</a:t>
            </a:r>
            <a:r>
              <a:rPr b="0" lang="zh-CN" sz="2400" spc="-1" strike="noStrike">
                <a:solidFill>
                  <a:srgbClr val="000000"/>
                </a:solidFill>
                <a:latin typeface="Arial"/>
              </a:rPr>
              <a:t>部分的利息的，人民法院应予支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14:25:10Z</dcterms:created>
  <dc:creator>Yenny</dc:creator>
  <dc:description/>
  <dc:language>en-US</dc:language>
  <cp:lastModifiedBy>User</cp:lastModifiedBy>
  <cp:lastPrinted>1899-12-30T00:00:00Z</cp:lastPrinted>
  <dcterms:modified xsi:type="dcterms:W3CDTF">2020-11-13T02:46:49Z</dcterms:modified>
  <cp:revision>111</cp:revision>
  <dc:subject/>
  <dc:title>刑事诉讼法讲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