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830-CDA9-44D0-9617-D82CE8D6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6734-2EEA-4A6D-AAC9-178FDB4B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51A0C-E563-49BC-97D9-BD77291F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7C8D9-2DCD-448B-BA50-A62FC5DD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8BEB8-A610-432E-BCD5-8072F401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08751-553A-4CB5-997A-226D120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10764-6BA5-463D-A521-F776F00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02E3E-0FE0-4159-BA30-7E7D123F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5A447-3500-40DA-A750-972C9B4B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2329-7383-4E7B-AA4D-FA2A1044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BB3E0-639D-48FE-A7E2-EFAEE548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4CF6D-6A11-407C-99E6-493D64E7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C78-DC51-4E54-A682-71189884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CBE03-85D4-43CA-BF3F-22D3F6DB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7FE1E-B1E8-4CB3-8589-07B770EA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DF160-1E95-4AF1-8B60-A3C6B268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A4E30-11B2-4B60-827A-723A26EE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4B32F-70A5-43B7-9E28-8D5D4D70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E5183-BD4B-4448-8FD4-B58DD7F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CCF4C-B523-4C76-B33B-08D59055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01BA9-CDF8-4D9C-9853-3A7DD94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3A944-B8FC-40E8-A3B7-DE5655D6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D9237-218E-4C8B-9699-014ECB0C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1A6-37D1-4ACC-B42A-F97F88A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3B276-A52D-4497-80AF-43DEB1A9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FE932-BA4A-47EF-BD78-B459F79C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703C5-7CCA-4777-AA39-4121DDDC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85059-6F6E-4FBF-92D0-8EB265CA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A500-61A9-4F3F-98EE-F4CC012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EF653-A960-47FC-9749-4CD6A392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FCA7D-D71A-4AB2-AB04-90F41516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CEAAC-54F3-44EA-BFAD-1078AD1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2C4DD-634A-4061-BEC5-A431323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2FDE6-A7CA-42E9-9BB3-878E2D6B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471D-3239-4B28-8F7F-DEFE913D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35BEF-968E-49DD-A187-0EE2C166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AE5EC-C9E0-4BBA-A45D-8DFEB211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953A8-5000-4C9D-8C99-57CD80AF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1D695-55C4-41AA-816C-ECD261E0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59329-2174-48FD-90BB-F1A98BE0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DCC83-B55B-4338-9F23-1E7A2C5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82B15-11D3-4CD2-A898-BF8FDAAB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A3ED0-D873-444D-B030-5B494506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AE8A1-7065-4AA2-B8D4-597B3683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3A80D-BD1F-481D-85CF-53EAD51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A4FB-6EA0-4AC8-8017-B84A99FA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41282-2EA9-476B-8FF2-40CE83A1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4D99F-1086-46D6-AED7-69C1C695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87C81-4B9B-41B3-9BED-FD14452A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AFAD0-4D8B-4490-802B-205A4B06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017F2-A064-4596-BDCE-01DC77EF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9170E-9702-4FE1-AD6A-0F34913F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D0ACB-0603-4729-B402-E6FC4C9B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6E474-B373-4194-944A-2129EFD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91889-B19F-4A57-A455-4BA50731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96C7C-2051-483A-A45B-9EEA90D8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208D-E058-4850-B346-38623BE7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01075-E6C3-4A07-88A3-07C68891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F3F9E-E592-4EF4-B672-49CE913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3730B-CD9B-46C6-B000-FCE9FE71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37E06-6800-48C2-BB2B-30D74E7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CADE2-5E91-44CA-9A5D-27B6CF87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ADC30-0431-4B7A-948B-5138F966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0B831-F517-47C6-A7CD-BF089D1F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6F09-80D6-4CE7-998A-29B889B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2C42-607E-451F-B4B6-CE9ABE11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743B-5AE0-4214-B04A-078521C4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F2B5-ED93-4DC3-B182-CF1742EB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D3A-7A17-43A6-9183-7452A5AB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A828-46F8-4511-AAEB-798B556C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74F6-1066-44CA-A424-E4B3F060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6EB0-93E0-4375-945A-8F1A489D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9FEE-B932-4858-842C-DAD23513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1BAC-1ED0-41C4-9ABD-57918FAF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491C-03C5-4F92-8E9E-62830A1F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22FB-0EA6-4160-A40E-F365DC40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07C16-B92D-4391-80D6-30A0F394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B055-8C0F-4E19-B8FE-BF2D1C9D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EFEE-35C4-44D0-94EB-7BD22916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2FD-06FE-4698-AF13-254659EB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27A3-AFD9-41BC-BE5A-78685E6A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1B84-5147-403C-8AEA-64E59A92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32AD-871A-4AAA-A42A-D5AFD94A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0911-3AEB-42B7-9978-3833D507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CB30-1DC9-48F9-8B7F-93D9080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AD4D-3B9B-400D-A54E-EA3B3E1E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5EC6-066C-47DB-B9A8-E82C2D49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41DC-1DA9-4A91-AC74-2BC869EA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5A23-BB30-4745-8950-529E385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85D4-DF4C-4F63-9208-9894F6FD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1DC-2DAE-4E5E-91C0-8AC37875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DF085-0A55-4E79-A6B5-A4C4E102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E5818-98D2-45D3-B7A6-D3FE3666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F431-0B51-4BFB-9D9D-B9E84E12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CA3F-87A7-4BEA-B60D-710F689A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F1142-798F-4DF6-95C3-DCAC82A6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31F3-E35E-498D-A6EA-2C10F0F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68C4-09F0-4CAB-B83C-7E069A0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47F2E-EE90-4644-B8BB-2AB6942C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F60E-665C-49A0-8078-2ECEFF93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412E6-7CF7-42FF-96B9-4FDC858B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B6B-34BE-49D9-BD3B-3ADD3790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46344-7CE3-47BF-913A-2C3B20C6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BE2F-D845-4033-BB15-640420C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6BA86-5B3F-448C-98FB-BA10C0A5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43B5-1FBE-4875-AD14-434EB6A7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A81A2-51BC-4D20-9543-E761E7F6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A06F4-DCDF-4DFE-855C-B0FF795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6C3A7-E693-4233-88B2-6F36E9EC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193D-B8D2-44D7-B324-5E1112C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A0A9-1B38-453F-8610-B67FC230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6BC09-A508-4BBD-90B3-0E496A3E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28F-F273-488C-A864-7B73109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590F-CCC3-4C1C-A54D-899DDB4D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31AF-D383-4D31-998D-0F1EDA96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BC167-C5B1-403F-A35B-8462B5D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87FE-4298-4BF8-8A11-84ABBA6E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52C5-1DDA-40D9-8D20-09556F99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8E380-156F-4C0E-BDC3-A7213494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A6A79-9E9C-41DF-AD76-25EF139B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2BF04-DD78-4269-9D69-0253AAF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E7640-2F4A-41C1-9DC3-DDAEAA5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F324-97FC-4DA6-8D0C-18758A0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7BCC-D90E-41F4-B36A-09DFB01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77B79-254C-4E22-A75F-A6C32436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A7633-D5A5-4EDF-9FD2-22BBACAC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415B-0966-4CF7-84D4-D69120E4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20B0-C0AD-436B-8565-85F6EC84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B853-436E-46B8-8A22-CC959166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CAA19-A363-4065-B46D-0B1CC54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95E5-CA06-4969-B076-BFD73212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8C417-B263-4B0E-BA11-2802566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956B-545B-4BFE-96E4-1A75B272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44E16-52A1-45F0-95C3-DE177CD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A32-D156-418E-B548-F2F4E74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7E13-2F18-4CAC-8253-34075A26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071EE-2027-4411-92AF-E7EDE41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C588-BF91-4FA7-87D6-6336E8D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B6A89-E5F2-4369-8D4C-A98186F6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AAC33-9132-4445-B6E6-B40DBE54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244D-074F-4A79-B949-3FCC8D7B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ACF9D-9E5F-4B51-98EB-B9FB388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B9176-B276-4953-ABCB-D3F0284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80332-FE79-42A0-8D74-6003EAB1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1766D-69E0-4177-A61E-D25DE02D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12D-BA56-4F51-86BD-153E3E02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8D22-F48B-4232-8388-B0606286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92F90-D160-46CF-93BD-A2AB0F9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EEB14-AAE8-4F56-9461-E7EA2062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6453-8990-4AA8-978B-A421905C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4C71B-08A6-4C4F-BAB5-37AD943B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4B7B-8A0D-4418-9FB6-FEC2CC34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BDB7-6D69-477D-B06F-ABBAE7E9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64BB2-67FE-4218-B989-60330B96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8577A-A278-4719-9D1B-ED568F5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2EBE1-23F9-463C-B4A8-599318F1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369-79F3-48FE-97C2-FE82EA4BFB7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7482-C1FD-4D8E-99A6-15A1DA8406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FA13-1F2E-49C6-AEB5-84F1D830C0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E095-5DF6-4D64-A0DB-4A63C62A50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8BDC-FF81-48B0-A026-36214689CD7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86E5-ED57-44CE-9A60-3537D106EF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0B4A-3053-4B44-8486-2FAE9A18A5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B34C-64CB-4199-8014-A6D6BD668AB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693C-FC84-4E08-84E0-FF98DCC4D36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0E30-AA70-4ED5-865D-F56ABF09C2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31AE-25F0-4F72-AB74-77D743FAA3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ACFB-FD17-4187-A210-94BE4C3421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7D8-BBE0-4F49-A4A4-51CC49D869E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7A74-9037-4BD9-AE75-38615D69EEB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A02C-1F7F-4056-8FB6-E086B50D1BF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DBC2-1AAC-4E22-BE0B-558A09B0890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BE63-2E43-4EFA-8427-52C8B547BB3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8C5-B229-4106-9512-2A210686EAC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18AD-4DB6-4B65-BF02-AF85016220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93F1-7480-40AF-B73C-A8303EA4B78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BC0C-0702-4F13-9AEB-CEE57B64928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7DBC-7A93-4DDB-90C6-D8CE75ED62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8C1B-3EE7-4A3C-A0BD-42817A88699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64E0-D601-4F08-8B14-F62B02E6BB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E20B-ADBE-4373-9102-19745066723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1500-6FB7-4DBB-A5BD-CD65BA1CB09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99"/>
          <p:cNvSpPr/>
          <p:nvPr/>
        </p:nvSpPr>
        <p:spPr>
          <a:xfrm>
            <a:off x="2268000" y="1957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农产品品牌运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00"/>
          <p:cNvSpPr/>
          <p:nvPr/>
        </p:nvSpPr>
        <p:spPr>
          <a:xfrm>
            <a:off x="1644120" y="303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101"/>
          <p:cNvGrpSpPr/>
          <p:nvPr/>
        </p:nvGrpSpPr>
        <p:grpSpPr>
          <a:xfrm>
            <a:off x="749160" y="2766600"/>
            <a:ext cx="5996160" cy="195840"/>
            <a:chOff x="749160" y="2766600"/>
            <a:chExt cx="5996160" cy="195840"/>
          </a:xfrm>
        </p:grpSpPr>
        <p:sp>
          <p:nvSpPr>
            <p:cNvPr id="550" name="矩形 102"/>
            <p:cNvSpPr/>
            <p:nvPr/>
          </p:nvSpPr>
          <p:spPr>
            <a:xfrm rot="16200000">
              <a:off x="3722400" y="-145440"/>
              <a:ext cx="49320" cy="59961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103"/>
            <p:cNvSpPr/>
            <p:nvPr/>
          </p:nvSpPr>
          <p:spPr>
            <a:xfrm rot="16200000">
              <a:off x="3735000" y="-192960"/>
              <a:ext cx="24480" cy="59961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04"/>
            <p:cNvSpPr/>
            <p:nvPr/>
          </p:nvSpPr>
          <p:spPr>
            <a:xfrm rot="16200000">
              <a:off x="3739680" y="-223920"/>
              <a:ext cx="14760" cy="599616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105"/>
            <p:cNvSpPr/>
            <p:nvPr/>
          </p:nvSpPr>
          <p:spPr>
            <a:xfrm rot="16200000">
              <a:off x="3710160" y="-72360"/>
              <a:ext cx="74160" cy="59961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4" name="图片 9" descr=""/>
          <p:cNvPicPr/>
          <p:nvPr/>
        </p:nvPicPr>
        <p:blipFill>
          <a:blip r:embed="rId2"/>
          <a:stretch/>
        </p:blipFill>
        <p:spPr>
          <a:xfrm>
            <a:off x="3146400" y="3110040"/>
            <a:ext cx="257184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品牌定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31"/>
          <p:cNvGrpSpPr/>
          <p:nvPr/>
        </p:nvGrpSpPr>
        <p:grpSpPr>
          <a:xfrm>
            <a:off x="504360" y="1411200"/>
            <a:ext cx="4429080" cy="4622400"/>
            <a:chOff x="504360" y="1411200"/>
            <a:chExt cx="4429080" cy="4622400"/>
          </a:xfrm>
        </p:grpSpPr>
        <p:sp>
          <p:nvSpPr>
            <p:cNvPr id="628" name="任意多边形 29"/>
            <p:cNvSpPr/>
            <p:nvPr/>
          </p:nvSpPr>
          <p:spPr>
            <a:xfrm flipH="1" flipV="1">
              <a:off x="1591200" y="3770640"/>
              <a:ext cx="2298600" cy="2262600"/>
            </a:xfrm>
            <a:custGeom>
              <a:avLst/>
              <a:gdLst/>
              <a:ahLst/>
              <a:rect l="l" t="t" r="r" b="b"/>
              <a:pathLst>
                <a:path w="2969116" h="2922369">
                  <a:moveTo>
                    <a:pt x="1299463" y="2197576"/>
                  </a:moveTo>
                  <a:lnTo>
                    <a:pt x="1332628" y="2207871"/>
                  </a:lnTo>
                  <a:lnTo>
                    <a:pt x="1315965" y="2224739"/>
                  </a:lnTo>
                  <a:lnTo>
                    <a:pt x="1299463" y="2197576"/>
                  </a:lnTo>
                  <a:close/>
                  <a:moveTo>
                    <a:pt x="0" y="1484558"/>
                  </a:moveTo>
                  <a:cubicBezTo>
                    <a:pt x="0" y="664659"/>
                    <a:pt x="664659" y="0"/>
                    <a:pt x="1484558" y="0"/>
                  </a:cubicBezTo>
                  <a:cubicBezTo>
                    <a:pt x="2304457" y="0"/>
                    <a:pt x="2969116" y="664659"/>
                    <a:pt x="2969116" y="1484558"/>
                  </a:cubicBezTo>
                  <a:cubicBezTo>
                    <a:pt x="2969116" y="1946953"/>
                    <a:pt x="2757717" y="2359972"/>
                    <a:pt x="2426295" y="2632241"/>
                  </a:cubicBezTo>
                  <a:lnTo>
                    <a:pt x="2291178" y="2729920"/>
                  </a:lnTo>
                  <a:lnTo>
                    <a:pt x="2483627" y="2922369"/>
                  </a:lnTo>
                  <a:lnTo>
                    <a:pt x="1563589" y="2922369"/>
                  </a:lnTo>
                  <a:lnTo>
                    <a:pt x="1563589" y="2002331"/>
                  </a:lnTo>
                  <a:lnTo>
                    <a:pt x="1737709" y="2176450"/>
                  </a:lnTo>
                  <a:lnTo>
                    <a:pt x="1772305" y="2165711"/>
                  </a:lnTo>
                  <a:cubicBezTo>
                    <a:pt x="2037632" y="2053487"/>
                    <a:pt x="2223804" y="1790764"/>
                    <a:pt x="2223804" y="1484558"/>
                  </a:cubicBezTo>
                  <a:cubicBezTo>
                    <a:pt x="2223804" y="1076284"/>
                    <a:pt x="1892832" y="745312"/>
                    <a:pt x="1484558" y="745312"/>
                  </a:cubicBezTo>
                  <a:cubicBezTo>
                    <a:pt x="1076284" y="745312"/>
                    <a:pt x="745312" y="1076284"/>
                    <a:pt x="745312" y="1484558"/>
                  </a:cubicBezTo>
                  <a:cubicBezTo>
                    <a:pt x="745312" y="1535593"/>
                    <a:pt x="750483" y="1585419"/>
                    <a:pt x="760331" y="1633542"/>
                  </a:cubicBezTo>
                  <a:lnTo>
                    <a:pt x="776482" y="1685572"/>
                  </a:lnTo>
                  <a:lnTo>
                    <a:pt x="740539" y="1663736"/>
                  </a:lnTo>
                  <a:cubicBezTo>
                    <a:pt x="530187" y="1549466"/>
                    <a:pt x="289129" y="1484558"/>
                    <a:pt x="32911" y="1484558"/>
                  </a:cubicBezTo>
                  <a:lnTo>
                    <a:pt x="83" y="1486216"/>
                  </a:lnTo>
                  <a:lnTo>
                    <a:pt x="0" y="1484558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27"/>
            <p:cNvSpPr/>
            <p:nvPr/>
          </p:nvSpPr>
          <p:spPr>
            <a:xfrm>
              <a:off x="1578240" y="1411200"/>
              <a:ext cx="2298600" cy="2252880"/>
            </a:xfrm>
            <a:custGeom>
              <a:avLst/>
              <a:gdLst/>
              <a:ahLst/>
              <a:rect l="l" t="t" r="r" b="b"/>
              <a:pathLst>
                <a:path w="2969116" h="2910073">
                  <a:moveTo>
                    <a:pt x="1332628" y="2207871"/>
                  </a:moveTo>
                  <a:lnTo>
                    <a:pt x="1315965" y="2224739"/>
                  </a:lnTo>
                  <a:lnTo>
                    <a:pt x="1299463" y="2197576"/>
                  </a:lnTo>
                  <a:lnTo>
                    <a:pt x="1332628" y="2207871"/>
                  </a:lnTo>
                  <a:close/>
                  <a:moveTo>
                    <a:pt x="2969116" y="1484558"/>
                  </a:moveTo>
                  <a:cubicBezTo>
                    <a:pt x="2969116" y="2013009"/>
                    <a:pt x="2693003" y="2476970"/>
                    <a:pt x="2277174" y="2740043"/>
                  </a:cubicBezTo>
                  <a:lnTo>
                    <a:pt x="2271609" y="2743220"/>
                  </a:lnTo>
                  <a:lnTo>
                    <a:pt x="2438462" y="2910073"/>
                  </a:lnTo>
                  <a:lnTo>
                    <a:pt x="1518424" y="2910073"/>
                  </a:lnTo>
                  <a:lnTo>
                    <a:pt x="1518424" y="1990035"/>
                  </a:lnTo>
                  <a:lnTo>
                    <a:pt x="1712626" y="2184237"/>
                  </a:lnTo>
                  <a:lnTo>
                    <a:pt x="1772305" y="2165711"/>
                  </a:lnTo>
                  <a:cubicBezTo>
                    <a:pt x="2037632" y="2053487"/>
                    <a:pt x="2223804" y="1790764"/>
                    <a:pt x="2223804" y="1484558"/>
                  </a:cubicBezTo>
                  <a:cubicBezTo>
                    <a:pt x="2223804" y="1076284"/>
                    <a:pt x="1892832" y="745312"/>
                    <a:pt x="1484558" y="745312"/>
                  </a:cubicBezTo>
                  <a:cubicBezTo>
                    <a:pt x="1076284" y="745312"/>
                    <a:pt x="745312" y="1076284"/>
                    <a:pt x="745312" y="1484558"/>
                  </a:cubicBezTo>
                  <a:cubicBezTo>
                    <a:pt x="745312" y="1535593"/>
                    <a:pt x="750483" y="1585419"/>
                    <a:pt x="760331" y="1633542"/>
                  </a:cubicBezTo>
                  <a:lnTo>
                    <a:pt x="776482" y="1685572"/>
                  </a:lnTo>
                  <a:lnTo>
                    <a:pt x="740539" y="1663736"/>
                  </a:lnTo>
                  <a:cubicBezTo>
                    <a:pt x="530187" y="1549466"/>
                    <a:pt x="289129" y="1484558"/>
                    <a:pt x="32911" y="1484558"/>
                  </a:cubicBezTo>
                  <a:lnTo>
                    <a:pt x="83" y="1486216"/>
                  </a:lnTo>
                  <a:lnTo>
                    <a:pt x="0" y="1484558"/>
                  </a:lnTo>
                  <a:cubicBezTo>
                    <a:pt x="0" y="664659"/>
                    <a:pt x="664659" y="0"/>
                    <a:pt x="1484558" y="0"/>
                  </a:cubicBezTo>
                  <a:cubicBezTo>
                    <a:pt x="2304457" y="0"/>
                    <a:pt x="2969116" y="664659"/>
                    <a:pt x="2969116" y="1484558"/>
                  </a:cubicBez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28"/>
            <p:cNvSpPr/>
            <p:nvPr/>
          </p:nvSpPr>
          <p:spPr>
            <a:xfrm flipH="1" rot="10800000">
              <a:off x="2763360" y="2615040"/>
              <a:ext cx="2170080" cy="2295720"/>
            </a:xfrm>
            <a:custGeom>
              <a:avLst/>
              <a:gdLst/>
              <a:ahLst/>
              <a:rect l="l" t="t" r="r" b="b"/>
              <a:pathLst>
                <a:path w="2803108" h="2965187">
                  <a:moveTo>
                    <a:pt x="621042" y="1721756"/>
                  </a:moveTo>
                  <a:lnTo>
                    <a:pt x="608331" y="1689440"/>
                  </a:lnTo>
                  <a:lnTo>
                    <a:pt x="592737" y="1707301"/>
                  </a:lnTo>
                  <a:lnTo>
                    <a:pt x="621042" y="1721756"/>
                  </a:lnTo>
                  <a:close/>
                  <a:moveTo>
                    <a:pt x="2802546" y="1527174"/>
                  </a:moveTo>
                  <a:cubicBezTo>
                    <a:pt x="2803923" y="1477030"/>
                    <a:pt x="2802781" y="1426339"/>
                    <a:pt x="2799005" y="1375234"/>
                  </a:cubicBezTo>
                  <a:cubicBezTo>
                    <a:pt x="2738590" y="557564"/>
                    <a:pt x="2026762" y="-56312"/>
                    <a:pt x="1209092" y="4103"/>
                  </a:cubicBezTo>
                  <a:cubicBezTo>
                    <a:pt x="747954" y="38175"/>
                    <a:pt x="351635" y="279433"/>
                    <a:pt x="104528" y="630017"/>
                  </a:cubicBezTo>
                  <a:lnTo>
                    <a:pt x="95946" y="643946"/>
                  </a:lnTo>
                  <a:lnTo>
                    <a:pt x="3849" y="551849"/>
                  </a:lnTo>
                  <a:lnTo>
                    <a:pt x="3849" y="795393"/>
                  </a:lnTo>
                  <a:lnTo>
                    <a:pt x="0" y="803463"/>
                  </a:lnTo>
                  <a:lnTo>
                    <a:pt x="3849" y="806823"/>
                  </a:lnTo>
                  <a:lnTo>
                    <a:pt x="3849" y="1471887"/>
                  </a:lnTo>
                  <a:lnTo>
                    <a:pt x="923887" y="1471887"/>
                  </a:lnTo>
                  <a:lnTo>
                    <a:pt x="642279" y="1190279"/>
                  </a:lnTo>
                  <a:lnTo>
                    <a:pt x="659733" y="1148928"/>
                  </a:lnTo>
                  <a:cubicBezTo>
                    <a:pt x="773311" y="926572"/>
                    <a:pt x="996809" y="767132"/>
                    <a:pt x="1264011" y="747389"/>
                  </a:cubicBezTo>
                  <a:cubicBezTo>
                    <a:pt x="1671175" y="717305"/>
                    <a:pt x="2025635" y="1022989"/>
                    <a:pt x="2055719" y="1430153"/>
                  </a:cubicBezTo>
                  <a:cubicBezTo>
                    <a:pt x="2085803" y="1837317"/>
                    <a:pt x="1780119" y="2191778"/>
                    <a:pt x="1372955" y="2221862"/>
                  </a:cubicBezTo>
                  <a:cubicBezTo>
                    <a:pt x="1322059" y="2225622"/>
                    <a:pt x="1271987" y="2224137"/>
                    <a:pt x="1223269" y="2217861"/>
                  </a:cubicBezTo>
                  <a:lnTo>
                    <a:pt x="1170191" y="2205588"/>
                  </a:lnTo>
                  <a:lnTo>
                    <a:pt x="1194616" y="2239825"/>
                  </a:lnTo>
                  <a:cubicBezTo>
                    <a:pt x="1324075" y="2441185"/>
                    <a:pt x="1406569" y="2676804"/>
                    <a:pt x="1425449" y="2932326"/>
                  </a:cubicBezTo>
                  <a:lnTo>
                    <a:pt x="1426214" y="2965187"/>
                  </a:lnTo>
                  <a:lnTo>
                    <a:pt x="1427874" y="2965147"/>
                  </a:lnTo>
                  <a:cubicBezTo>
                    <a:pt x="2194439" y="2908509"/>
                    <a:pt x="2781890" y="2279338"/>
                    <a:pt x="2802546" y="1527174"/>
                  </a:cubicBez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30"/>
            <p:cNvSpPr/>
            <p:nvPr/>
          </p:nvSpPr>
          <p:spPr>
            <a:xfrm flipV="1" rot="10800000">
              <a:off x="504360" y="2564280"/>
              <a:ext cx="2167920" cy="2296800"/>
            </a:xfrm>
            <a:custGeom>
              <a:avLst/>
              <a:gdLst/>
              <a:ahLst/>
              <a:rect l="l" t="t" r="r" b="b"/>
              <a:pathLst>
                <a:path w="2800257" h="2966877">
                  <a:moveTo>
                    <a:pt x="585976" y="1694015"/>
                  </a:moveTo>
                  <a:lnTo>
                    <a:pt x="614014" y="1708984"/>
                  </a:lnTo>
                  <a:lnTo>
                    <a:pt x="601894" y="1676442"/>
                  </a:lnTo>
                  <a:lnTo>
                    <a:pt x="585976" y="1694015"/>
                  </a:lnTo>
                  <a:close/>
                  <a:moveTo>
                    <a:pt x="0" y="517489"/>
                  </a:moveTo>
                  <a:lnTo>
                    <a:pt x="0" y="1437527"/>
                  </a:lnTo>
                  <a:lnTo>
                    <a:pt x="920038" y="1437527"/>
                  </a:lnTo>
                  <a:lnTo>
                    <a:pt x="649713" y="1167202"/>
                  </a:lnTo>
                  <a:lnTo>
                    <a:pt x="663134" y="1136956"/>
                  </a:lnTo>
                  <a:cubicBezTo>
                    <a:pt x="780745" y="916705"/>
                    <a:pt x="1007110" y="761364"/>
                    <a:pt x="1274627" y="746492"/>
                  </a:cubicBezTo>
                  <a:cubicBezTo>
                    <a:pt x="1682272" y="723831"/>
                    <a:pt x="2031104" y="1035922"/>
                    <a:pt x="2053765" y="1443567"/>
                  </a:cubicBezTo>
                  <a:cubicBezTo>
                    <a:pt x="2076426" y="1851212"/>
                    <a:pt x="1764335" y="2200044"/>
                    <a:pt x="1356690" y="2222705"/>
                  </a:cubicBezTo>
                  <a:cubicBezTo>
                    <a:pt x="1305734" y="2225537"/>
                    <a:pt x="1255698" y="2223140"/>
                    <a:pt x="1207102" y="2215978"/>
                  </a:cubicBezTo>
                  <a:lnTo>
                    <a:pt x="1154256" y="2202740"/>
                  </a:lnTo>
                  <a:lnTo>
                    <a:pt x="1178053" y="2237416"/>
                  </a:lnTo>
                  <a:cubicBezTo>
                    <a:pt x="1303823" y="2441101"/>
                    <a:pt x="1382011" y="2678185"/>
                    <a:pt x="1396232" y="2934008"/>
                  </a:cubicBezTo>
                  <a:lnTo>
                    <a:pt x="1396399" y="2966877"/>
                  </a:lnTo>
                  <a:lnTo>
                    <a:pt x="1398059" y="2966868"/>
                  </a:lnTo>
                  <a:cubicBezTo>
                    <a:pt x="2216694" y="2921360"/>
                    <a:pt x="2843436" y="2220834"/>
                    <a:pt x="2797928" y="1402199"/>
                  </a:cubicBezTo>
                  <a:cubicBezTo>
                    <a:pt x="2752420" y="583564"/>
                    <a:pt x="2051894" y="-43179"/>
                    <a:pt x="1233259" y="2329"/>
                  </a:cubicBezTo>
                  <a:cubicBezTo>
                    <a:pt x="771577" y="27994"/>
                    <a:pt x="370928" y="261992"/>
                    <a:pt x="117475" y="608016"/>
                  </a:cubicBezTo>
                  <a:lnTo>
                    <a:pt x="106943" y="624432"/>
                  </a:lnTo>
                  <a:lnTo>
                    <a:pt x="0" y="517489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文本框 38"/>
          <p:cNvSpPr/>
          <p:nvPr/>
        </p:nvSpPr>
        <p:spPr>
          <a:xfrm>
            <a:off x="2388960" y="2170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39"/>
          <p:cNvSpPr/>
          <p:nvPr/>
        </p:nvSpPr>
        <p:spPr>
          <a:xfrm>
            <a:off x="3538440" y="3421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40"/>
          <p:cNvSpPr/>
          <p:nvPr/>
        </p:nvSpPr>
        <p:spPr>
          <a:xfrm>
            <a:off x="2376360" y="4616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41"/>
          <p:cNvSpPr/>
          <p:nvPr/>
        </p:nvSpPr>
        <p:spPr>
          <a:xfrm>
            <a:off x="1247760" y="3367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42"/>
          <p:cNvSpPr/>
          <p:nvPr/>
        </p:nvSpPr>
        <p:spPr>
          <a:xfrm>
            <a:off x="6350040" y="1722600"/>
            <a:ext cx="447480" cy="44748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43"/>
          <p:cNvSpPr/>
          <p:nvPr/>
        </p:nvSpPr>
        <p:spPr>
          <a:xfrm>
            <a:off x="6350040" y="2919240"/>
            <a:ext cx="447480" cy="44784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44"/>
          <p:cNvSpPr/>
          <p:nvPr/>
        </p:nvSpPr>
        <p:spPr>
          <a:xfrm>
            <a:off x="6350040" y="4116240"/>
            <a:ext cx="447480" cy="44784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椭圆 45"/>
          <p:cNvSpPr/>
          <p:nvPr/>
        </p:nvSpPr>
        <p:spPr>
          <a:xfrm>
            <a:off x="6350040" y="5313240"/>
            <a:ext cx="447480" cy="44784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7"/>
          <p:cNvSpPr/>
          <p:nvPr/>
        </p:nvSpPr>
        <p:spPr>
          <a:xfrm>
            <a:off x="7414560" y="1378080"/>
            <a:ext cx="11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b193"/>
                </a:solidFill>
                <a:latin typeface="微软雅黑"/>
                <a:ea typeface="微软雅黑"/>
              </a:rPr>
              <a:t>产品尖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FAB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法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8"/>
          <p:cNvSpPr/>
          <p:nvPr/>
        </p:nvSpPr>
        <p:spPr>
          <a:xfrm>
            <a:off x="7594200" y="2575080"/>
            <a:ext cx="10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爆品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大于一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9"/>
          <p:cNvSpPr/>
          <p:nvPr/>
        </p:nvSpPr>
        <p:spPr>
          <a:xfrm>
            <a:off x="7467120" y="3772080"/>
            <a:ext cx="10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c84"/>
                </a:solidFill>
                <a:latin typeface="微软雅黑"/>
                <a:ea typeface="微软雅黑"/>
              </a:rPr>
              <a:t>沉锚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入为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50"/>
          <p:cNvSpPr/>
          <p:nvPr/>
        </p:nvSpPr>
        <p:spPr>
          <a:xfrm>
            <a:off x="7570080" y="4983120"/>
            <a:ext cx="196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案例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西贝筱面村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凡客陈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22"/>
          <p:cNvSpPr/>
          <p:nvPr/>
        </p:nvSpPr>
        <p:spPr>
          <a:xfrm>
            <a:off x="349200" y="2309760"/>
            <a:ext cx="3044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F</a:t>
            </a:r>
            <a:r>
              <a:rPr b="1" lang="en-US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eature</a:t>
            </a:r>
            <a:r>
              <a:rPr b="1" lang="zh-CN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8b193"/>
                </a:solidFill>
                <a:latin typeface="微软雅黑"/>
                <a:ea typeface="微软雅黑"/>
              </a:rPr>
              <a:t>特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品质，一种产品能看得到、摸得着的东西，这也是一个产品最容易让客户相信的一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23"/>
          <p:cNvSpPr/>
          <p:nvPr/>
        </p:nvSpPr>
        <p:spPr>
          <a:xfrm>
            <a:off x="8016840" y="2309760"/>
            <a:ext cx="3575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B</a:t>
            </a:r>
            <a:r>
              <a:rPr b="1" lang="en-US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enefit</a:t>
            </a:r>
            <a:r>
              <a:rPr b="1" lang="zh-CN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67280"/>
                </a:solidFill>
                <a:latin typeface="微软雅黑"/>
                <a:ea typeface="微软雅黑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种作用或者优势会给客户带来的利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24"/>
          <p:cNvSpPr/>
          <p:nvPr/>
        </p:nvSpPr>
        <p:spPr>
          <a:xfrm>
            <a:off x="4019400" y="2309760"/>
            <a:ext cx="36878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A</a:t>
            </a:r>
            <a:r>
              <a:rPr b="1" lang="en-US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dvantage</a:t>
            </a:r>
            <a:r>
              <a:rPr b="1" lang="zh-CN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c06c84"/>
                </a:solidFill>
                <a:latin typeface="微软雅黑"/>
                <a:ea typeface="微软雅黑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种属性将会给客户带来的作用或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24"/>
          <p:cNvSpPr/>
          <p:nvPr/>
        </p:nvSpPr>
        <p:spPr>
          <a:xfrm>
            <a:off x="2131200" y="5230800"/>
            <a:ext cx="166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案例：杨梅   特性：大、饱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用：甜、汁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好处：开胃健脾、生津止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084400" y="7632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FAB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9"/>
          <p:cNvSpPr/>
          <p:nvPr/>
        </p:nvSpPr>
        <p:spPr>
          <a:xfrm>
            <a:off x="2836080" y="763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大于一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"/>
          <p:cNvSpPr/>
          <p:nvPr/>
        </p:nvSpPr>
        <p:spPr>
          <a:xfrm>
            <a:off x="1931040" y="2774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定位核心：认知大于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1"/>
          <p:cNvSpPr/>
          <p:nvPr/>
        </p:nvSpPr>
        <p:spPr>
          <a:xfrm>
            <a:off x="8907480" y="277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核心：体验大于一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右箭头 4"/>
          <p:cNvSpPr/>
          <p:nvPr/>
        </p:nvSpPr>
        <p:spPr>
          <a:xfrm>
            <a:off x="1414440" y="3144960"/>
            <a:ext cx="9299520" cy="822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5006880" y="337176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&lt;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占据</a:t>
            </a: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用户心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6"/>
          <p:cNvSpPr/>
          <p:nvPr/>
        </p:nvSpPr>
        <p:spPr>
          <a:xfrm>
            <a:off x="2070000" y="4137120"/>
            <a:ext cx="79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&gt;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事实，从顾客认知出发，而非企业现实出发，建立认知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沉锚效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矩形 2"/>
          <p:cNvSpPr/>
          <p:nvPr/>
        </p:nvSpPr>
        <p:spPr>
          <a:xfrm>
            <a:off x="2157480" y="1289160"/>
            <a:ext cx="7877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沉锚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先入为主，第一印象、第一信息支配，沉入海底的锚把人们思想固定在某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5128920" y="4017960"/>
            <a:ext cx="36720" cy="1500120"/>
            <a:chOff x="5128920" y="4017960"/>
            <a:chExt cx="36720" cy="1500120"/>
          </a:xfrm>
        </p:grpSpPr>
        <p:sp>
          <p:nvSpPr>
            <p:cNvPr id="673" name="Line 6"/>
            <p:cNvSpPr/>
            <p:nvPr/>
          </p:nvSpPr>
          <p:spPr>
            <a:xfrm flipH="1">
              <a:off x="5128920" y="4017960"/>
              <a:ext cx="36360" cy="15001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5129280" y="4017960"/>
              <a:ext cx="36360" cy="1500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32760" y="3927600"/>
            <a:ext cx="360" cy="1590480"/>
            <a:chOff x="7232760" y="3927600"/>
            <a:chExt cx="360" cy="1590480"/>
          </a:xfrm>
        </p:grpSpPr>
        <p:sp>
          <p:nvSpPr>
            <p:cNvPr id="676" name="Line 7"/>
            <p:cNvSpPr/>
            <p:nvPr/>
          </p:nvSpPr>
          <p:spPr>
            <a:xfrm>
              <a:off x="7232760" y="3927600"/>
              <a:ext cx="0" cy="15904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7232760" y="3927600"/>
              <a:ext cx="360" cy="159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Freeform 9"/>
          <p:cNvSpPr/>
          <p:nvPr/>
        </p:nvSpPr>
        <p:spPr>
          <a:xfrm>
            <a:off x="3130560" y="2398680"/>
            <a:ext cx="6767640" cy="162252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378360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痛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26"/>
          <p:cNvSpPr/>
          <p:nvPr/>
        </p:nvSpPr>
        <p:spPr>
          <a:xfrm>
            <a:off x="573120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尖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27"/>
          <p:cNvSpPr/>
          <p:nvPr/>
        </p:nvSpPr>
        <p:spPr>
          <a:xfrm>
            <a:off x="8077680" y="43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8"/>
          <p:cNvSpPr/>
          <p:nvPr/>
        </p:nvSpPr>
        <p:spPr>
          <a:xfrm>
            <a:off x="4611960" y="5702400"/>
            <a:ext cx="29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为中心进行驱动  可感知的用户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米跑分     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OPPO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认知拓宽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6"/>
          <p:cNvSpPr/>
          <p:nvPr/>
        </p:nvSpPr>
        <p:spPr>
          <a:xfrm>
            <a:off x="825480" y="1922400"/>
            <a:ext cx="1041480" cy="102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  <a:ea typeface="Arial Unicode MS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17"/>
          <p:cNvSpPr/>
          <p:nvPr/>
        </p:nvSpPr>
        <p:spPr>
          <a:xfrm>
            <a:off x="1440" y="2949480"/>
            <a:ext cx="1403640" cy="19548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心圆 18"/>
          <p:cNvSpPr/>
          <p:nvPr/>
        </p:nvSpPr>
        <p:spPr>
          <a:xfrm>
            <a:off x="628560" y="1741320"/>
            <a:ext cx="1424160" cy="1403640"/>
          </a:xfrm>
          <a:custGeom>
            <a:avLst/>
            <a:gdLst/>
            <a:ahLst/>
            <a:rect l="l" t="t" r="r" b="b"/>
            <a:pathLst>
              <a:path w="1423987" h="1403350">
                <a:moveTo>
                  <a:pt x="0" y="701675"/>
                </a:moveTo>
                <a:cubicBezTo>
                  <a:pt x="0" y="314151"/>
                  <a:pt x="318770" y="0"/>
                  <a:pt x="711993" y="0"/>
                </a:cubicBezTo>
                <a:cubicBezTo>
                  <a:pt x="1105216" y="0"/>
                  <a:pt x="1423986" y="314151"/>
                  <a:pt x="1423986" y="701675"/>
                </a:cubicBezTo>
                <a:cubicBezTo>
                  <a:pt x="1423986" y="1089199"/>
                  <a:pt x="1105216" y="1403350"/>
                  <a:pt x="711993" y="1403350"/>
                </a:cubicBezTo>
                <a:cubicBezTo>
                  <a:pt x="318770" y="1403350"/>
                  <a:pt x="0" y="1089199"/>
                  <a:pt x="0" y="701675"/>
                </a:cubicBezTo>
                <a:close/>
                <a:moveTo>
                  <a:pt x="194335" y="701675"/>
                </a:moveTo>
                <a:cubicBezTo>
                  <a:pt x="194335" y="981871"/>
                  <a:pt x="426098" y="1209014"/>
                  <a:pt x="711992" y="1209014"/>
                </a:cubicBezTo>
                <a:cubicBezTo>
                  <a:pt x="997886" y="1209014"/>
                  <a:pt x="1229649" y="981871"/>
                  <a:pt x="1229649" y="701675"/>
                </a:cubicBezTo>
                <a:cubicBezTo>
                  <a:pt x="1229649" y="421479"/>
                  <a:pt x="997886" y="194336"/>
                  <a:pt x="711992" y="194336"/>
                </a:cubicBezTo>
                <a:cubicBezTo>
                  <a:pt x="426098" y="194336"/>
                  <a:pt x="194335" y="421479"/>
                  <a:pt x="194335" y="701675"/>
                </a:cubicBez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6"/>
          <p:cNvSpPr/>
          <p:nvPr/>
        </p:nvSpPr>
        <p:spPr>
          <a:xfrm>
            <a:off x="2133720" y="1920960"/>
            <a:ext cx="3087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要有触网的思维和动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怕错，要快速试错，反复试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21"/>
          <p:cNvSpPr/>
          <p:nvPr/>
        </p:nvSpPr>
        <p:spPr>
          <a:xfrm>
            <a:off x="1440" y="3475080"/>
            <a:ext cx="5948640" cy="179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组 4" descr=""/>
          <p:cNvPicPr/>
          <p:nvPr/>
        </p:nvPicPr>
        <p:blipFill>
          <a:blip r:embed="rId1"/>
          <a:stretch/>
        </p:blipFill>
        <p:spPr>
          <a:xfrm>
            <a:off x="5060880" y="2260440"/>
            <a:ext cx="1424160" cy="1405080"/>
          </a:xfrm>
          <a:prstGeom prst="rect">
            <a:avLst/>
          </a:prstGeom>
          <a:ln w="0">
            <a:noFill/>
          </a:ln>
        </p:spPr>
      </p:pic>
      <p:sp>
        <p:nvSpPr>
          <p:cNvPr id="695" name="椭圆 23"/>
          <p:cNvSpPr/>
          <p:nvPr/>
        </p:nvSpPr>
        <p:spPr>
          <a:xfrm>
            <a:off x="3835440" y="4154400"/>
            <a:ext cx="1039680" cy="102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宋体"/>
                <a:ea typeface="Arial Unicode MS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24"/>
          <p:cNvSpPr/>
          <p:nvPr/>
        </p:nvSpPr>
        <p:spPr>
          <a:xfrm>
            <a:off x="1440" y="3973680"/>
            <a:ext cx="4356360" cy="195120"/>
          </a:xfrm>
          <a:prstGeom prst="rect">
            <a:avLst/>
          </a:prstGeom>
          <a:solidFill>
            <a:srgbClr val="f07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同心圆 25"/>
          <p:cNvSpPr/>
          <p:nvPr/>
        </p:nvSpPr>
        <p:spPr>
          <a:xfrm flipV="1">
            <a:off x="3637080" y="3973680"/>
            <a:ext cx="1423800" cy="1403280"/>
          </a:xfrm>
          <a:custGeom>
            <a:avLst/>
            <a:gdLst/>
            <a:ahLst/>
            <a:rect l="l" t="t" r="r" b="b"/>
            <a:pathLst>
              <a:path w="1423987" h="1403350">
                <a:moveTo>
                  <a:pt x="0" y="701675"/>
                </a:moveTo>
                <a:cubicBezTo>
                  <a:pt x="0" y="314151"/>
                  <a:pt x="318770" y="0"/>
                  <a:pt x="711993" y="0"/>
                </a:cubicBezTo>
                <a:cubicBezTo>
                  <a:pt x="1105216" y="0"/>
                  <a:pt x="1423986" y="314151"/>
                  <a:pt x="1423986" y="701675"/>
                </a:cubicBezTo>
                <a:cubicBezTo>
                  <a:pt x="1423986" y="1089199"/>
                  <a:pt x="1105216" y="1403350"/>
                  <a:pt x="711993" y="1403350"/>
                </a:cubicBezTo>
                <a:cubicBezTo>
                  <a:pt x="318770" y="1403350"/>
                  <a:pt x="0" y="1089199"/>
                  <a:pt x="0" y="701675"/>
                </a:cubicBezTo>
                <a:close/>
                <a:moveTo>
                  <a:pt x="194335" y="701675"/>
                </a:moveTo>
                <a:cubicBezTo>
                  <a:pt x="194335" y="981871"/>
                  <a:pt x="426098" y="1209014"/>
                  <a:pt x="711992" y="1209014"/>
                </a:cubicBezTo>
                <a:cubicBezTo>
                  <a:pt x="997886" y="1209014"/>
                  <a:pt x="1229649" y="981871"/>
                  <a:pt x="1229649" y="701675"/>
                </a:cubicBezTo>
                <a:cubicBezTo>
                  <a:pt x="1229649" y="421479"/>
                  <a:pt x="997886" y="194336"/>
                  <a:pt x="711992" y="194336"/>
                </a:cubicBezTo>
                <a:cubicBezTo>
                  <a:pt x="426098" y="194336"/>
                  <a:pt x="194335" y="421479"/>
                  <a:pt x="194335" y="701675"/>
                </a:cubicBezTo>
                <a:close/>
              </a:path>
            </a:pathLst>
          </a:custGeom>
          <a:solidFill>
            <a:srgbClr val="f071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3"/>
          <p:cNvSpPr/>
          <p:nvPr/>
        </p:nvSpPr>
        <p:spPr>
          <a:xfrm>
            <a:off x="6732720" y="2603520"/>
            <a:ext cx="2590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是一个战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款是一个局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4"/>
          <p:cNvSpPr/>
          <p:nvPr/>
        </p:nvSpPr>
        <p:spPr>
          <a:xfrm>
            <a:off x="5221440" y="4278240"/>
            <a:ext cx="3476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就如同一个黑暗森林，只有爆品才能绽放烟花，要爆得高，爆得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7"/>
          <p:cNvSpPr/>
          <p:nvPr/>
        </p:nvSpPr>
        <p:spPr>
          <a:xfrm>
            <a:off x="7365600" y="1846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流量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1"/>
          <p:cNvSpPr/>
          <p:nvPr/>
        </p:nvSpPr>
        <p:spPr>
          <a:xfrm>
            <a:off x="4345920" y="1766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竞争得本质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是流量的竞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7"/>
          <p:cNvSpPr/>
          <p:nvPr/>
        </p:nvSpPr>
        <p:spPr>
          <a:xfrm>
            <a:off x="5371200" y="319896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？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传统企业转型做互联网一不小心就被互联网公司干掉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30"/>
          <p:cNvSpPr/>
          <p:nvPr/>
        </p:nvSpPr>
        <p:spPr>
          <a:xfrm>
            <a:off x="2924640" y="4267080"/>
            <a:ext cx="60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？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传统品牌流量经营方式，称之为“工厂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品牌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广告”的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互联网时代全面失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9"/>
          <p:cNvSpPr/>
          <p:nvPr/>
        </p:nvSpPr>
        <p:spPr>
          <a:xfrm>
            <a:off x="3418560" y="5865840"/>
            <a:ext cx="61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传统企业和品牌的三大死亡法则：</a:t>
            </a:r>
            <a:r>
              <a:rPr b="1" lang="zh-CN" sz="2800" spc="-1" strike="noStrike" u="sng">
                <a:solidFill>
                  <a:srgbClr val="c06c84"/>
                </a:solidFill>
                <a:uFillTx/>
                <a:latin typeface="微软雅黑"/>
                <a:ea typeface="微软雅黑"/>
              </a:rPr>
              <a:t>无尽黑暗！暗刀涌动！效益递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9"/>
          <p:cNvSpPr/>
          <p:nvPr/>
        </p:nvSpPr>
        <p:spPr>
          <a:xfrm>
            <a:off x="5222160" y="2433600"/>
            <a:ext cx="15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黑暗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圆角矩形 2"/>
          <p:cNvSpPr/>
          <p:nvPr/>
        </p:nvSpPr>
        <p:spPr>
          <a:xfrm>
            <a:off x="914400" y="3592440"/>
            <a:ext cx="10717200" cy="914400"/>
          </a:xfrm>
          <a:prstGeom prst="roundRect">
            <a:avLst>
              <a:gd name="adj" fmla="val 16667"/>
            </a:avLst>
          </a:prstGeom>
          <a:solidFill>
            <a:srgbClr val="c06c84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10"/>
          <p:cNvSpPr/>
          <p:nvPr/>
        </p:nvSpPr>
        <p:spPr>
          <a:xfrm>
            <a:off x="5519520" y="3817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提爆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 8"/>
          <p:cNvGrpSpPr/>
          <p:nvPr/>
        </p:nvGrpSpPr>
        <p:grpSpPr>
          <a:xfrm>
            <a:off x="914400" y="3591000"/>
            <a:ext cx="10717200" cy="914400"/>
            <a:chOff x="914400" y="3591000"/>
            <a:chExt cx="10717200" cy="914400"/>
          </a:xfrm>
        </p:grpSpPr>
        <p:sp>
          <p:nvSpPr>
            <p:cNvPr id="733" name="圆角矩形 15"/>
            <p:cNvSpPr/>
            <p:nvPr/>
          </p:nvSpPr>
          <p:spPr>
            <a:xfrm>
              <a:off x="914400" y="359100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11"/>
            <p:cNvSpPr/>
            <p:nvPr/>
          </p:nvSpPr>
          <p:spPr>
            <a:xfrm>
              <a:off x="3188160" y="3815280"/>
              <a:ext cx="62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互联网的流量黑暗森林里，遇到一个巨大的、无边的黑暗，伸手不见五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 7"/>
          <p:cNvGrpSpPr/>
          <p:nvPr/>
        </p:nvGrpSpPr>
        <p:grpSpPr>
          <a:xfrm>
            <a:off x="914400" y="3605040"/>
            <a:ext cx="10717200" cy="914400"/>
            <a:chOff x="914400" y="3605040"/>
            <a:chExt cx="10717200" cy="914400"/>
          </a:xfrm>
        </p:grpSpPr>
        <p:sp>
          <p:nvSpPr>
            <p:cNvPr id="736" name="圆角矩形 19"/>
            <p:cNvSpPr/>
            <p:nvPr/>
          </p:nvSpPr>
          <p:spPr>
            <a:xfrm>
              <a:off x="914400" y="360504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文本框 12"/>
            <p:cNvSpPr/>
            <p:nvPr/>
          </p:nvSpPr>
          <p:spPr>
            <a:xfrm>
              <a:off x="3353040" y="3831480"/>
              <a:ext cx="621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统线下品牌依靠线下开店，不做广告，流量可能滚滚而来，因为区域流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 6"/>
          <p:cNvGrpSpPr/>
          <p:nvPr/>
        </p:nvGrpSpPr>
        <p:grpSpPr>
          <a:xfrm>
            <a:off x="914400" y="3605040"/>
            <a:ext cx="10717200" cy="914400"/>
            <a:chOff x="914400" y="3605040"/>
            <a:chExt cx="10717200" cy="914400"/>
          </a:xfrm>
        </p:grpSpPr>
        <p:sp>
          <p:nvSpPr>
            <p:cNvPr id="739" name="圆角矩形 20"/>
            <p:cNvSpPr/>
            <p:nvPr/>
          </p:nvSpPr>
          <p:spPr>
            <a:xfrm>
              <a:off x="914400" y="3605040"/>
              <a:ext cx="10717200" cy="914400"/>
            </a:xfrm>
            <a:prstGeom prst="roundRect">
              <a:avLst>
                <a:gd name="adj" fmla="val 16667"/>
              </a:avLst>
            </a:prstGeom>
            <a:solidFill>
              <a:srgbClr val="c06c84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文本框 13"/>
            <p:cNvSpPr/>
            <p:nvPr/>
          </p:nvSpPr>
          <p:spPr>
            <a:xfrm>
              <a:off x="3441600" y="3853080"/>
              <a:ext cx="585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联网上，只有爆品，烟花，才能让大家看到你，爆品的重要性于此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1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平行四边形 74"/>
          <p:cNvSpPr/>
          <p:nvPr/>
        </p:nvSpPr>
        <p:spPr>
          <a:xfrm flipH="1" flipV="1">
            <a:off x="6126120" y="3532320"/>
            <a:ext cx="3090960" cy="2031840"/>
          </a:xfrm>
          <a:prstGeom prst="parallelogram">
            <a:avLst>
              <a:gd name="adj" fmla="val 24995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77"/>
          <p:cNvSpPr/>
          <p:nvPr/>
        </p:nvSpPr>
        <p:spPr>
          <a:xfrm flipH="1" flipV="1">
            <a:off x="5388120" y="3532320"/>
            <a:ext cx="1923840" cy="203184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757236" y="2031999"/>
                </a:lnTo>
                <a:lnTo>
                  <a:pt x="126523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80"/>
          <p:cNvSpPr/>
          <p:nvPr/>
        </p:nvSpPr>
        <p:spPr>
          <a:xfrm flipH="1" flipV="1">
            <a:off x="8782920" y="3532320"/>
            <a:ext cx="1924200" cy="203184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938746" y="2031999"/>
                </a:lnTo>
                <a:lnTo>
                  <a:pt x="144674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83"/>
          <p:cNvSpPr/>
          <p:nvPr/>
        </p:nvSpPr>
        <p:spPr>
          <a:xfrm flipH="1" flipV="1">
            <a:off x="9334440" y="3532320"/>
            <a:ext cx="822240" cy="2031840"/>
          </a:xfrm>
          <a:custGeom>
            <a:avLst/>
            <a:gdLst/>
            <a:ahLst/>
            <a:rect l="l" t="t" r="r" b="b"/>
            <a:pathLst>
              <a:path w="822330" h="2031999">
                <a:moveTo>
                  <a:pt x="314330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822330" y="0"/>
                </a:lnTo>
                <a:lnTo>
                  <a:pt x="314330" y="2031999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任意多边形 86"/>
          <p:cNvSpPr/>
          <p:nvPr/>
        </p:nvSpPr>
        <p:spPr>
          <a:xfrm flipH="1" flipV="1">
            <a:off x="9725040" y="3532320"/>
            <a:ext cx="689040" cy="2031840"/>
          </a:xfrm>
          <a:custGeom>
            <a:avLst/>
            <a:gdLst/>
            <a:ahLst/>
            <a:rect l="l" t="t" r="r" b="b"/>
            <a:pathLst>
              <a:path w="688447" h="2031999">
                <a:moveTo>
                  <a:pt x="180447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688447" y="0"/>
                </a:lnTo>
                <a:lnTo>
                  <a:pt x="180447" y="2031999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平行四边形 89"/>
          <p:cNvSpPr/>
          <p:nvPr/>
        </p:nvSpPr>
        <p:spPr>
          <a:xfrm flipV="1">
            <a:off x="2709720" y="1425960"/>
            <a:ext cx="3090960" cy="2032200"/>
          </a:xfrm>
          <a:prstGeom prst="parallelogram">
            <a:avLst>
              <a:gd name="adj" fmla="val 2499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任意多边形 90"/>
          <p:cNvSpPr/>
          <p:nvPr/>
        </p:nvSpPr>
        <p:spPr>
          <a:xfrm flipV="1">
            <a:off x="4614840" y="1425960"/>
            <a:ext cx="1924200" cy="203220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757236" y="2031999"/>
                </a:lnTo>
                <a:lnTo>
                  <a:pt x="126523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任意多边形 91"/>
          <p:cNvSpPr/>
          <p:nvPr/>
        </p:nvSpPr>
        <p:spPr>
          <a:xfrm flipV="1">
            <a:off x="1219320" y="1425960"/>
            <a:ext cx="1923840" cy="2032200"/>
          </a:xfrm>
          <a:custGeom>
            <a:avLst/>
            <a:gdLst/>
            <a:ahLst/>
            <a:rect l="l" t="t" r="r" b="b"/>
            <a:pathLst>
              <a:path w="1924050" h="2031999">
                <a:moveTo>
                  <a:pt x="1416050" y="2031999"/>
                </a:moveTo>
                <a:lnTo>
                  <a:pt x="938746" y="2031999"/>
                </a:lnTo>
                <a:lnTo>
                  <a:pt x="1446746" y="1"/>
                </a:lnTo>
                <a:lnTo>
                  <a:pt x="0" y="1"/>
                </a:lnTo>
                <a:lnTo>
                  <a:pt x="0" y="0"/>
                </a:lnTo>
                <a:lnTo>
                  <a:pt x="1924050" y="0"/>
                </a:lnTo>
                <a:lnTo>
                  <a:pt x="1416050" y="2031999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任意多边形 92"/>
          <p:cNvSpPr/>
          <p:nvPr/>
        </p:nvSpPr>
        <p:spPr>
          <a:xfrm flipV="1">
            <a:off x="1770120" y="1426320"/>
            <a:ext cx="822240" cy="2032200"/>
          </a:xfrm>
          <a:custGeom>
            <a:avLst/>
            <a:gdLst/>
            <a:ahLst/>
            <a:rect l="l" t="t" r="r" b="b"/>
            <a:pathLst>
              <a:path w="822330" h="2031999">
                <a:moveTo>
                  <a:pt x="314330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822330" y="0"/>
                </a:lnTo>
                <a:lnTo>
                  <a:pt x="314330" y="2031999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任意多边形 93"/>
          <p:cNvSpPr/>
          <p:nvPr/>
        </p:nvSpPr>
        <p:spPr>
          <a:xfrm flipV="1">
            <a:off x="1514520" y="1426320"/>
            <a:ext cx="689040" cy="2032200"/>
          </a:xfrm>
          <a:custGeom>
            <a:avLst/>
            <a:gdLst/>
            <a:ahLst/>
            <a:rect l="l" t="t" r="r" b="b"/>
            <a:pathLst>
              <a:path w="688447" h="2031999">
                <a:moveTo>
                  <a:pt x="180447" y="2031999"/>
                </a:moveTo>
                <a:lnTo>
                  <a:pt x="0" y="2031999"/>
                </a:lnTo>
                <a:lnTo>
                  <a:pt x="508000" y="0"/>
                </a:lnTo>
                <a:lnTo>
                  <a:pt x="688447" y="0"/>
                </a:lnTo>
                <a:lnTo>
                  <a:pt x="180447" y="2031999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94"/>
          <p:cNvSpPr/>
          <p:nvPr/>
        </p:nvSpPr>
        <p:spPr>
          <a:xfrm>
            <a:off x="7094880" y="1550880"/>
            <a:ext cx="25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c5b7b"/>
                </a:solidFill>
                <a:latin typeface="Arial Rounded MT Bold"/>
                <a:ea typeface="Arial Rounded MT Bold"/>
              </a:rPr>
              <a:t>                   </a:t>
            </a:r>
            <a:r>
              <a:rPr b="0" lang="en-US" sz="3200" spc="-1" strike="noStrike">
                <a:solidFill>
                  <a:srgbClr val="6c5b7b"/>
                </a:solidFill>
                <a:latin typeface="Arial Rounded MT Bold"/>
                <a:ea typeface="Arial Rounded MT Bold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线下占</a:t>
            </a:r>
            <a:r>
              <a:rPr b="1" lang="en-US" sz="3200" spc="-1" strike="noStrike">
                <a:solidFill>
                  <a:srgbClr val="f07180"/>
                </a:solidFill>
                <a:latin typeface="Arial Rounded MT Bold"/>
                <a:ea typeface="Arial Rounded MT Bold"/>
              </a:rPr>
              <a:t>90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，线上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95"/>
          <p:cNvSpPr/>
          <p:nvPr/>
        </p:nvSpPr>
        <p:spPr>
          <a:xfrm>
            <a:off x="2143080" y="3855960"/>
            <a:ext cx="274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f07180"/>
                </a:solidFill>
                <a:latin typeface="Arial Rounded MT Bold"/>
                <a:ea typeface="Arial Rounded MT Bold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线上占</a:t>
            </a:r>
            <a:r>
              <a:rPr b="1" lang="en-US" sz="32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60%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，线下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1"/>
          <p:cNvSpPr/>
          <p:nvPr/>
        </p:nvSpPr>
        <p:spPr>
          <a:xfrm>
            <a:off x="5559120" y="60069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7180"/>
                </a:solidFill>
                <a:latin typeface="微软雅黑"/>
                <a:ea typeface="微软雅黑"/>
              </a:rPr>
              <a:t>✦</a:t>
            </a:r>
            <a:r>
              <a:rPr b="1" lang="zh-CN" sz="2000" spc="-1" strike="noStrike">
                <a:solidFill>
                  <a:srgbClr val="f07180"/>
                </a:solidFill>
                <a:latin typeface="微软雅黑"/>
                <a:ea typeface="微软雅黑"/>
              </a:rPr>
              <a:t>线上引流的方式跟线下完全不一样。如果你不能掌握线上，你就会被黑暗吞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2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9"/>
          <p:cNvSpPr/>
          <p:nvPr/>
        </p:nvSpPr>
        <p:spPr>
          <a:xfrm>
            <a:off x="4529520" y="3586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高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个法则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暗刀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1"/>
          <p:cNvSpPr/>
          <p:nvPr/>
        </p:nvSpPr>
        <p:spPr>
          <a:xfrm>
            <a:off x="5936040" y="336852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r-IN" sz="6000" spc="-1" strike="noStrike">
                <a:solidFill>
                  <a:srgbClr val="c00000"/>
                </a:solidFill>
                <a:latin typeface="微软雅黑"/>
                <a:ea typeface="微软雅黑"/>
              </a:rPr>
              <a:t>&g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21"/>
          <p:cNvSpPr/>
          <p:nvPr/>
        </p:nvSpPr>
        <p:spPr>
          <a:xfrm>
            <a:off x="6977520" y="3586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c5b7b"/>
                </a:solidFill>
                <a:latin typeface="微软雅黑"/>
                <a:ea typeface="微软雅黑"/>
              </a:rPr>
              <a:t>低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22"/>
          <p:cNvSpPr/>
          <p:nvPr/>
        </p:nvSpPr>
        <p:spPr>
          <a:xfrm>
            <a:off x="3894120" y="4975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卖打团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文本框 23"/>
          <p:cNvSpPr/>
          <p:nvPr/>
        </p:nvSpPr>
        <p:spPr>
          <a:xfrm>
            <a:off x="5777640" y="4975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滴滴打易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24"/>
          <p:cNvSpPr/>
          <p:nvPr/>
        </p:nvSpPr>
        <p:spPr>
          <a:xfrm>
            <a:off x="7570800" y="49752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Ube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滴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任意多边形 111"/>
          <p:cNvSpPr/>
          <p:nvPr/>
        </p:nvSpPr>
        <p:spPr>
          <a:xfrm rot="20299800">
            <a:off x="5305320" y="6117840"/>
            <a:ext cx="3878280" cy="695520"/>
          </a:xfrm>
          <a:custGeom>
            <a:avLst/>
            <a:gdLst/>
            <a:ahLst/>
            <a:rect l="l" t="t" r="r" b="b"/>
            <a:pathLst>
              <a:path w="3877060" h="696658">
                <a:moveTo>
                  <a:pt x="3877060" y="0"/>
                </a:moveTo>
                <a:lnTo>
                  <a:pt x="3877060" y="696658"/>
                </a:lnTo>
                <a:lnTo>
                  <a:pt x="1753615" y="696658"/>
                </a:lnTo>
                <a:lnTo>
                  <a:pt x="0" y="0"/>
                </a:lnTo>
                <a:lnTo>
                  <a:pt x="3877060" y="0"/>
                </a:lnTo>
                <a:close/>
              </a:path>
            </a:pathLst>
          </a:custGeom>
          <a:solidFill>
            <a:srgbClr val="f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112"/>
          <p:cNvGrpSpPr/>
          <p:nvPr/>
        </p:nvGrpSpPr>
        <p:grpSpPr>
          <a:xfrm>
            <a:off x="3244680" y="2496960"/>
            <a:ext cx="5819760" cy="1405440"/>
            <a:chOff x="3244680" y="2496960"/>
            <a:chExt cx="5819760" cy="1405440"/>
          </a:xfrm>
        </p:grpSpPr>
        <p:sp>
          <p:nvSpPr>
            <p:cNvPr id="557" name="任意多边形 113"/>
            <p:cNvSpPr/>
            <p:nvPr/>
          </p:nvSpPr>
          <p:spPr>
            <a:xfrm rot="21420000">
              <a:off x="3269880" y="2647440"/>
              <a:ext cx="5433840" cy="111312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5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14"/>
            <p:cNvSpPr/>
            <p:nvPr/>
          </p:nvSpPr>
          <p:spPr>
            <a:xfrm rot="21420000">
              <a:off x="3606480" y="2638440"/>
              <a:ext cx="5432400" cy="111312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5d4e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15"/>
          <p:cNvGrpSpPr/>
          <p:nvPr/>
        </p:nvGrpSpPr>
        <p:grpSpPr>
          <a:xfrm>
            <a:off x="3303720" y="3573360"/>
            <a:ext cx="5821560" cy="1403640"/>
            <a:chOff x="3303720" y="3573360"/>
            <a:chExt cx="5821560" cy="1403640"/>
          </a:xfrm>
        </p:grpSpPr>
        <p:sp>
          <p:nvSpPr>
            <p:cNvPr id="560" name="任意多边形 116"/>
            <p:cNvSpPr/>
            <p:nvPr/>
          </p:nvSpPr>
          <p:spPr>
            <a:xfrm rot="21420000">
              <a:off x="3328920" y="3723840"/>
              <a:ext cx="5435640" cy="111132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b85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117"/>
            <p:cNvSpPr/>
            <p:nvPr/>
          </p:nvSpPr>
          <p:spPr>
            <a:xfrm rot="21420000">
              <a:off x="3665520" y="3714480"/>
              <a:ext cx="5434200" cy="111132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b85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18"/>
          <p:cNvGrpSpPr/>
          <p:nvPr/>
        </p:nvGrpSpPr>
        <p:grpSpPr>
          <a:xfrm>
            <a:off x="3352680" y="4633560"/>
            <a:ext cx="5821200" cy="1419840"/>
            <a:chOff x="3352680" y="4633560"/>
            <a:chExt cx="5821200" cy="1419840"/>
          </a:xfrm>
        </p:grpSpPr>
        <p:sp>
          <p:nvSpPr>
            <p:cNvPr id="563" name="任意多边形 119"/>
            <p:cNvSpPr/>
            <p:nvPr/>
          </p:nvSpPr>
          <p:spPr>
            <a:xfrm rot="21420000">
              <a:off x="3377880" y="4774680"/>
              <a:ext cx="5435280" cy="1112760"/>
            </a:xfrm>
            <a:custGeom>
              <a:avLst/>
              <a:gdLst/>
              <a:ahLst/>
              <a:rect l="l" t="t" r="r" b="b"/>
              <a:pathLst>
                <a:path w="5434943" h="1112025">
                  <a:moveTo>
                    <a:pt x="5434943" y="0"/>
                  </a:moveTo>
                  <a:lnTo>
                    <a:pt x="2056877" y="1112025"/>
                  </a:lnTo>
                  <a:lnTo>
                    <a:pt x="0" y="1112025"/>
                  </a:lnTo>
                  <a:lnTo>
                    <a:pt x="0" y="754453"/>
                  </a:lnTo>
                  <a:lnTo>
                    <a:pt x="2291847" y="0"/>
                  </a:lnTo>
                  <a:lnTo>
                    <a:pt x="5434943" y="0"/>
                  </a:lnTo>
                  <a:close/>
                </a:path>
              </a:pathLst>
            </a:custGeom>
            <a:solidFill>
              <a:srgbClr val="f45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120"/>
            <p:cNvSpPr/>
            <p:nvPr/>
          </p:nvSpPr>
          <p:spPr>
            <a:xfrm rot="21420000">
              <a:off x="3714480" y="4798800"/>
              <a:ext cx="5433840" cy="1112760"/>
            </a:xfrm>
            <a:custGeom>
              <a:avLst/>
              <a:gdLst/>
              <a:ahLst/>
              <a:rect l="l" t="t" r="r" b="b"/>
              <a:pathLst>
                <a:path w="5433500" h="1112025">
                  <a:moveTo>
                    <a:pt x="5433500" y="0"/>
                  </a:moveTo>
                  <a:lnTo>
                    <a:pt x="5433500" y="358047"/>
                  </a:lnTo>
                  <a:lnTo>
                    <a:pt x="3143096" y="1112025"/>
                  </a:lnTo>
                  <a:lnTo>
                    <a:pt x="0" y="1112025"/>
                  </a:lnTo>
                  <a:lnTo>
                    <a:pt x="3378066" y="0"/>
                  </a:lnTo>
                  <a:lnTo>
                    <a:pt x="5433500" y="0"/>
                  </a:lnTo>
                  <a:close/>
                </a:path>
              </a:pathLst>
            </a:custGeom>
            <a:solidFill>
              <a:srgbClr val="f456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121"/>
          <p:cNvGrpSpPr/>
          <p:nvPr/>
        </p:nvGrpSpPr>
        <p:grpSpPr>
          <a:xfrm>
            <a:off x="8280360" y="0"/>
            <a:ext cx="1389240" cy="1287360"/>
            <a:chOff x="8280360" y="0"/>
            <a:chExt cx="1389240" cy="1287360"/>
          </a:xfrm>
        </p:grpSpPr>
        <p:sp>
          <p:nvSpPr>
            <p:cNvPr id="566" name="矩形 122"/>
            <p:cNvSpPr/>
            <p:nvPr/>
          </p:nvSpPr>
          <p:spPr>
            <a:xfrm>
              <a:off x="8280360" y="0"/>
              <a:ext cx="187560" cy="12873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23"/>
            <p:cNvSpPr/>
            <p:nvPr/>
          </p:nvSpPr>
          <p:spPr>
            <a:xfrm>
              <a:off x="8510040" y="0"/>
              <a:ext cx="297720" cy="12873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24"/>
            <p:cNvSpPr/>
            <p:nvPr/>
          </p:nvSpPr>
          <p:spPr>
            <a:xfrm>
              <a:off x="8849520" y="0"/>
              <a:ext cx="349920" cy="12873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25"/>
            <p:cNvSpPr/>
            <p:nvPr/>
          </p:nvSpPr>
          <p:spPr>
            <a:xfrm>
              <a:off x="9241560" y="0"/>
              <a:ext cx="428040" cy="128736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126"/>
          <p:cNvGrpSpPr/>
          <p:nvPr/>
        </p:nvGrpSpPr>
        <p:grpSpPr>
          <a:xfrm>
            <a:off x="2506680" y="0"/>
            <a:ext cx="1388880" cy="1287360"/>
            <a:chOff x="2506680" y="0"/>
            <a:chExt cx="1388880" cy="1287360"/>
          </a:xfrm>
        </p:grpSpPr>
        <p:sp>
          <p:nvSpPr>
            <p:cNvPr id="571" name="矩形 127"/>
            <p:cNvSpPr/>
            <p:nvPr/>
          </p:nvSpPr>
          <p:spPr>
            <a:xfrm flipH="1">
              <a:off x="3707640" y="0"/>
              <a:ext cx="187560" cy="128736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28"/>
            <p:cNvSpPr/>
            <p:nvPr/>
          </p:nvSpPr>
          <p:spPr>
            <a:xfrm flipH="1">
              <a:off x="3368880" y="0"/>
              <a:ext cx="297360" cy="128736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29"/>
            <p:cNvSpPr/>
            <p:nvPr/>
          </p:nvSpPr>
          <p:spPr>
            <a:xfrm flipH="1">
              <a:off x="2976480" y="0"/>
              <a:ext cx="349560" cy="128736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30"/>
            <p:cNvSpPr/>
            <p:nvPr/>
          </p:nvSpPr>
          <p:spPr>
            <a:xfrm flipH="1">
              <a:off x="2506320" y="0"/>
              <a:ext cx="428040" cy="128736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文本框 131"/>
          <p:cNvSpPr/>
          <p:nvPr/>
        </p:nvSpPr>
        <p:spPr>
          <a:xfrm>
            <a:off x="4137120" y="18108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T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132"/>
          <p:cNvSpPr/>
          <p:nvPr/>
        </p:nvSpPr>
        <p:spPr>
          <a:xfrm rot="21420000">
            <a:off x="3231720" y="2319120"/>
            <a:ext cx="5791320" cy="69660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133"/>
          <p:cNvSpPr/>
          <p:nvPr/>
        </p:nvSpPr>
        <p:spPr>
          <a:xfrm rot="21420000">
            <a:off x="3287520" y="3387240"/>
            <a:ext cx="5790960" cy="69696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134"/>
          <p:cNvSpPr/>
          <p:nvPr/>
        </p:nvSpPr>
        <p:spPr>
          <a:xfrm rot="21420000">
            <a:off x="3343320" y="4470120"/>
            <a:ext cx="5791320" cy="69516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35"/>
          <p:cNvSpPr/>
          <p:nvPr/>
        </p:nvSpPr>
        <p:spPr>
          <a:xfrm rot="21420000">
            <a:off x="3398400" y="5517720"/>
            <a:ext cx="5791320" cy="69696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36"/>
          <p:cNvSpPr/>
          <p:nvPr/>
        </p:nvSpPr>
        <p:spPr>
          <a:xfrm rot="21360000">
            <a:off x="5639400" y="259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拓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37"/>
          <p:cNvSpPr/>
          <p:nvPr/>
        </p:nvSpPr>
        <p:spPr>
          <a:xfrm rot="21360000">
            <a:off x="5693400" y="370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体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38"/>
          <p:cNvSpPr/>
          <p:nvPr/>
        </p:nvSpPr>
        <p:spPr>
          <a:xfrm rot="21360000">
            <a:off x="5860080" y="475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痛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139"/>
          <p:cNvSpPr/>
          <p:nvPr/>
        </p:nvSpPr>
        <p:spPr>
          <a:xfrm rot="21360000">
            <a:off x="5953680" y="5832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效益递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3"/>
          <p:cNvSpPr/>
          <p:nvPr/>
        </p:nvSpPr>
        <p:spPr>
          <a:xfrm>
            <a:off x="979560" y="3605040"/>
            <a:ext cx="106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想象：你的产品要在无尽黑暗里，要被认知，必须像烟花一样，爆得高，而且引爆点不能多，要专注，才能建立更坚固的“护城河”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4"/>
          <p:cNvSpPr/>
          <p:nvPr/>
        </p:nvSpPr>
        <p:spPr>
          <a:xfrm>
            <a:off x="2355840" y="4589640"/>
            <a:ext cx="748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互联网的流量，效益试呈明显的递减，成本会变得更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9"/>
          <p:cNvSpPr/>
          <p:nvPr/>
        </p:nvSpPr>
        <p:spPr>
          <a:xfrm>
            <a:off x="2228040" y="76320"/>
            <a:ext cx="21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体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8"/>
          <p:cNvSpPr/>
          <p:nvPr/>
        </p:nvSpPr>
        <p:spPr>
          <a:xfrm>
            <a:off x="4917240" y="23558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个法则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效益递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3"/>
          <p:cNvSpPr/>
          <p:nvPr/>
        </p:nvSpPr>
        <p:spPr>
          <a:xfrm>
            <a:off x="1150920" y="3429000"/>
            <a:ext cx="106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互联网的爆品境界：把产品爆到产生垄断的效果，让别人学都不好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8"/>
          <p:cNvSpPr/>
          <p:nvPr/>
        </p:nvSpPr>
        <p:spPr>
          <a:xfrm>
            <a:off x="1952640" y="4376880"/>
            <a:ext cx="805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爆品战略的本质就是一年一款产品可以干到</a:t>
            </a:r>
            <a:r>
              <a:rPr b="1" lang="en-US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10</a:t>
            </a:r>
            <a:r>
              <a:rPr b="1" lang="zh-CN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个亿的方法论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 25"/>
          <p:cNvGrpSpPr/>
          <p:nvPr/>
        </p:nvGrpSpPr>
        <p:grpSpPr>
          <a:xfrm>
            <a:off x="4172040" y="1504800"/>
            <a:ext cx="3848040" cy="3848400"/>
            <a:chOff x="4172040" y="1504800"/>
            <a:chExt cx="3848040" cy="3848400"/>
          </a:xfrm>
        </p:grpSpPr>
        <p:sp>
          <p:nvSpPr>
            <p:cNvPr id="798" name="椭圆 11"/>
            <p:cNvSpPr/>
            <p:nvPr/>
          </p:nvSpPr>
          <p:spPr>
            <a:xfrm>
              <a:off x="4172040" y="1504800"/>
              <a:ext cx="3848040" cy="3848400"/>
            </a:xfrm>
            <a:prstGeom prst="ellipse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图片 15" descr=""/>
            <p:cNvPicPr/>
            <p:nvPr/>
          </p:nvPicPr>
          <p:blipFill>
            <a:blip r:embed="rId1"/>
            <a:stretch/>
          </p:blipFill>
          <p:spPr>
            <a:xfrm>
              <a:off x="5454720" y="2348640"/>
              <a:ext cx="1054440" cy="10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0" name="文本框 22"/>
          <p:cNvSpPr/>
          <p:nvPr/>
        </p:nvSpPr>
        <p:spPr>
          <a:xfrm>
            <a:off x="4724280" y="3705120"/>
            <a:ext cx="28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产品进行颠覆性微创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任意多边形 33"/>
          <p:cNvSpPr/>
          <p:nvPr/>
        </p:nvSpPr>
        <p:spPr>
          <a:xfrm flipH="1">
            <a:off x="3822840" y="1944720"/>
            <a:ext cx="473688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任意多边形 34"/>
          <p:cNvSpPr/>
          <p:nvPr/>
        </p:nvSpPr>
        <p:spPr>
          <a:xfrm flipH="1">
            <a:off x="3290040" y="2870280"/>
            <a:ext cx="473580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35"/>
          <p:cNvSpPr/>
          <p:nvPr/>
        </p:nvSpPr>
        <p:spPr>
          <a:xfrm flipH="1">
            <a:off x="2757600" y="3782880"/>
            <a:ext cx="4736880" cy="925560"/>
          </a:xfrm>
          <a:custGeom>
            <a:avLst/>
            <a:gdLst/>
            <a:ahLst/>
            <a:rect l="l" t="t" r="r" b="b"/>
            <a:pathLst>
              <a:path w="4736306" h="925514">
                <a:moveTo>
                  <a:pt x="462757" y="0"/>
                </a:moveTo>
                <a:lnTo>
                  <a:pt x="519906" y="5761"/>
                </a:lnTo>
                <a:lnTo>
                  <a:pt x="519906" y="0"/>
                </a:lnTo>
                <a:lnTo>
                  <a:pt x="4736306" y="0"/>
                </a:lnTo>
                <a:lnTo>
                  <a:pt x="4736306" y="925514"/>
                </a:lnTo>
                <a:lnTo>
                  <a:pt x="519906" y="925514"/>
                </a:lnTo>
                <a:lnTo>
                  <a:pt x="519906" y="919753"/>
                </a:lnTo>
                <a:lnTo>
                  <a:pt x="462757" y="925514"/>
                </a:lnTo>
                <a:cubicBezTo>
                  <a:pt x="207183" y="925514"/>
                  <a:pt x="0" y="718331"/>
                  <a:pt x="0" y="462757"/>
                </a:cubicBezTo>
                <a:cubicBezTo>
                  <a:pt x="0" y="207183"/>
                  <a:pt x="207183" y="0"/>
                  <a:pt x="462757" y="0"/>
                </a:cubicBez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39"/>
          <p:cNvSpPr/>
          <p:nvPr/>
        </p:nvSpPr>
        <p:spPr>
          <a:xfrm flipH="1">
            <a:off x="-720" y="1944720"/>
            <a:ext cx="2135160" cy="9255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40"/>
          <p:cNvSpPr/>
          <p:nvPr/>
        </p:nvSpPr>
        <p:spPr>
          <a:xfrm flipH="1">
            <a:off x="-720" y="2860560"/>
            <a:ext cx="1638360" cy="9255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41"/>
          <p:cNvSpPr/>
          <p:nvPr/>
        </p:nvSpPr>
        <p:spPr>
          <a:xfrm flipH="1">
            <a:off x="-720" y="3774960"/>
            <a:ext cx="1104840" cy="927360"/>
          </a:xfrm>
          <a:custGeom>
            <a:avLst/>
            <a:gdLst/>
            <a:ahLst/>
            <a:rect l="l" t="t" r="r" b="b"/>
            <a:pathLst>
              <a:path w="3720214" h="925514">
                <a:moveTo>
                  <a:pt x="0" y="0"/>
                </a:moveTo>
                <a:lnTo>
                  <a:pt x="3720214" y="0"/>
                </a:lnTo>
                <a:lnTo>
                  <a:pt x="3720214" y="925514"/>
                </a:lnTo>
                <a:lnTo>
                  <a:pt x="0" y="925514"/>
                </a:lnTo>
                <a:lnTo>
                  <a:pt x="0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43"/>
          <p:cNvSpPr/>
          <p:nvPr/>
        </p:nvSpPr>
        <p:spPr>
          <a:xfrm flipH="1">
            <a:off x="4524840" y="203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44"/>
          <p:cNvSpPr/>
          <p:nvPr/>
        </p:nvSpPr>
        <p:spPr>
          <a:xfrm flipH="1">
            <a:off x="4086720" y="2978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45"/>
          <p:cNvSpPr/>
          <p:nvPr/>
        </p:nvSpPr>
        <p:spPr>
          <a:xfrm flipH="1">
            <a:off x="3597480" y="38750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爆品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能的入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47"/>
          <p:cNvSpPr/>
          <p:nvPr/>
        </p:nvSpPr>
        <p:spPr>
          <a:xfrm>
            <a:off x="2599560" y="20239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b193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8"/>
          <p:cNvSpPr/>
          <p:nvPr/>
        </p:nvSpPr>
        <p:spPr>
          <a:xfrm>
            <a:off x="2083680" y="30193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7280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49"/>
          <p:cNvSpPr/>
          <p:nvPr/>
        </p:nvSpPr>
        <p:spPr>
          <a:xfrm>
            <a:off x="1551960" y="38750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6c84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53" descr=""/>
          <p:cNvPicPr/>
          <p:nvPr/>
        </p:nvPicPr>
        <p:blipFill>
          <a:blip r:embed="rId2"/>
          <a:stretch/>
        </p:blipFill>
        <p:spPr>
          <a:xfrm>
            <a:off x="601560" y="3038400"/>
            <a:ext cx="433440" cy="541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4" descr=""/>
          <p:cNvPicPr/>
          <p:nvPr/>
        </p:nvPicPr>
        <p:blipFill>
          <a:blip r:embed="rId3"/>
          <a:stretch/>
        </p:blipFill>
        <p:spPr>
          <a:xfrm>
            <a:off x="270000" y="3968640"/>
            <a:ext cx="565200" cy="5652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5" descr=""/>
          <p:cNvPicPr/>
          <p:nvPr/>
        </p:nvPicPr>
        <p:blipFill>
          <a:blip r:embed="rId4"/>
          <a:stretch/>
        </p:blipFill>
        <p:spPr>
          <a:xfrm>
            <a:off x="731880" y="2147760"/>
            <a:ext cx="460440" cy="460440"/>
          </a:xfrm>
          <a:prstGeom prst="rect">
            <a:avLst/>
          </a:prstGeom>
          <a:ln w="0">
            <a:noFill/>
          </a:ln>
        </p:spPr>
      </p:pic>
      <p:sp>
        <p:nvSpPr>
          <p:cNvPr id="821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平行四边形 1"/>
          <p:cNvSpPr/>
          <p:nvPr/>
        </p:nvSpPr>
        <p:spPr>
          <a:xfrm>
            <a:off x="5738760" y="1943280"/>
            <a:ext cx="1095480" cy="2763720"/>
          </a:xfrm>
          <a:prstGeom prst="parallelogram">
            <a:avLst>
              <a:gd name="adj" fmla="val 25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红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33"/>
          <p:cNvSpPr/>
          <p:nvPr/>
        </p:nvSpPr>
        <p:spPr>
          <a:xfrm>
            <a:off x="7961400" y="2932200"/>
            <a:ext cx="4360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款是一个局部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是一个战略，是一个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2" descr="探百村-logo-标志图形-组合1"/>
          <p:cNvPicPr/>
          <p:nvPr/>
        </p:nvPicPr>
        <p:blipFill>
          <a:blip r:embed="rId5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4"/>
          <p:cNvSpPr/>
          <p:nvPr/>
        </p:nvSpPr>
        <p:spPr>
          <a:xfrm>
            <a:off x="3089160" y="1055520"/>
            <a:ext cx="5816880" cy="5454720"/>
          </a:xfrm>
          <a:prstGeom prst="ellipse">
            <a:avLst/>
          </a:prstGeom>
          <a:noFill/>
          <a:ln w="442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26"/>
          <p:cNvSpPr/>
          <p:nvPr/>
        </p:nvSpPr>
        <p:spPr>
          <a:xfrm>
            <a:off x="5763600" y="342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乐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 6"/>
          <p:cNvGrpSpPr/>
          <p:nvPr/>
        </p:nvGrpSpPr>
        <p:grpSpPr>
          <a:xfrm>
            <a:off x="2346480" y="1216080"/>
            <a:ext cx="2216160" cy="2216160"/>
            <a:chOff x="2346480" y="1216080"/>
            <a:chExt cx="2216160" cy="2216160"/>
          </a:xfrm>
        </p:grpSpPr>
        <p:sp>
          <p:nvSpPr>
            <p:cNvPr id="833" name="椭圆 2"/>
            <p:cNvSpPr/>
            <p:nvPr/>
          </p:nvSpPr>
          <p:spPr>
            <a:xfrm>
              <a:off x="2346480" y="1216080"/>
              <a:ext cx="2216160" cy="22161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文本框 3"/>
            <p:cNvSpPr/>
            <p:nvPr/>
          </p:nvSpPr>
          <p:spPr>
            <a:xfrm>
              <a:off x="2958120" y="2109960"/>
              <a:ext cx="101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优酷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&amp;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土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视频流量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 5"/>
          <p:cNvGrpSpPr/>
          <p:nvPr/>
        </p:nvGrpSpPr>
        <p:grpSpPr>
          <a:xfrm>
            <a:off x="7454880" y="1090440"/>
            <a:ext cx="2252520" cy="2252880"/>
            <a:chOff x="7454880" y="1090440"/>
            <a:chExt cx="2252520" cy="2252880"/>
          </a:xfrm>
        </p:grpSpPr>
        <p:sp>
          <p:nvSpPr>
            <p:cNvPr id="836" name="椭圆 28"/>
            <p:cNvSpPr/>
            <p:nvPr/>
          </p:nvSpPr>
          <p:spPr>
            <a:xfrm>
              <a:off x="7454880" y="1090440"/>
              <a:ext cx="2252520" cy="225288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文本框 30"/>
            <p:cNvSpPr/>
            <p:nvPr/>
          </p:nvSpPr>
          <p:spPr>
            <a:xfrm>
              <a:off x="8247960" y="1986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电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 31"/>
          <p:cNvGrpSpPr/>
          <p:nvPr/>
        </p:nvGrpSpPr>
        <p:grpSpPr>
          <a:xfrm>
            <a:off x="8004240" y="4564080"/>
            <a:ext cx="1990800" cy="1990800"/>
            <a:chOff x="8004240" y="4564080"/>
            <a:chExt cx="1990800" cy="1990800"/>
          </a:xfrm>
        </p:grpSpPr>
        <p:sp>
          <p:nvSpPr>
            <p:cNvPr id="839" name="椭圆 32"/>
            <p:cNvSpPr/>
            <p:nvPr/>
          </p:nvSpPr>
          <p:spPr>
            <a:xfrm>
              <a:off x="8004240" y="4564080"/>
              <a:ext cx="1990800" cy="199080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文本框 33"/>
            <p:cNvSpPr/>
            <p:nvPr/>
          </p:nvSpPr>
          <p:spPr>
            <a:xfrm>
              <a:off x="8663040" y="5356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手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组 34"/>
          <p:cNvGrpSpPr/>
          <p:nvPr/>
        </p:nvGrpSpPr>
        <p:grpSpPr>
          <a:xfrm>
            <a:off x="2104920" y="4533840"/>
            <a:ext cx="2051280" cy="2051280"/>
            <a:chOff x="2104920" y="4533840"/>
            <a:chExt cx="2051280" cy="2051280"/>
          </a:xfrm>
        </p:grpSpPr>
        <p:sp>
          <p:nvSpPr>
            <p:cNvPr id="842" name="椭圆 35"/>
            <p:cNvSpPr/>
            <p:nvPr/>
          </p:nvSpPr>
          <p:spPr>
            <a:xfrm>
              <a:off x="2104920" y="4533840"/>
              <a:ext cx="2051280" cy="2051280"/>
            </a:xfrm>
            <a:prstGeom prst="ellipse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文本框 36"/>
            <p:cNvSpPr/>
            <p:nvPr/>
          </p:nvSpPr>
          <p:spPr>
            <a:xfrm>
              <a:off x="2794680" y="535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乐视汽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4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44"/>
          <p:cNvSpPr/>
          <p:nvPr/>
        </p:nvSpPr>
        <p:spPr>
          <a:xfrm>
            <a:off x="5027040" y="4730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6c84"/>
                </a:solidFill>
                <a:latin typeface="微软雅黑"/>
                <a:ea typeface="微软雅黑"/>
              </a:rPr>
              <a:t>从生态链着手，跨界等于链接，深纬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23"/>
          <p:cNvGrpSpPr/>
          <p:nvPr/>
        </p:nvGrpSpPr>
        <p:grpSpPr>
          <a:xfrm>
            <a:off x="2749680" y="4797360"/>
            <a:ext cx="1057320" cy="743040"/>
            <a:chOff x="2749680" y="4797360"/>
            <a:chExt cx="1057320" cy="743040"/>
          </a:xfrm>
        </p:grpSpPr>
        <p:sp>
          <p:nvSpPr>
            <p:cNvPr id="851" name="矩形 24"/>
            <p:cNvSpPr/>
            <p:nvPr/>
          </p:nvSpPr>
          <p:spPr>
            <a:xfrm>
              <a:off x="2749680" y="4797360"/>
              <a:ext cx="380160" cy="73080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矩形 25"/>
            <p:cNvSpPr/>
            <p:nvPr/>
          </p:nvSpPr>
          <p:spPr>
            <a:xfrm>
              <a:off x="3705840" y="4797360"/>
              <a:ext cx="101160" cy="74304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矩形 26"/>
            <p:cNvSpPr/>
            <p:nvPr/>
          </p:nvSpPr>
          <p:spPr>
            <a:xfrm>
              <a:off x="3500640" y="4797360"/>
              <a:ext cx="177480" cy="74304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27"/>
            <p:cNvSpPr/>
            <p:nvPr/>
          </p:nvSpPr>
          <p:spPr>
            <a:xfrm>
              <a:off x="3174120" y="4797360"/>
              <a:ext cx="296640" cy="74304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组合 28"/>
          <p:cNvGrpSpPr/>
          <p:nvPr/>
        </p:nvGrpSpPr>
        <p:grpSpPr>
          <a:xfrm>
            <a:off x="9019800" y="4797360"/>
            <a:ext cx="1038600" cy="743040"/>
            <a:chOff x="9019800" y="4797360"/>
            <a:chExt cx="1038600" cy="743040"/>
          </a:xfrm>
        </p:grpSpPr>
        <p:sp>
          <p:nvSpPr>
            <p:cNvPr id="856" name="矩形 29"/>
            <p:cNvSpPr/>
            <p:nvPr/>
          </p:nvSpPr>
          <p:spPr>
            <a:xfrm flipH="1">
              <a:off x="9678960" y="4797360"/>
              <a:ext cx="379440" cy="730800"/>
            </a:xfrm>
            <a:prstGeom prst="rect">
              <a:avLst/>
            </a:prstGeom>
            <a:solidFill>
              <a:srgbClr val="6c5b7b"/>
            </a:solidFill>
            <a:ln w="12600">
              <a:solidFill>
                <a:srgbClr val="6c5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矩形 30"/>
            <p:cNvSpPr/>
            <p:nvPr/>
          </p:nvSpPr>
          <p:spPr>
            <a:xfrm flipH="1">
              <a:off x="9019440" y="4797360"/>
              <a:ext cx="101160" cy="74304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矩形 31"/>
            <p:cNvSpPr/>
            <p:nvPr/>
          </p:nvSpPr>
          <p:spPr>
            <a:xfrm flipH="1">
              <a:off x="9148680" y="4797360"/>
              <a:ext cx="177120" cy="74304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32"/>
            <p:cNvSpPr/>
            <p:nvPr/>
          </p:nvSpPr>
          <p:spPr>
            <a:xfrm flipH="1">
              <a:off x="9355320" y="4797360"/>
              <a:ext cx="295920" cy="74304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虚尾箭头 3"/>
          <p:cNvSpPr/>
          <p:nvPr/>
        </p:nvSpPr>
        <p:spPr>
          <a:xfrm>
            <a:off x="1995480" y="3213000"/>
            <a:ext cx="8874000" cy="941400"/>
          </a:xfrm>
          <a:custGeom>
            <a:avLst/>
            <a:gdLst/>
            <a:ahLst/>
            <a:rect l="l" t="t" r="r" b="b"/>
            <a:pathLst>
              <a:path w="8874125" h="941387">
                <a:moveTo>
                  <a:pt x="0" y="235346"/>
                </a:moveTo>
                <a:lnTo>
                  <a:pt x="29418" y="235346"/>
                </a:lnTo>
                <a:lnTo>
                  <a:pt x="29418" y="706040"/>
                </a:lnTo>
                <a:lnTo>
                  <a:pt x="0" y="706040"/>
                </a:lnTo>
                <a:close/>
                <a:moveTo>
                  <a:pt x="58836" y="235346"/>
                </a:moveTo>
                <a:lnTo>
                  <a:pt x="117673" y="235346"/>
                </a:lnTo>
                <a:lnTo>
                  <a:pt x="117673" y="706040"/>
                </a:lnTo>
                <a:lnTo>
                  <a:pt x="58836" y="706040"/>
                </a:lnTo>
                <a:close/>
                <a:moveTo>
                  <a:pt x="147091" y="235346"/>
                </a:moveTo>
                <a:lnTo>
                  <a:pt x="8403431" y="235346"/>
                </a:lnTo>
                <a:lnTo>
                  <a:pt x="8403431" y="0"/>
                </a:lnTo>
                <a:lnTo>
                  <a:pt x="8874125" y="470693"/>
                </a:lnTo>
                <a:lnTo>
                  <a:pt x="8403431" y="941387"/>
                </a:lnTo>
                <a:lnTo>
                  <a:pt x="8403431" y="706040"/>
                </a:lnTo>
                <a:lnTo>
                  <a:pt x="147091" y="70604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"/>
          <p:cNvSpPr/>
          <p:nvPr/>
        </p:nvSpPr>
        <p:spPr>
          <a:xfrm>
            <a:off x="3667320" y="2782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传统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厂、制造、能配比、渠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27"/>
          <p:cNvSpPr/>
          <p:nvPr/>
        </p:nvSpPr>
        <p:spPr>
          <a:xfrm>
            <a:off x="6987600" y="278280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米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年一款、线上销售，羊毛出在猪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4"/>
          <p:cNvSpPr/>
          <p:nvPr/>
        </p:nvSpPr>
        <p:spPr>
          <a:xfrm>
            <a:off x="4949640" y="525132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6c84"/>
                </a:solidFill>
                <a:latin typeface="微软雅黑"/>
                <a:ea typeface="微软雅黑"/>
              </a:rPr>
              <a:t>高频打低频是铁律，低频行业如何找爆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椭圆 10"/>
          <p:cNvSpPr/>
          <p:nvPr/>
        </p:nvSpPr>
        <p:spPr>
          <a:xfrm>
            <a:off x="4780080" y="1411200"/>
            <a:ext cx="2631960" cy="2632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17" descr=""/>
          <p:cNvPicPr/>
          <p:nvPr/>
        </p:nvPicPr>
        <p:blipFill>
          <a:blip r:embed="rId1"/>
          <a:stretch/>
        </p:blipFill>
        <p:spPr>
          <a:xfrm>
            <a:off x="5678640" y="1798560"/>
            <a:ext cx="834840" cy="601920"/>
          </a:xfrm>
          <a:prstGeom prst="rect">
            <a:avLst/>
          </a:prstGeom>
          <a:ln w="0">
            <a:noFill/>
          </a:ln>
        </p:spPr>
      </p:pic>
      <p:sp>
        <p:nvSpPr>
          <p:cNvPr id="872" name="文本框 22"/>
          <p:cNvSpPr/>
          <p:nvPr/>
        </p:nvSpPr>
        <p:spPr>
          <a:xfrm>
            <a:off x="4967280" y="2513160"/>
            <a:ext cx="22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频跟低频背后是跟用户的强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战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"/>
          <p:cNvSpPr/>
          <p:nvPr/>
        </p:nvSpPr>
        <p:spPr>
          <a:xfrm>
            <a:off x="3534840" y="4322880"/>
            <a:ext cx="57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跟用户的联系</a:t>
            </a:r>
            <a:r>
              <a:rPr b="1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传统企业的微信公众号，提升用户的高频入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7"/>
          <p:cNvSpPr/>
          <p:nvPr/>
        </p:nvSpPr>
        <p:spPr>
          <a:xfrm>
            <a:off x="7423200" y="184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文本框 11"/>
          <p:cNvSpPr/>
          <p:nvPr/>
        </p:nvSpPr>
        <p:spPr>
          <a:xfrm>
            <a:off x="5422320" y="3084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是一切产品的基础和核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2"/>
          <p:cNvSpPr/>
          <p:nvPr/>
        </p:nvSpPr>
        <p:spPr>
          <a:xfrm>
            <a:off x="5472720" y="310032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做爆品必须遵循的第一公里：</a:t>
            </a: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找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12"/>
          <p:cNvSpPr/>
          <p:nvPr/>
        </p:nvSpPr>
        <p:spPr>
          <a:xfrm>
            <a:off x="3070800" y="4292640"/>
            <a:ext cx="64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痛点：用户最痛的需求点，是用户最想解决的需求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图片 1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38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等腰三角形 12"/>
          <p:cNvSpPr/>
          <p:nvPr/>
        </p:nvSpPr>
        <p:spPr>
          <a:xfrm rot="5400000">
            <a:off x="3550680" y="2168280"/>
            <a:ext cx="2108160" cy="1816200"/>
          </a:xfrm>
          <a:prstGeom prst="triangle">
            <a:avLst>
              <a:gd name="adj" fmla="val 50000"/>
            </a:avLst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等腰三角形 14"/>
          <p:cNvSpPr/>
          <p:nvPr/>
        </p:nvSpPr>
        <p:spPr>
          <a:xfrm rot="5400000">
            <a:off x="7576560" y="2166840"/>
            <a:ext cx="2108160" cy="1816200"/>
          </a:xfrm>
          <a:prstGeom prst="triangle">
            <a:avLst>
              <a:gd name="adj" fmla="val 5000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图片 16" descr=""/>
          <p:cNvPicPr/>
          <p:nvPr/>
        </p:nvPicPr>
        <p:blipFill>
          <a:blip r:embed="rId2"/>
          <a:stretch/>
        </p:blipFill>
        <p:spPr>
          <a:xfrm>
            <a:off x="8062920" y="2759040"/>
            <a:ext cx="569880" cy="541440"/>
          </a:xfrm>
          <a:prstGeom prst="rect">
            <a:avLst/>
          </a:prstGeom>
          <a:ln w="0">
            <a:noFill/>
          </a:ln>
        </p:spPr>
      </p:pic>
      <p:pic>
        <p:nvPicPr>
          <p:cNvPr id="905" name="图片 19" descr=""/>
          <p:cNvPicPr/>
          <p:nvPr/>
        </p:nvPicPr>
        <p:blipFill>
          <a:blip r:embed="rId3"/>
          <a:stretch/>
        </p:blipFill>
        <p:spPr>
          <a:xfrm>
            <a:off x="3989520" y="2774880"/>
            <a:ext cx="574560" cy="574920"/>
          </a:xfrm>
          <a:prstGeom prst="rect">
            <a:avLst/>
          </a:prstGeom>
          <a:ln w="0">
            <a:noFill/>
          </a:ln>
        </p:spPr>
      </p:pic>
      <p:sp>
        <p:nvSpPr>
          <p:cNvPr id="906" name="文本框 21"/>
          <p:cNvSpPr/>
          <p:nvPr/>
        </p:nvSpPr>
        <p:spPr>
          <a:xfrm flipH="1">
            <a:off x="7939800" y="433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找一级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23"/>
          <p:cNvSpPr/>
          <p:nvPr/>
        </p:nvSpPr>
        <p:spPr>
          <a:xfrm flipH="1">
            <a:off x="3579840" y="4338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找风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6"/>
          <p:cNvSpPr/>
          <p:nvPr/>
        </p:nvSpPr>
        <p:spPr>
          <a:xfrm>
            <a:off x="4713840" y="11923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两大核心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2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17"/>
          <p:cNvSpPr/>
          <p:nvPr/>
        </p:nvSpPr>
        <p:spPr>
          <a:xfrm>
            <a:off x="7312320" y="1846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知拓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1"/>
          <p:cNvSpPr/>
          <p:nvPr/>
        </p:nvSpPr>
        <p:spPr>
          <a:xfrm>
            <a:off x="1150920" y="1927080"/>
            <a:ext cx="1003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风口猪都能飞起来，其实打造一款爆品，首先就要找到我们的风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我们经常讲风口指数，就是你的产品风口指数怎么样。什么叫风口呢？风口怎么找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就是国民性痛点。如果你的痛点够大够肥，你就有更多成功的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"/>
          <p:cNvSpPr/>
          <p:nvPr/>
        </p:nvSpPr>
        <p:spPr>
          <a:xfrm>
            <a:off x="4024080" y="2930400"/>
            <a:ext cx="37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国民性痛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2"/>
          <p:cNvSpPr/>
          <p:nvPr/>
        </p:nvSpPr>
        <p:spPr>
          <a:xfrm>
            <a:off x="4325040" y="508320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键词：三聚氰胺 九阳豆浆机 风口指数直线飙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图片 3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任意多边形 38"/>
          <p:cNvSpPr/>
          <p:nvPr/>
        </p:nvSpPr>
        <p:spPr>
          <a:xfrm flipH="1">
            <a:off x="4738680" y="2006640"/>
            <a:ext cx="387360" cy="116352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任意多边形 26"/>
          <p:cNvSpPr/>
          <p:nvPr/>
        </p:nvSpPr>
        <p:spPr>
          <a:xfrm>
            <a:off x="4098960" y="201132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343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任意多边形 27"/>
          <p:cNvSpPr/>
          <p:nvPr/>
        </p:nvSpPr>
        <p:spPr>
          <a:xfrm>
            <a:off x="4092480" y="283068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ac4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任意多边形 28"/>
          <p:cNvSpPr/>
          <p:nvPr/>
        </p:nvSpPr>
        <p:spPr>
          <a:xfrm>
            <a:off x="4095720" y="3630600"/>
            <a:ext cx="638280" cy="1989000"/>
          </a:xfrm>
          <a:custGeom>
            <a:avLst/>
            <a:gdLst/>
            <a:ahLst/>
            <a:rect l="l" t="t" r="r" b="b"/>
            <a:pathLst>
              <a:path w="593997" h="1848987">
                <a:moveTo>
                  <a:pt x="593997" y="0"/>
                </a:moveTo>
                <a:lnTo>
                  <a:pt x="593997" y="1542975"/>
                </a:lnTo>
                <a:lnTo>
                  <a:pt x="582533" y="1548906"/>
                </a:lnTo>
                <a:lnTo>
                  <a:pt x="582533" y="1547588"/>
                </a:lnTo>
                <a:lnTo>
                  <a:pt x="0" y="1848987"/>
                </a:lnTo>
                <a:lnTo>
                  <a:pt x="0" y="312613"/>
                </a:lnTo>
                <a:lnTo>
                  <a:pt x="582533" y="11214"/>
                </a:lnTo>
                <a:lnTo>
                  <a:pt x="582533" y="5932"/>
                </a:lnTo>
                <a:lnTo>
                  <a:pt x="593997" y="0"/>
                </a:lnTo>
                <a:close/>
              </a:path>
            </a:pathLst>
          </a:custGeom>
          <a:solidFill>
            <a:srgbClr val="4c4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圆角矩形 29"/>
          <p:cNvSpPr/>
          <p:nvPr/>
        </p:nvSpPr>
        <p:spPr>
          <a:xfrm>
            <a:off x="1708200" y="1546200"/>
            <a:ext cx="2514600" cy="460692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606920"/>
              <a:gd name="textAreaBottom" fmla="*/ 4484160 h 4606920"/>
            </a:gdLst>
            <a:ahLst/>
            <a:rect l="textAreaLeft" t="textAreaTop" r="textAreaRight" b="textAreaBottom"/>
            <a:pathLst>
              <a:path w="21600" h="39570">
                <a:moveTo>
                  <a:pt x="3600" y="0"/>
                </a:moveTo>
                <a:arcTo wR="3600" hR="3600" stAng="16200000" swAng="-5400000"/>
                <a:lnTo>
                  <a:pt x="0" y="35970"/>
                </a:lnTo>
                <a:arcTo wR="3600" hR="3600" stAng="10800000" swAng="-5400000"/>
                <a:lnTo>
                  <a:pt x="18000" y="395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30"/>
          <p:cNvSpPr/>
          <p:nvPr/>
        </p:nvSpPr>
        <p:spPr>
          <a:xfrm>
            <a:off x="1832040" y="2286000"/>
            <a:ext cx="2268360" cy="82872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31"/>
          <p:cNvSpPr/>
          <p:nvPr/>
        </p:nvSpPr>
        <p:spPr>
          <a:xfrm>
            <a:off x="1832040" y="3114720"/>
            <a:ext cx="2268360" cy="82872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32"/>
          <p:cNvSpPr/>
          <p:nvPr/>
        </p:nvSpPr>
        <p:spPr>
          <a:xfrm>
            <a:off x="1832040" y="3943440"/>
            <a:ext cx="2268360" cy="163656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圆角矩形 33"/>
          <p:cNvSpPr/>
          <p:nvPr/>
        </p:nvSpPr>
        <p:spPr>
          <a:xfrm>
            <a:off x="2670120" y="1863720"/>
            <a:ext cx="592200" cy="4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34"/>
          <p:cNvSpPr/>
          <p:nvPr/>
        </p:nvSpPr>
        <p:spPr>
          <a:xfrm>
            <a:off x="2412720" y="2406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统企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35"/>
          <p:cNvSpPr/>
          <p:nvPr/>
        </p:nvSpPr>
        <p:spPr>
          <a:xfrm>
            <a:off x="2248560" y="3757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联网时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椭圆 37"/>
          <p:cNvSpPr/>
          <p:nvPr/>
        </p:nvSpPr>
        <p:spPr>
          <a:xfrm>
            <a:off x="2835360" y="5719680"/>
            <a:ext cx="261720" cy="262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任意多边形 39"/>
          <p:cNvSpPr/>
          <p:nvPr/>
        </p:nvSpPr>
        <p:spPr>
          <a:xfrm>
            <a:off x="5126040" y="2009880"/>
            <a:ext cx="639720" cy="115560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f343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任意多边形 41"/>
          <p:cNvSpPr/>
          <p:nvPr/>
        </p:nvSpPr>
        <p:spPr>
          <a:xfrm>
            <a:off x="5105520" y="2811600"/>
            <a:ext cx="668160" cy="128268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ac4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42"/>
          <p:cNvSpPr/>
          <p:nvPr/>
        </p:nvSpPr>
        <p:spPr>
          <a:xfrm>
            <a:off x="4730760" y="3629160"/>
            <a:ext cx="393840" cy="2001600"/>
          </a:xfrm>
          <a:custGeom>
            <a:avLst/>
            <a:gdLst/>
            <a:ahLst/>
            <a:rect l="l" t="t" r="r" b="b"/>
            <a:pathLst>
              <a:path w="366467" h="1859919">
                <a:moveTo>
                  <a:pt x="0" y="0"/>
                </a:moveTo>
                <a:lnTo>
                  <a:pt x="6467" y="136"/>
                </a:lnTo>
                <a:lnTo>
                  <a:pt x="6467" y="3765"/>
                </a:lnTo>
                <a:lnTo>
                  <a:pt x="366467" y="312845"/>
                </a:lnTo>
                <a:lnTo>
                  <a:pt x="366467" y="1859919"/>
                </a:lnTo>
                <a:lnTo>
                  <a:pt x="363809" y="1859919"/>
                </a:lnTo>
                <a:lnTo>
                  <a:pt x="7933" y="1554380"/>
                </a:lnTo>
                <a:lnTo>
                  <a:pt x="7933" y="1559036"/>
                </a:lnTo>
                <a:lnTo>
                  <a:pt x="0" y="1552225"/>
                </a:lnTo>
                <a:lnTo>
                  <a:pt x="0" y="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任意多边形 43"/>
          <p:cNvSpPr/>
          <p:nvPr/>
        </p:nvSpPr>
        <p:spPr>
          <a:xfrm>
            <a:off x="5126040" y="3633840"/>
            <a:ext cx="639720" cy="1989000"/>
          </a:xfrm>
          <a:custGeom>
            <a:avLst/>
            <a:gdLst/>
            <a:ahLst/>
            <a:rect l="l" t="t" r="r" b="b"/>
            <a:pathLst>
              <a:path w="593997" h="1848987">
                <a:moveTo>
                  <a:pt x="593997" y="0"/>
                </a:moveTo>
                <a:lnTo>
                  <a:pt x="593997" y="1542975"/>
                </a:lnTo>
                <a:lnTo>
                  <a:pt x="582533" y="1548906"/>
                </a:lnTo>
                <a:lnTo>
                  <a:pt x="582533" y="1547588"/>
                </a:lnTo>
                <a:lnTo>
                  <a:pt x="0" y="1848987"/>
                </a:lnTo>
                <a:lnTo>
                  <a:pt x="0" y="312613"/>
                </a:lnTo>
                <a:lnTo>
                  <a:pt x="582533" y="11214"/>
                </a:lnTo>
                <a:lnTo>
                  <a:pt x="582533" y="5932"/>
                </a:lnTo>
                <a:lnTo>
                  <a:pt x="593997" y="0"/>
                </a:lnTo>
                <a:close/>
              </a:path>
            </a:pathLst>
          </a:custGeom>
          <a:solidFill>
            <a:srgbClr val="4c4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五边形 44"/>
          <p:cNvSpPr/>
          <p:nvPr/>
        </p:nvSpPr>
        <p:spPr>
          <a:xfrm>
            <a:off x="5765760" y="2006640"/>
            <a:ext cx="4176720" cy="81900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五边形 45"/>
          <p:cNvSpPr/>
          <p:nvPr/>
        </p:nvSpPr>
        <p:spPr>
          <a:xfrm>
            <a:off x="5759280" y="2811600"/>
            <a:ext cx="4821480" cy="836640"/>
          </a:xfrm>
          <a:custGeom>
            <a:avLst/>
            <a:gdLst>
              <a:gd name="textAreaLeft" fmla="*/ 0 w 4821480"/>
              <a:gd name="textAreaRight" fmla="*/ 4821840 w 482148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五边形 46"/>
          <p:cNvSpPr/>
          <p:nvPr/>
        </p:nvSpPr>
        <p:spPr>
          <a:xfrm>
            <a:off x="5751360" y="3648240"/>
            <a:ext cx="5759640" cy="166680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47"/>
          <p:cNvSpPr/>
          <p:nvPr/>
        </p:nvSpPr>
        <p:spPr>
          <a:xfrm>
            <a:off x="6349320" y="204300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政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弊端：不确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48"/>
          <p:cNvSpPr/>
          <p:nvPr/>
        </p:nvSpPr>
        <p:spPr>
          <a:xfrm>
            <a:off x="6530760" y="286704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又肥又大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肥代表盈利空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代表需求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任意多边形 40"/>
          <p:cNvSpPr/>
          <p:nvPr/>
        </p:nvSpPr>
        <p:spPr>
          <a:xfrm flipH="1">
            <a:off x="4732200" y="2809800"/>
            <a:ext cx="387360" cy="1162080"/>
          </a:xfrm>
          <a:custGeom>
            <a:avLst/>
            <a:gdLst/>
            <a:ahLst/>
            <a:rect l="l" t="t" r="r" b="b"/>
            <a:pathLst>
              <a:path w="593997" h="1073886">
                <a:moveTo>
                  <a:pt x="593997" y="0"/>
                </a:moveTo>
                <a:lnTo>
                  <a:pt x="593997" y="766556"/>
                </a:lnTo>
                <a:lnTo>
                  <a:pt x="0" y="1073886"/>
                </a:lnTo>
                <a:lnTo>
                  <a:pt x="0" y="307330"/>
                </a:lnTo>
                <a:lnTo>
                  <a:pt x="593997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文本框 48"/>
          <p:cNvSpPr/>
          <p:nvPr/>
        </p:nvSpPr>
        <p:spPr>
          <a:xfrm>
            <a:off x="6676920" y="38498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频消费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费频率高   婚嫁红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文本框 48"/>
          <p:cNvSpPr/>
          <p:nvPr/>
        </p:nvSpPr>
        <p:spPr>
          <a:xfrm>
            <a:off x="6792120" y="4483080"/>
            <a:ext cx="294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化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标准化生产、制造及运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餐饮团购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打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文本框 8"/>
          <p:cNvSpPr/>
          <p:nvPr/>
        </p:nvSpPr>
        <p:spPr>
          <a:xfrm>
            <a:off x="4161240" y="3697200"/>
            <a:ext cx="29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风口找到≠一定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9"/>
          <p:cNvSpPr/>
          <p:nvPr/>
        </p:nvSpPr>
        <p:spPr>
          <a:xfrm>
            <a:off x="3516840" y="2403360"/>
            <a:ext cx="419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黏住用户</a:t>
            </a: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痛点需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9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71"/>
          <p:cNvGrpSpPr/>
          <p:nvPr/>
        </p:nvGrpSpPr>
        <p:grpSpPr>
          <a:xfrm>
            <a:off x="7800840" y="2566800"/>
            <a:ext cx="1571040" cy="1566360"/>
            <a:chOff x="7800840" y="2566800"/>
            <a:chExt cx="1571040" cy="1566360"/>
          </a:xfrm>
        </p:grpSpPr>
        <p:sp>
          <p:nvSpPr>
            <p:cNvPr id="969" name="任意多边形 18"/>
            <p:cNvSpPr/>
            <p:nvPr/>
          </p:nvSpPr>
          <p:spPr>
            <a:xfrm rot="8100000">
              <a:off x="8588520" y="3393360"/>
              <a:ext cx="801000" cy="28116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五边形 19"/>
            <p:cNvSpPr/>
            <p:nvPr/>
          </p:nvSpPr>
          <p:spPr>
            <a:xfrm rot="2700000">
              <a:off x="8352720" y="2853000"/>
              <a:ext cx="926280" cy="28116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五边形 20"/>
            <p:cNvSpPr/>
            <p:nvPr/>
          </p:nvSpPr>
          <p:spPr>
            <a:xfrm flipH="1" rot="2700000">
              <a:off x="8213400" y="3246120"/>
              <a:ext cx="281160" cy="922320"/>
            </a:xfrm>
            <a:custGeom>
              <a:avLst/>
              <a:gdLst>
                <a:gd name="textAreaLeft" fmla="*/ -360 w 281160"/>
                <a:gd name="textAreaRight" fmla="*/ 281160 w 281160"/>
                <a:gd name="textAreaTop" fmla="*/ 0 h 922320"/>
                <a:gd name="textAreaBottom" fmla="*/ 92268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任意多边形 21"/>
            <p:cNvSpPr/>
            <p:nvPr/>
          </p:nvSpPr>
          <p:spPr>
            <a:xfrm flipH="1" flipV="1" rot="8100000">
              <a:off x="7782840" y="3027960"/>
              <a:ext cx="801000" cy="28116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组合 72"/>
          <p:cNvGrpSpPr/>
          <p:nvPr/>
        </p:nvGrpSpPr>
        <p:grpSpPr>
          <a:xfrm>
            <a:off x="10110960" y="3054960"/>
            <a:ext cx="987120" cy="983520"/>
            <a:chOff x="10110960" y="3054960"/>
            <a:chExt cx="987120" cy="983520"/>
          </a:xfrm>
        </p:grpSpPr>
        <p:sp>
          <p:nvSpPr>
            <p:cNvPr id="974" name="任意多边形 30"/>
            <p:cNvSpPr/>
            <p:nvPr/>
          </p:nvSpPr>
          <p:spPr>
            <a:xfrm rot="8100000">
              <a:off x="10605960" y="3574440"/>
              <a:ext cx="503280" cy="17640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五边形 31"/>
            <p:cNvSpPr/>
            <p:nvPr/>
          </p:nvSpPr>
          <p:spPr>
            <a:xfrm rot="2700000">
              <a:off x="10457280" y="3234600"/>
              <a:ext cx="581760" cy="17676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五边形 32"/>
            <p:cNvSpPr/>
            <p:nvPr/>
          </p:nvSpPr>
          <p:spPr>
            <a:xfrm flipH="1" rot="2700000">
              <a:off x="10369800" y="3481560"/>
              <a:ext cx="176760" cy="578880"/>
            </a:xfrm>
            <a:custGeom>
              <a:avLst/>
              <a:gdLst>
                <a:gd name="textAreaLeft" fmla="*/ -360 w 176760"/>
                <a:gd name="textAreaRight" fmla="*/ 176760 w 17676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33"/>
            <p:cNvSpPr/>
            <p:nvPr/>
          </p:nvSpPr>
          <p:spPr>
            <a:xfrm flipH="1" flipV="1" rot="8100000">
              <a:off x="10099440" y="3344760"/>
              <a:ext cx="503640" cy="17640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组合 66"/>
          <p:cNvGrpSpPr/>
          <p:nvPr/>
        </p:nvGrpSpPr>
        <p:grpSpPr>
          <a:xfrm>
            <a:off x="1083960" y="1113480"/>
            <a:ext cx="2979000" cy="2965680"/>
            <a:chOff x="1083960" y="1113480"/>
            <a:chExt cx="2979000" cy="2965680"/>
          </a:xfrm>
        </p:grpSpPr>
        <p:sp>
          <p:nvSpPr>
            <p:cNvPr id="979" name="任意多边形 46"/>
            <p:cNvSpPr/>
            <p:nvPr/>
          </p:nvSpPr>
          <p:spPr>
            <a:xfrm rot="8100000">
              <a:off x="2575440" y="2679120"/>
              <a:ext cx="151596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五边形 47"/>
            <p:cNvSpPr/>
            <p:nvPr/>
          </p:nvSpPr>
          <p:spPr>
            <a:xfrm rot="2700000">
              <a:off x="2129040" y="1655280"/>
              <a:ext cx="1753560" cy="532080"/>
            </a:xfrm>
            <a:custGeom>
              <a:avLst/>
              <a:gdLst>
                <a:gd name="textAreaLeft" fmla="*/ 0 w 1753560"/>
                <a:gd name="textAreaRight" fmla="*/ 1753920 w 1753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五边形 48"/>
            <p:cNvSpPr/>
            <p:nvPr/>
          </p:nvSpPr>
          <p:spPr>
            <a:xfrm flipH="1" rot="2700000">
              <a:off x="1864080" y="2400480"/>
              <a:ext cx="532080" cy="1745280"/>
            </a:xfrm>
            <a:custGeom>
              <a:avLst/>
              <a:gdLst>
                <a:gd name="textAreaLeft" fmla="*/ 360 w 532080"/>
                <a:gd name="textAreaRight" fmla="*/ 532800 w 53208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9"/>
            <p:cNvSpPr/>
            <p:nvPr/>
          </p:nvSpPr>
          <p:spPr>
            <a:xfrm flipH="1" flipV="1" rot="8100000">
              <a:off x="1049400" y="1987920"/>
              <a:ext cx="151632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2"/>
            <p:cNvSpPr/>
            <p:nvPr/>
          </p:nvSpPr>
          <p:spPr>
            <a:xfrm rot="8100000">
              <a:off x="2580840" y="2679840"/>
              <a:ext cx="151596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五边形 43"/>
            <p:cNvSpPr/>
            <p:nvPr/>
          </p:nvSpPr>
          <p:spPr>
            <a:xfrm rot="2700000">
              <a:off x="2134440" y="1656000"/>
              <a:ext cx="1753560" cy="532080"/>
            </a:xfrm>
            <a:custGeom>
              <a:avLst/>
              <a:gdLst>
                <a:gd name="textAreaLeft" fmla="*/ 0 w 1753560"/>
                <a:gd name="textAreaRight" fmla="*/ 1753920 w 175356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五边形 44"/>
            <p:cNvSpPr/>
            <p:nvPr/>
          </p:nvSpPr>
          <p:spPr>
            <a:xfrm flipH="1" rot="2700000">
              <a:off x="1869480" y="2401200"/>
              <a:ext cx="532080" cy="1745280"/>
            </a:xfrm>
            <a:custGeom>
              <a:avLst/>
              <a:gdLst>
                <a:gd name="textAreaLeft" fmla="*/ 360 w 532080"/>
                <a:gd name="textAreaRight" fmla="*/ 532800 w 532080"/>
                <a:gd name="textAreaTop" fmla="*/ 0 h 1745280"/>
                <a:gd name="textAreaBottom" fmla="*/ 1745640 h 17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任意多边形 45"/>
            <p:cNvSpPr/>
            <p:nvPr/>
          </p:nvSpPr>
          <p:spPr>
            <a:xfrm flipH="1" flipV="1" rot="8100000">
              <a:off x="1054440" y="1988640"/>
              <a:ext cx="1516320" cy="532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70"/>
          <p:cNvGrpSpPr/>
          <p:nvPr/>
        </p:nvGrpSpPr>
        <p:grpSpPr>
          <a:xfrm>
            <a:off x="4909320" y="1899360"/>
            <a:ext cx="2168280" cy="2161800"/>
            <a:chOff x="4909320" y="1899360"/>
            <a:chExt cx="2168280" cy="2161800"/>
          </a:xfrm>
        </p:grpSpPr>
        <p:sp>
          <p:nvSpPr>
            <p:cNvPr id="988" name="任意多边形 58"/>
            <p:cNvSpPr/>
            <p:nvPr/>
          </p:nvSpPr>
          <p:spPr>
            <a:xfrm rot="8100000">
              <a:off x="5996520" y="3040920"/>
              <a:ext cx="1105560" cy="388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五边形 59"/>
            <p:cNvSpPr/>
            <p:nvPr/>
          </p:nvSpPr>
          <p:spPr>
            <a:xfrm rot="2700000">
              <a:off x="5671080" y="2294280"/>
              <a:ext cx="1278360" cy="388080"/>
            </a:xfrm>
            <a:custGeom>
              <a:avLst/>
              <a:gdLst>
                <a:gd name="textAreaLeft" fmla="*/ 0 w 1278360"/>
                <a:gd name="textAreaRight" fmla="*/ 1278720 w 1278360"/>
                <a:gd name="textAreaTop" fmla="*/ 0 h 388080"/>
                <a:gd name="textAreaBottom" fmla="*/ 388440 h 38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五边形 60"/>
            <p:cNvSpPr/>
            <p:nvPr/>
          </p:nvSpPr>
          <p:spPr>
            <a:xfrm flipH="1" rot="2700000">
              <a:off x="5478120" y="2837520"/>
              <a:ext cx="388080" cy="1272600"/>
            </a:xfrm>
            <a:custGeom>
              <a:avLst/>
              <a:gdLst>
                <a:gd name="textAreaLeft" fmla="*/ 360 w 388080"/>
                <a:gd name="textAreaRight" fmla="*/ 388800 w 388080"/>
                <a:gd name="textAreaTop" fmla="*/ 0 h 1272600"/>
                <a:gd name="textAreaBottom" fmla="*/ 1272960 h 127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61"/>
            <p:cNvSpPr/>
            <p:nvPr/>
          </p:nvSpPr>
          <p:spPr>
            <a:xfrm flipH="1" flipV="1" rot="8100000">
              <a:off x="4884120" y="2537640"/>
              <a:ext cx="1105920" cy="388080"/>
            </a:xfrm>
            <a:custGeom>
              <a:avLst/>
              <a:gdLst/>
              <a:ahLst/>
              <a:rect l="l" t="t" r="r" b="b"/>
              <a:pathLst>
                <a:path w="1618735" h="568411">
                  <a:moveTo>
                    <a:pt x="0" y="568411"/>
                  </a:moveTo>
                  <a:lnTo>
                    <a:pt x="0" y="0"/>
                  </a:lnTo>
                  <a:lnTo>
                    <a:pt x="1618735" y="0"/>
                  </a:lnTo>
                  <a:lnTo>
                    <a:pt x="1618735" y="568411"/>
                  </a:lnTo>
                  <a:lnTo>
                    <a:pt x="565788" y="568411"/>
                  </a:lnTo>
                  <a:lnTo>
                    <a:pt x="284205" y="286828"/>
                  </a:lnTo>
                  <a:lnTo>
                    <a:pt x="2622" y="568411"/>
                  </a:lnTo>
                  <a:lnTo>
                    <a:pt x="0" y="568411"/>
                  </a:lnTo>
                  <a:close/>
                </a:path>
              </a:pathLst>
            </a:cu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文本框 34"/>
          <p:cNvSpPr/>
          <p:nvPr/>
        </p:nvSpPr>
        <p:spPr>
          <a:xfrm>
            <a:off x="10145520" y="435924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b193"/>
                </a:solidFill>
                <a:latin typeface="微软雅黑"/>
                <a:ea typeface="微软雅黑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文本框 35"/>
          <p:cNvSpPr/>
          <p:nvPr/>
        </p:nvSpPr>
        <p:spPr>
          <a:xfrm>
            <a:off x="7968600" y="426420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7280"/>
                </a:solidFill>
                <a:latin typeface="微软雅黑"/>
                <a:ea typeface="微软雅黑"/>
              </a:rPr>
              <a:t>4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文本框 36"/>
          <p:cNvSpPr/>
          <p:nvPr/>
        </p:nvSpPr>
        <p:spPr>
          <a:xfrm>
            <a:off x="5358960" y="4278240"/>
            <a:ext cx="132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6c84"/>
                </a:solidFill>
                <a:latin typeface="微软雅黑"/>
                <a:ea typeface="微软雅黑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文本框 37"/>
          <p:cNvSpPr/>
          <p:nvPr/>
        </p:nvSpPr>
        <p:spPr>
          <a:xfrm>
            <a:off x="1743120" y="416880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c5b7b"/>
                </a:solidFill>
                <a:latin typeface="微软雅黑"/>
                <a:ea typeface="微软雅黑"/>
              </a:rPr>
              <a:t>60%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文本框 64"/>
          <p:cNvSpPr/>
          <p:nvPr/>
        </p:nvSpPr>
        <p:spPr>
          <a:xfrm>
            <a:off x="2328120" y="5092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痛点是用户最痛需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39"/>
          <p:cNvSpPr/>
          <p:nvPr/>
        </p:nvSpPr>
        <p:spPr>
          <a:xfrm>
            <a:off x="7293600" y="1119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6c84"/>
                </a:solidFill>
                <a:latin typeface="微软雅黑"/>
                <a:ea typeface="微软雅黑"/>
              </a:rPr>
              <a:t>找一级痛点，不是二三四五级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1"/>
          <p:cNvSpPr/>
          <p:nvPr/>
        </p:nvSpPr>
        <p:spPr>
          <a:xfrm>
            <a:off x="8165880" y="50925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伪痛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1"/>
          <p:cNvSpPr/>
          <p:nvPr/>
        </p:nvSpPr>
        <p:spPr>
          <a:xfrm>
            <a:off x="4342320" y="58579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关键词：白加黑   云南白药 消炎  小米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8"/>
          <p:cNvSpPr/>
          <p:nvPr/>
        </p:nvSpPr>
        <p:spPr>
          <a:xfrm>
            <a:off x="5495040" y="34336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怎么样找到用户一级痛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5220720" y="2114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听骂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10"/>
          <p:cNvSpPr/>
          <p:nvPr/>
        </p:nvSpPr>
        <p:spPr>
          <a:xfrm>
            <a:off x="860400" y="1338120"/>
            <a:ext cx="4727520" cy="252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1"/>
          <p:cNvSpPr/>
          <p:nvPr/>
        </p:nvSpPr>
        <p:spPr>
          <a:xfrm>
            <a:off x="6621480" y="1338120"/>
            <a:ext cx="4726080" cy="2527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27"/>
          <p:cNvGrpSpPr/>
          <p:nvPr/>
        </p:nvGrpSpPr>
        <p:grpSpPr>
          <a:xfrm>
            <a:off x="860400" y="3922560"/>
            <a:ext cx="4727520" cy="696600"/>
            <a:chOff x="860400" y="3922560"/>
            <a:chExt cx="4727520" cy="696600"/>
          </a:xfrm>
        </p:grpSpPr>
        <p:sp>
          <p:nvSpPr>
            <p:cNvPr id="1017" name="矩形 12"/>
            <p:cNvSpPr/>
            <p:nvPr/>
          </p:nvSpPr>
          <p:spPr>
            <a:xfrm rot="16200000">
              <a:off x="3135960" y="1864800"/>
              <a:ext cx="176040" cy="472752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矩形 13"/>
            <p:cNvSpPr/>
            <p:nvPr/>
          </p:nvSpPr>
          <p:spPr>
            <a:xfrm rot="16200000">
              <a:off x="3180240" y="1694520"/>
              <a:ext cx="87840" cy="472752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矩形 14"/>
            <p:cNvSpPr/>
            <p:nvPr/>
          </p:nvSpPr>
          <p:spPr>
            <a:xfrm rot="16200000">
              <a:off x="3197880" y="1585080"/>
              <a:ext cx="52560" cy="472752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矩形 15"/>
            <p:cNvSpPr/>
            <p:nvPr/>
          </p:nvSpPr>
          <p:spPr>
            <a:xfrm rot="16200000">
              <a:off x="3092040" y="2123280"/>
              <a:ext cx="263880" cy="472752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28"/>
          <p:cNvGrpSpPr/>
          <p:nvPr/>
        </p:nvGrpSpPr>
        <p:grpSpPr>
          <a:xfrm>
            <a:off x="6621480" y="3922560"/>
            <a:ext cx="4726080" cy="696600"/>
            <a:chOff x="6621480" y="3922560"/>
            <a:chExt cx="4726080" cy="696600"/>
          </a:xfrm>
        </p:grpSpPr>
        <p:sp>
          <p:nvSpPr>
            <p:cNvPr id="1022" name="矩形 23"/>
            <p:cNvSpPr/>
            <p:nvPr/>
          </p:nvSpPr>
          <p:spPr>
            <a:xfrm rot="16200000">
              <a:off x="8896320" y="1865520"/>
              <a:ext cx="176040" cy="4726080"/>
            </a:xfrm>
            <a:prstGeom prst="rect">
              <a:avLst/>
            </a:prstGeom>
            <a:solidFill>
              <a:srgbClr val="f67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矩形 24"/>
            <p:cNvSpPr/>
            <p:nvPr/>
          </p:nvSpPr>
          <p:spPr>
            <a:xfrm rot="16200000">
              <a:off x="8940600" y="1695240"/>
              <a:ext cx="87840" cy="4726080"/>
            </a:xfrm>
            <a:prstGeom prst="rect">
              <a:avLst/>
            </a:prstGeom>
            <a:solidFill>
              <a:srgbClr val="c06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25"/>
            <p:cNvSpPr/>
            <p:nvPr/>
          </p:nvSpPr>
          <p:spPr>
            <a:xfrm rot="16200000">
              <a:off x="8958240" y="1585800"/>
              <a:ext cx="52560" cy="4726080"/>
            </a:xfrm>
            <a:prstGeom prst="rect">
              <a:avLst/>
            </a:prstGeom>
            <a:solidFill>
              <a:srgbClr val="6c5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矩形 26"/>
            <p:cNvSpPr/>
            <p:nvPr/>
          </p:nvSpPr>
          <p:spPr>
            <a:xfrm rot="16200000">
              <a:off x="8852400" y="2124000"/>
              <a:ext cx="263880" cy="4726080"/>
            </a:xfrm>
            <a:prstGeom prst="rect">
              <a:avLst/>
            </a:prstGeom>
            <a:solidFill>
              <a:srgbClr val="f8b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文本框 29"/>
          <p:cNvSpPr/>
          <p:nvPr/>
        </p:nvSpPr>
        <p:spPr>
          <a:xfrm>
            <a:off x="1876680" y="48132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凉茶：怕上火＞解油腻＞老字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圆角矩形 1"/>
          <p:cNvSpPr/>
          <p:nvPr/>
        </p:nvSpPr>
        <p:spPr>
          <a:xfrm>
            <a:off x="1801800" y="2035080"/>
            <a:ext cx="2665440" cy="1347840"/>
          </a:xfrm>
          <a:prstGeom prst="roundRect">
            <a:avLst>
              <a:gd name="adj" fmla="val 16667"/>
            </a:avLst>
          </a:pr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文本框 2"/>
          <p:cNvSpPr/>
          <p:nvPr/>
        </p:nvSpPr>
        <p:spPr>
          <a:xfrm>
            <a:off x="2724120" y="244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伪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圆角矩形 23"/>
          <p:cNvSpPr/>
          <p:nvPr/>
        </p:nvSpPr>
        <p:spPr>
          <a:xfrm>
            <a:off x="7651800" y="2052720"/>
            <a:ext cx="2665440" cy="1346040"/>
          </a:xfrm>
          <a:prstGeom prst="roundRect">
            <a:avLst>
              <a:gd name="adj" fmla="val 16667"/>
            </a:avLst>
          </a:pr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文本框 24"/>
          <p:cNvSpPr/>
          <p:nvPr/>
        </p:nvSpPr>
        <p:spPr>
          <a:xfrm>
            <a:off x="8646480" y="2448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痛点用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文本框 29"/>
          <p:cNvSpPr/>
          <p:nvPr/>
        </p:nvSpPr>
        <p:spPr>
          <a:xfrm>
            <a:off x="6226200" y="4842000"/>
            <a:ext cx="61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户痛点不一，多重痛点产品撬动重叠用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图片 3" descr="探百村-logo-标志图形-组合1"/>
          <p:cNvPicPr/>
          <p:nvPr/>
        </p:nvPicPr>
        <p:blipFill>
          <a:blip r:embed="rId4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0"/>
          <p:cNvSpPr/>
          <p:nvPr/>
        </p:nvSpPr>
        <p:spPr>
          <a:xfrm>
            <a:off x="3117960" y="31305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针对用户痛点，搞定的人越多，痛点越深，越痛，用户愿意消费痛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椭圆 15"/>
          <p:cNvSpPr/>
          <p:nvPr/>
        </p:nvSpPr>
        <p:spPr>
          <a:xfrm>
            <a:off x="2695680" y="4662360"/>
            <a:ext cx="799920" cy="7984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椭圆 7"/>
          <p:cNvSpPr/>
          <p:nvPr/>
        </p:nvSpPr>
        <p:spPr>
          <a:xfrm>
            <a:off x="6534000" y="3619440"/>
            <a:ext cx="1702080" cy="1701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8"/>
          <p:cNvSpPr/>
          <p:nvPr/>
        </p:nvSpPr>
        <p:spPr>
          <a:xfrm>
            <a:off x="3797280" y="1397160"/>
            <a:ext cx="3543480" cy="354312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椭圆 1"/>
          <p:cNvSpPr/>
          <p:nvPr/>
        </p:nvSpPr>
        <p:spPr>
          <a:xfrm>
            <a:off x="6534000" y="812880"/>
            <a:ext cx="2590920" cy="259056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椭圆 9"/>
          <p:cNvSpPr/>
          <p:nvPr/>
        </p:nvSpPr>
        <p:spPr>
          <a:xfrm>
            <a:off x="2954160" y="3390840"/>
            <a:ext cx="1930680" cy="19303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椭圆 10"/>
          <p:cNvSpPr/>
          <p:nvPr/>
        </p:nvSpPr>
        <p:spPr>
          <a:xfrm>
            <a:off x="1914480" y="1397160"/>
            <a:ext cx="514440" cy="514080"/>
          </a:xfrm>
          <a:prstGeom prst="ellipse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椭圆 11"/>
          <p:cNvSpPr/>
          <p:nvPr/>
        </p:nvSpPr>
        <p:spPr>
          <a:xfrm>
            <a:off x="5280120" y="5842080"/>
            <a:ext cx="288720" cy="288720"/>
          </a:xfrm>
          <a:prstGeom prst="ellipse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椭圆 12"/>
          <p:cNvSpPr/>
          <p:nvPr/>
        </p:nvSpPr>
        <p:spPr>
          <a:xfrm>
            <a:off x="9815400" y="2139840"/>
            <a:ext cx="524160" cy="52416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椭圆 13"/>
          <p:cNvSpPr/>
          <p:nvPr/>
        </p:nvSpPr>
        <p:spPr>
          <a:xfrm>
            <a:off x="5045040" y="412920"/>
            <a:ext cx="798480" cy="799920"/>
          </a:xfrm>
          <a:prstGeom prst="ellipse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椭圆 14"/>
          <p:cNvSpPr/>
          <p:nvPr/>
        </p:nvSpPr>
        <p:spPr>
          <a:xfrm>
            <a:off x="9763200" y="4819680"/>
            <a:ext cx="244440" cy="243000"/>
          </a:xfrm>
          <a:prstGeom prst="ellipse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"/>
          <p:cNvSpPr/>
          <p:nvPr/>
        </p:nvSpPr>
        <p:spPr>
          <a:xfrm>
            <a:off x="4838760" y="138420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方正姚体"/>
                <a:ea typeface="方正姚体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17"/>
          <p:cNvSpPr/>
          <p:nvPr/>
        </p:nvSpPr>
        <p:spPr>
          <a:xfrm>
            <a:off x="7423200" y="1846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10"/>
          <p:cNvSpPr/>
          <p:nvPr/>
        </p:nvSpPr>
        <p:spPr>
          <a:xfrm>
            <a:off x="4186800" y="2114640"/>
            <a:ext cx="44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如何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里的深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7"/>
          <p:cNvSpPr/>
          <p:nvPr/>
        </p:nvSpPr>
        <p:spPr>
          <a:xfrm>
            <a:off x="1660680" y="3919680"/>
            <a:ext cx="31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米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8"/>
          <p:cNvSpPr/>
          <p:nvPr/>
        </p:nvSpPr>
        <p:spPr>
          <a:xfrm>
            <a:off x="7387920" y="3919680"/>
            <a:ext cx="34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厘米宽的产品，做到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里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"/>
          <p:cNvSpPr/>
          <p:nvPr/>
        </p:nvSpPr>
        <p:spPr>
          <a:xfrm>
            <a:off x="2737800" y="468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渠道为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11"/>
          <p:cNvSpPr/>
          <p:nvPr/>
        </p:nvSpPr>
        <p:spPr>
          <a:xfrm>
            <a:off x="8571960" y="4680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口碑为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图片 1" descr="u=2538588592,2251401514&amp;fm=26&amp;gp=0.jpg"/>
          <p:cNvPicPr/>
          <p:nvPr/>
        </p:nvPicPr>
        <p:blipFill>
          <a:blip r:embed="rId1"/>
          <a:stretch/>
        </p:blipFill>
        <p:spPr>
          <a:xfrm>
            <a:off x="574560" y="1146240"/>
            <a:ext cx="11042640" cy="480996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12"/>
          <p:cNvSpPr/>
          <p:nvPr/>
        </p:nvSpPr>
        <p:spPr>
          <a:xfrm>
            <a:off x="4602960" y="2565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产品的极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13"/>
          <p:cNvSpPr/>
          <p:nvPr/>
        </p:nvSpPr>
        <p:spPr>
          <a:xfrm>
            <a:off x="3778920" y="38847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口碑！这种口碑的背后就是超预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任意多边形 47"/>
          <p:cNvSpPr/>
          <p:nvPr/>
        </p:nvSpPr>
        <p:spPr>
          <a:xfrm flipH="1" rot="21480000">
            <a:off x="3038400" y="2651040"/>
            <a:ext cx="1901880" cy="1133640"/>
          </a:xfrm>
          <a:custGeom>
            <a:avLst/>
            <a:gdLst/>
            <a:ahLst/>
            <a:rect l="l" t="t" r="r" b="b"/>
            <a:pathLst>
              <a:path w="2262142" h="1396256">
                <a:moveTo>
                  <a:pt x="0" y="0"/>
                </a:moveTo>
                <a:lnTo>
                  <a:pt x="74770" y="1396256"/>
                </a:lnTo>
                <a:lnTo>
                  <a:pt x="2262142" y="1396256"/>
                </a:lnTo>
                <a:lnTo>
                  <a:pt x="0" y="0"/>
                </a:lnTo>
                <a:close/>
              </a:path>
            </a:pathLst>
          </a:custGeom>
          <a:solidFill>
            <a:srgbClr val="f34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任意多边形 51"/>
          <p:cNvSpPr/>
          <p:nvPr/>
        </p:nvSpPr>
        <p:spPr>
          <a:xfrm>
            <a:off x="4896000" y="2625840"/>
            <a:ext cx="1428480" cy="113328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任意多边形 63"/>
          <p:cNvSpPr/>
          <p:nvPr/>
        </p:nvSpPr>
        <p:spPr>
          <a:xfrm flipH="1" flipV="1" rot="120000">
            <a:off x="3037320" y="3841200"/>
            <a:ext cx="1901880" cy="1128600"/>
          </a:xfrm>
          <a:custGeom>
            <a:avLst/>
            <a:gdLst/>
            <a:ahLst/>
            <a:rect l="l" t="t" r="r" b="b"/>
            <a:pathLst>
              <a:path w="1901961" h="1128526">
                <a:moveTo>
                  <a:pt x="1901961" y="1128526"/>
                </a:moveTo>
                <a:lnTo>
                  <a:pt x="62575" y="1128526"/>
                </a:lnTo>
                <a:lnTo>
                  <a:pt x="0" y="290"/>
                </a:lnTo>
                <a:lnTo>
                  <a:pt x="8289" y="0"/>
                </a:lnTo>
                <a:lnTo>
                  <a:pt x="1901961" y="1128526"/>
                </a:lnTo>
                <a:close/>
              </a:path>
            </a:pathLst>
          </a:custGeom>
          <a:solidFill>
            <a:srgbClr val="b24c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任意多边形 53"/>
          <p:cNvSpPr/>
          <p:nvPr/>
        </p:nvSpPr>
        <p:spPr>
          <a:xfrm flipV="1">
            <a:off x="4878360" y="3866400"/>
            <a:ext cx="1428840" cy="112068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任意多边形 55"/>
          <p:cNvSpPr/>
          <p:nvPr/>
        </p:nvSpPr>
        <p:spPr>
          <a:xfrm flipV="1" rot="13105800">
            <a:off x="2507400" y="4535640"/>
            <a:ext cx="3000600" cy="879840"/>
          </a:xfrm>
          <a:custGeom>
            <a:avLst/>
            <a:gdLst/>
            <a:ahLst/>
            <a:rect l="l" t="t" r="r" b="b"/>
            <a:pathLst>
              <a:path w="3567861" h="1045825">
                <a:moveTo>
                  <a:pt x="0" y="1045825"/>
                </a:moveTo>
                <a:lnTo>
                  <a:pt x="829510" y="0"/>
                </a:lnTo>
                <a:lnTo>
                  <a:pt x="3567861" y="116658"/>
                </a:lnTo>
                <a:cubicBezTo>
                  <a:pt x="2354936" y="465266"/>
                  <a:pt x="1212925" y="697217"/>
                  <a:pt x="0" y="1045825"/>
                </a:cubicBezTo>
                <a:close/>
              </a:path>
            </a:pathLst>
          </a:custGeom>
          <a:solidFill>
            <a:srgbClr val="594b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任意多边形 56"/>
          <p:cNvSpPr/>
          <p:nvPr/>
        </p:nvSpPr>
        <p:spPr>
          <a:xfrm flipV="1">
            <a:off x="4878360" y="5114880"/>
            <a:ext cx="1428840" cy="111600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任意多边形 58"/>
          <p:cNvSpPr/>
          <p:nvPr/>
        </p:nvSpPr>
        <p:spPr>
          <a:xfrm rot="8494200">
            <a:off x="2507400" y="2196360"/>
            <a:ext cx="3000600" cy="879480"/>
          </a:xfrm>
          <a:custGeom>
            <a:avLst/>
            <a:gdLst/>
            <a:ahLst/>
            <a:rect l="l" t="t" r="r" b="b"/>
            <a:pathLst>
              <a:path w="3567861" h="1045825">
                <a:moveTo>
                  <a:pt x="0" y="1045825"/>
                </a:moveTo>
                <a:lnTo>
                  <a:pt x="829510" y="0"/>
                </a:lnTo>
                <a:lnTo>
                  <a:pt x="3567861" y="116658"/>
                </a:lnTo>
                <a:cubicBezTo>
                  <a:pt x="2354936" y="465266"/>
                  <a:pt x="1212925" y="697217"/>
                  <a:pt x="0" y="1045825"/>
                </a:cubicBezTo>
                <a:close/>
              </a:path>
            </a:pathLst>
          </a:custGeom>
          <a:solidFill>
            <a:srgbClr val="f588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任意多边形 59"/>
          <p:cNvSpPr/>
          <p:nvPr/>
        </p:nvSpPr>
        <p:spPr>
          <a:xfrm>
            <a:off x="4896000" y="1374840"/>
            <a:ext cx="1428480" cy="1117440"/>
          </a:xfrm>
          <a:custGeom>
            <a:avLst/>
            <a:gdLst/>
            <a:ahLst/>
            <a:rect l="l" t="t" r="r" b="b"/>
            <a:pathLst>
              <a:path w="1699399" h="1344593">
                <a:moveTo>
                  <a:pt x="0" y="0"/>
                </a:moveTo>
                <a:lnTo>
                  <a:pt x="1475296" y="0"/>
                </a:lnTo>
                <a:cubicBezTo>
                  <a:pt x="1599065" y="0"/>
                  <a:pt x="1699399" y="100334"/>
                  <a:pt x="1699399" y="224103"/>
                </a:cubicBezTo>
                <a:lnTo>
                  <a:pt x="1699399" y="1120490"/>
                </a:lnTo>
                <a:cubicBezTo>
                  <a:pt x="1699399" y="1244259"/>
                  <a:pt x="1599065" y="1344593"/>
                  <a:pt x="1475296" y="1344593"/>
                </a:cubicBezTo>
                <a:lnTo>
                  <a:pt x="0" y="1344593"/>
                </a:lnTo>
                <a:lnTo>
                  <a:pt x="0" y="0"/>
                </a:lnTo>
                <a:close/>
              </a:path>
            </a:pathLst>
          </a:cu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27"/>
          <p:cNvGrpSpPr/>
          <p:nvPr/>
        </p:nvGrpSpPr>
        <p:grpSpPr>
          <a:xfrm>
            <a:off x="1716120" y="3241800"/>
            <a:ext cx="1368360" cy="1374480"/>
            <a:chOff x="1716120" y="3241800"/>
            <a:chExt cx="1368360" cy="1374480"/>
          </a:xfrm>
        </p:grpSpPr>
        <p:grpSp>
          <p:nvGrpSpPr>
            <p:cNvPr id="1086" name="组合 25"/>
            <p:cNvGrpSpPr/>
            <p:nvPr/>
          </p:nvGrpSpPr>
          <p:grpSpPr>
            <a:xfrm>
              <a:off x="1716120" y="3241800"/>
              <a:ext cx="1368360" cy="1374480"/>
              <a:chOff x="1716120" y="3241800"/>
              <a:chExt cx="1368360" cy="1374480"/>
            </a:xfrm>
          </p:grpSpPr>
          <p:sp>
            <p:nvSpPr>
              <p:cNvPr id="1087" name="矩形 11"/>
              <p:cNvSpPr/>
              <p:nvPr/>
            </p:nvSpPr>
            <p:spPr>
              <a:xfrm>
                <a:off x="1716120" y="3494520"/>
                <a:ext cx="791640" cy="62388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矩形 12"/>
              <p:cNvSpPr/>
              <p:nvPr/>
            </p:nvSpPr>
            <p:spPr>
              <a:xfrm>
                <a:off x="1716120" y="3241800"/>
                <a:ext cx="556920" cy="25272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矩形 13"/>
              <p:cNvSpPr/>
              <p:nvPr/>
            </p:nvSpPr>
            <p:spPr>
              <a:xfrm>
                <a:off x="2541240" y="3528360"/>
                <a:ext cx="293760" cy="56484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任意多边形 18"/>
              <p:cNvSpPr/>
              <p:nvPr/>
            </p:nvSpPr>
            <p:spPr>
              <a:xfrm>
                <a:off x="2866680" y="3384360"/>
                <a:ext cx="217800" cy="836280"/>
              </a:xfrm>
              <a:custGeom>
                <a:avLst/>
                <a:gdLst/>
                <a:ahLst/>
                <a:rect l="l" t="t" r="r" b="b"/>
                <a:pathLst>
                  <a:path w="215619" h="839485">
                    <a:moveTo>
                      <a:pt x="215619" y="0"/>
                    </a:moveTo>
                    <a:lnTo>
                      <a:pt x="215619" y="839485"/>
                    </a:lnTo>
                    <a:lnTo>
                      <a:pt x="0" y="691923"/>
                    </a:lnTo>
                    <a:lnTo>
                      <a:pt x="0" y="147562"/>
                    </a:lnTo>
                    <a:lnTo>
                      <a:pt x="215619" y="0"/>
                    </a:lnTo>
                    <a:close/>
                  </a:path>
                </a:pathLst>
              </a:cu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任意多边形 21"/>
              <p:cNvSpPr/>
              <p:nvPr/>
            </p:nvSpPr>
            <p:spPr>
              <a:xfrm>
                <a:off x="1808280" y="4059720"/>
                <a:ext cx="429480" cy="556560"/>
              </a:xfrm>
              <a:custGeom>
                <a:avLst/>
                <a:gdLst/>
                <a:ahLst/>
                <a:rect l="l" t="t" r="r" b="b"/>
                <a:pathLst>
                  <a:path w="431799" h="558801">
                    <a:moveTo>
                      <a:pt x="62411" y="80767"/>
                    </a:moveTo>
                    <a:lnTo>
                      <a:pt x="62411" y="478032"/>
                    </a:lnTo>
                    <a:lnTo>
                      <a:pt x="369387" y="478032"/>
                    </a:lnTo>
                    <a:lnTo>
                      <a:pt x="369387" y="80767"/>
                    </a:lnTo>
                    <a:lnTo>
                      <a:pt x="62411" y="80767"/>
                    </a:lnTo>
                    <a:close/>
                    <a:moveTo>
                      <a:pt x="0" y="0"/>
                    </a:moveTo>
                    <a:lnTo>
                      <a:pt x="431799" y="0"/>
                    </a:lnTo>
                    <a:lnTo>
                      <a:pt x="431799" y="558801"/>
                    </a:lnTo>
                    <a:lnTo>
                      <a:pt x="0" y="5588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椭圆 22"/>
              <p:cNvSpPr/>
              <p:nvPr/>
            </p:nvSpPr>
            <p:spPr>
              <a:xfrm>
                <a:off x="2184120" y="4241880"/>
                <a:ext cx="374040" cy="374400"/>
              </a:xfrm>
              <a:prstGeom prst="ellipse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矩形 23"/>
              <p:cNvSpPr/>
              <p:nvPr/>
            </p:nvSpPr>
            <p:spPr>
              <a:xfrm>
                <a:off x="2190240" y="4051440"/>
                <a:ext cx="166680" cy="564840"/>
              </a:xfrm>
              <a:prstGeom prst="rect">
                <a:avLst/>
              </a:prstGeom>
              <a:solidFill>
                <a:srgbClr val="355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椭圆 26"/>
            <p:cNvSpPr/>
            <p:nvPr/>
          </p:nvSpPr>
          <p:spPr>
            <a:xfrm>
              <a:off x="2248920" y="4309560"/>
              <a:ext cx="250560" cy="25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文本框 68"/>
          <p:cNvSpPr/>
          <p:nvPr/>
        </p:nvSpPr>
        <p:spPr>
          <a:xfrm>
            <a:off x="7590600" y="143496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b193"/>
                </a:solidFill>
                <a:latin typeface="微软雅黑"/>
                <a:ea typeface="微软雅黑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用户的正面口碑就要专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69"/>
          <p:cNvSpPr/>
          <p:nvPr/>
        </p:nvSpPr>
        <p:spPr>
          <a:xfrm>
            <a:off x="7292160" y="2631960"/>
            <a:ext cx="15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7280"/>
                </a:solidFill>
                <a:latin typeface="微软雅黑"/>
                <a:ea typeface="微软雅黑"/>
              </a:rPr>
              <a:t>极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深挖痛点快速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70"/>
          <p:cNvSpPr/>
          <p:nvPr/>
        </p:nvSpPr>
        <p:spPr>
          <a:xfrm>
            <a:off x="7187400" y="3828960"/>
            <a:ext cx="12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6c84"/>
                </a:solidFill>
                <a:latin typeface="微软雅黑"/>
                <a:ea typeface="微软雅黑"/>
              </a:rPr>
              <a:t>口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快速主动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71"/>
          <p:cNvSpPr/>
          <p:nvPr/>
        </p:nvSpPr>
        <p:spPr>
          <a:xfrm>
            <a:off x="7447320" y="5040360"/>
            <a:ext cx="28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5b7b"/>
                </a:solidFill>
                <a:latin typeface="微软雅黑"/>
                <a:ea typeface="微软雅黑"/>
              </a:rPr>
              <a:t>超预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户尖叫点，包装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性能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可感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10"/>
          <p:cNvSpPr/>
          <p:nvPr/>
        </p:nvSpPr>
        <p:spPr>
          <a:xfrm>
            <a:off x="5275440" y="1366920"/>
            <a:ext cx="75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7"/>
          <p:cNvSpPr/>
          <p:nvPr/>
        </p:nvSpPr>
        <p:spPr>
          <a:xfrm>
            <a:off x="5232240" y="2692440"/>
            <a:ext cx="74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38"/>
          <p:cNvSpPr/>
          <p:nvPr/>
        </p:nvSpPr>
        <p:spPr>
          <a:xfrm>
            <a:off x="5230800" y="3922560"/>
            <a:ext cx="6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39"/>
          <p:cNvSpPr/>
          <p:nvPr/>
        </p:nvSpPr>
        <p:spPr>
          <a:xfrm>
            <a:off x="5238000" y="5210280"/>
            <a:ext cx="7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组 2"/>
          <p:cNvGrpSpPr/>
          <p:nvPr/>
        </p:nvGrpSpPr>
        <p:grpSpPr>
          <a:xfrm>
            <a:off x="9229320" y="584280"/>
            <a:ext cx="1941840" cy="3154320"/>
            <a:chOff x="9229320" y="584280"/>
            <a:chExt cx="1941840" cy="3154320"/>
          </a:xfrm>
        </p:grpSpPr>
        <p:pic>
          <p:nvPicPr>
            <p:cNvPr id="1111" name="矩形 1" descr=""/>
            <p:cNvPicPr/>
            <p:nvPr/>
          </p:nvPicPr>
          <p:blipFill>
            <a:blip r:embed="rId1"/>
            <a:stretch/>
          </p:blipFill>
          <p:spPr>
            <a:xfrm>
              <a:off x="9229320" y="584280"/>
              <a:ext cx="1941840" cy="31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文本框 12"/>
            <p:cNvSpPr/>
            <p:nvPr/>
          </p:nvSpPr>
          <p:spPr>
            <a:xfrm>
              <a:off x="9324000" y="18021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霸权思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文本框 8"/>
          <p:cNvSpPr/>
          <p:nvPr/>
        </p:nvSpPr>
        <p:spPr>
          <a:xfrm>
            <a:off x="4542480" y="26082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6c84"/>
                </a:solidFill>
                <a:latin typeface="微软雅黑"/>
                <a:ea typeface="微软雅黑"/>
              </a:rPr>
              <a:t>上帝思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图片 2" descr="探百村-logo-标志图形-组合1"/>
          <p:cNvPicPr/>
          <p:nvPr/>
        </p:nvPicPr>
        <p:blipFill>
          <a:blip r:embed="rId2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六边形 10"/>
          <p:cNvSpPr/>
          <p:nvPr/>
        </p:nvSpPr>
        <p:spPr>
          <a:xfrm rot="5400000">
            <a:off x="4069800" y="3197160"/>
            <a:ext cx="1467000" cy="1266840"/>
          </a:xfrm>
          <a:prstGeom prst="hexagon">
            <a:avLst>
              <a:gd name="adj" fmla="val 24950"/>
              <a:gd name="vf" fmla="val 11547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六边形 11"/>
          <p:cNvSpPr/>
          <p:nvPr/>
        </p:nvSpPr>
        <p:spPr>
          <a:xfrm rot="5400000">
            <a:off x="4700160" y="4389120"/>
            <a:ext cx="1466640" cy="126396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六边形 12"/>
          <p:cNvSpPr/>
          <p:nvPr/>
        </p:nvSpPr>
        <p:spPr>
          <a:xfrm rot="5400000">
            <a:off x="5993640" y="4372920"/>
            <a:ext cx="1466640" cy="1265040"/>
          </a:xfrm>
          <a:prstGeom prst="hexagon">
            <a:avLst>
              <a:gd name="adj" fmla="val 24980"/>
              <a:gd name="vf" fmla="val 115470"/>
            </a:avLst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六边形 13"/>
          <p:cNvSpPr/>
          <p:nvPr/>
        </p:nvSpPr>
        <p:spPr>
          <a:xfrm rot="5400000">
            <a:off x="6640920" y="3197880"/>
            <a:ext cx="1467000" cy="1265400"/>
          </a:xfrm>
          <a:prstGeom prst="hexagon">
            <a:avLst>
              <a:gd name="adj" fmla="val 24979"/>
              <a:gd name="vf" fmla="val 115470"/>
            </a:avLst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六边形 14"/>
          <p:cNvSpPr/>
          <p:nvPr/>
        </p:nvSpPr>
        <p:spPr>
          <a:xfrm rot="5400000">
            <a:off x="6017760" y="2004840"/>
            <a:ext cx="1468440" cy="126540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六边形 15"/>
          <p:cNvSpPr/>
          <p:nvPr/>
        </p:nvSpPr>
        <p:spPr>
          <a:xfrm rot="5400000">
            <a:off x="4711320" y="2012760"/>
            <a:ext cx="1466640" cy="1266840"/>
          </a:xfrm>
          <a:prstGeom prst="hexagon">
            <a:avLst>
              <a:gd name="adj" fmla="val 24944"/>
              <a:gd name="vf" fmla="val 115470"/>
            </a:avLst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六边形 16"/>
          <p:cNvSpPr/>
          <p:nvPr/>
        </p:nvSpPr>
        <p:spPr>
          <a:xfrm rot="5400000">
            <a:off x="5405040" y="3240000"/>
            <a:ext cx="1379520" cy="1189080"/>
          </a:xfrm>
          <a:prstGeom prst="hexagon">
            <a:avLst>
              <a:gd name="adj" fmla="val 24991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17"/>
          <p:cNvSpPr/>
          <p:nvPr/>
        </p:nvSpPr>
        <p:spPr>
          <a:xfrm>
            <a:off x="2792880" y="19051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顺应潮流的勇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18"/>
          <p:cNvSpPr/>
          <p:nvPr/>
        </p:nvSpPr>
        <p:spPr>
          <a:xfrm>
            <a:off x="2529000" y="3322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7280"/>
                </a:solidFill>
                <a:latin typeface="微软雅黑"/>
                <a:ea typeface="微软雅黑"/>
              </a:rPr>
              <a:t>开放的协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9"/>
          <p:cNvSpPr/>
          <p:nvPr/>
        </p:nvSpPr>
        <p:spPr>
          <a:xfrm>
            <a:off x="3214800" y="4560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b193"/>
                </a:solidFill>
                <a:latin typeface="微软雅黑"/>
                <a:ea typeface="微软雅黑"/>
              </a:rPr>
              <a:t>数据为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20"/>
          <p:cNvSpPr/>
          <p:nvPr/>
        </p:nvSpPr>
        <p:spPr>
          <a:xfrm>
            <a:off x="8004240" y="1905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c5b7b"/>
                </a:solidFill>
                <a:latin typeface="微软雅黑"/>
                <a:ea typeface="微软雅黑"/>
              </a:rPr>
              <a:t>连接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21"/>
          <p:cNvSpPr/>
          <p:nvPr/>
        </p:nvSpPr>
        <p:spPr>
          <a:xfrm>
            <a:off x="8362800" y="33228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互联网</a:t>
            </a:r>
            <a:r>
              <a:rPr b="1" lang="en-US" sz="2400" spc="-1" strike="noStrike">
                <a:solidFill>
                  <a:srgbClr val="c06c84"/>
                </a:solidFill>
                <a:latin typeface="微软雅黑"/>
                <a:ea typeface="微软雅黑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文本框 22"/>
          <p:cNvSpPr/>
          <p:nvPr/>
        </p:nvSpPr>
        <p:spPr>
          <a:xfrm>
            <a:off x="7977600" y="456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7280"/>
                </a:solidFill>
                <a:latin typeface="微软雅黑"/>
                <a:ea typeface="微软雅黑"/>
              </a:rPr>
              <a:t>消费者参与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图片 23" descr=""/>
          <p:cNvPicPr/>
          <p:nvPr/>
        </p:nvPicPr>
        <p:blipFill>
          <a:blip r:embed="rId2"/>
          <a:stretch/>
        </p:blipFill>
        <p:spPr>
          <a:xfrm>
            <a:off x="5072040" y="4816440"/>
            <a:ext cx="630360" cy="414360"/>
          </a:xfrm>
          <a:prstGeom prst="rect">
            <a:avLst/>
          </a:prstGeom>
          <a:ln w="0">
            <a:noFill/>
          </a:ln>
        </p:spPr>
      </p:pic>
      <p:pic>
        <p:nvPicPr>
          <p:cNvPr id="1133" name="图片 24" descr=""/>
          <p:cNvPicPr/>
          <p:nvPr/>
        </p:nvPicPr>
        <p:blipFill>
          <a:blip r:embed="rId3"/>
          <a:stretch/>
        </p:blipFill>
        <p:spPr>
          <a:xfrm>
            <a:off x="6472080" y="2327400"/>
            <a:ext cx="570240" cy="53964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25" descr=""/>
          <p:cNvPicPr/>
          <p:nvPr/>
        </p:nvPicPr>
        <p:blipFill>
          <a:blip r:embed="rId4"/>
          <a:stretch/>
        </p:blipFill>
        <p:spPr>
          <a:xfrm>
            <a:off x="5064120" y="2290680"/>
            <a:ext cx="739800" cy="741600"/>
          </a:xfrm>
          <a:prstGeom prst="rect">
            <a:avLst/>
          </a:prstGeom>
          <a:ln w="0">
            <a:noFill/>
          </a:ln>
        </p:spPr>
      </p:pic>
      <p:pic>
        <p:nvPicPr>
          <p:cNvPr id="1135" name="图片 26" descr=""/>
          <p:cNvPicPr/>
          <p:nvPr/>
        </p:nvPicPr>
        <p:blipFill>
          <a:blip r:embed="rId5"/>
          <a:stretch/>
        </p:blipFill>
        <p:spPr>
          <a:xfrm>
            <a:off x="6977160" y="3497400"/>
            <a:ext cx="763560" cy="552240"/>
          </a:xfrm>
          <a:prstGeom prst="rect">
            <a:avLst/>
          </a:prstGeom>
          <a:ln w="0">
            <a:noFill/>
          </a:ln>
        </p:spPr>
      </p:pic>
      <p:pic>
        <p:nvPicPr>
          <p:cNvPr id="1136" name="图片 27" descr=""/>
          <p:cNvPicPr/>
          <p:nvPr/>
        </p:nvPicPr>
        <p:blipFill>
          <a:blip r:embed="rId6"/>
          <a:stretch/>
        </p:blipFill>
        <p:spPr>
          <a:xfrm>
            <a:off x="4491000" y="3492360"/>
            <a:ext cx="662040" cy="648000"/>
          </a:xfrm>
          <a:prstGeom prst="rect">
            <a:avLst/>
          </a:prstGeom>
          <a:ln w="0">
            <a:noFill/>
          </a:ln>
        </p:spPr>
      </p:pic>
      <p:pic>
        <p:nvPicPr>
          <p:cNvPr id="1137" name="图片 28" descr=""/>
          <p:cNvPicPr/>
          <p:nvPr/>
        </p:nvPicPr>
        <p:blipFill>
          <a:blip r:embed="rId7"/>
          <a:stretch/>
        </p:blipFill>
        <p:spPr>
          <a:xfrm>
            <a:off x="6437160" y="4600440"/>
            <a:ext cx="584280" cy="730440"/>
          </a:xfrm>
          <a:prstGeom prst="rect">
            <a:avLst/>
          </a:prstGeom>
          <a:ln w="0">
            <a:noFill/>
          </a:ln>
        </p:spPr>
      </p:pic>
      <p:sp>
        <p:nvSpPr>
          <p:cNvPr id="1138" name="矩形 29"/>
          <p:cNvSpPr/>
          <p:nvPr/>
        </p:nvSpPr>
        <p:spPr>
          <a:xfrm>
            <a:off x="5775840" y="3357720"/>
            <a:ext cx="7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七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路标</a:t>
            </a:r>
            <a:r>
              <a:rPr b="1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20"/>
          <p:cNvSpPr/>
          <p:nvPr/>
        </p:nvSpPr>
        <p:spPr>
          <a:xfrm>
            <a:off x="5791680" y="137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图片 2" descr="探百村-logo-标志图形-组合1"/>
          <p:cNvPicPr/>
          <p:nvPr/>
        </p:nvPicPr>
        <p:blipFill>
          <a:blip r:embed="rId8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矩形 1"/>
          <p:cNvSpPr/>
          <p:nvPr/>
        </p:nvSpPr>
        <p:spPr>
          <a:xfrm>
            <a:off x="6621480" y="0"/>
            <a:ext cx="5570640" cy="584280"/>
          </a:xfrm>
          <a:prstGeom prst="rect">
            <a:avLst/>
          </a:prstGeom>
          <a:solidFill>
            <a:srgbClr val="f8b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2"/>
          <p:cNvSpPr/>
          <p:nvPr/>
        </p:nvSpPr>
        <p:spPr>
          <a:xfrm>
            <a:off x="0" y="0"/>
            <a:ext cx="914400" cy="584280"/>
          </a:xfrm>
          <a:prstGeom prst="rect">
            <a:avLst/>
          </a:prstGeom>
          <a:solidFill>
            <a:srgbClr val="6c5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3"/>
          <p:cNvSpPr/>
          <p:nvPr/>
        </p:nvSpPr>
        <p:spPr>
          <a:xfrm>
            <a:off x="961920" y="0"/>
            <a:ext cx="376200" cy="584280"/>
          </a:xfrm>
          <a:prstGeom prst="rect">
            <a:avLst/>
          </a:prstGeom>
          <a:solidFill>
            <a:srgbClr val="c06c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4"/>
          <p:cNvSpPr/>
          <p:nvPr/>
        </p:nvSpPr>
        <p:spPr>
          <a:xfrm>
            <a:off x="1384200" y="0"/>
            <a:ext cx="146160" cy="584280"/>
          </a:xfrm>
          <a:prstGeom prst="rect">
            <a:avLst/>
          </a:prstGeom>
          <a:solidFill>
            <a:srgbClr val="f67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9"/>
          <p:cNvSpPr/>
          <p:nvPr/>
        </p:nvSpPr>
        <p:spPr>
          <a:xfrm>
            <a:off x="2155680" y="76320"/>
            <a:ext cx="19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爆品战略</a:t>
            </a:r>
            <a:r>
              <a:rPr b="0" lang="en-US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0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文本框 10"/>
          <p:cNvSpPr/>
          <p:nvPr/>
        </p:nvSpPr>
        <p:spPr>
          <a:xfrm>
            <a:off x="654120" y="3110040"/>
            <a:ext cx="106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的本质不是山寨、不是抄袭、不是小创信，而是以用户未中心的价值链创新。是以用户为中心，从用户的应用痛点出发，它的目的是打造爆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11"/>
          <p:cNvSpPr/>
          <p:nvPr/>
        </p:nvSpPr>
        <p:spPr>
          <a:xfrm>
            <a:off x="2933640" y="2179800"/>
            <a:ext cx="59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创新是方法，爆品是最终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图片 2" descr="探百村-logo-标志图形-组合1"/>
          <p:cNvPicPr/>
          <p:nvPr/>
        </p:nvPicPr>
        <p:blipFill>
          <a:blip r:embed="rId1"/>
          <a:stretch/>
        </p:blipFill>
        <p:spPr>
          <a:xfrm>
            <a:off x="9040680" y="54000"/>
            <a:ext cx="2846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32"/>
          <p:cNvSpPr/>
          <p:nvPr/>
        </p:nvSpPr>
        <p:spPr>
          <a:xfrm>
            <a:off x="5019480" y="497844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 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矩形 2"/>
          <p:cNvSpPr/>
          <p:nvPr/>
        </p:nvSpPr>
        <p:spPr>
          <a:xfrm>
            <a:off x="3596400" y="5937120"/>
            <a:ext cx="499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http://www.tanbaic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图片 1" descr=""/>
          <p:cNvPicPr/>
          <p:nvPr/>
        </p:nvPicPr>
        <p:blipFill>
          <a:blip r:embed="rId2"/>
          <a:stretch/>
        </p:blipFill>
        <p:spPr>
          <a:xfrm>
            <a:off x="4495680" y="1292400"/>
            <a:ext cx="3200400" cy="3219120"/>
          </a:xfrm>
          <a:prstGeom prst="rect">
            <a:avLst/>
          </a:prstGeom>
          <a:ln w="0">
            <a:noFill/>
          </a:ln>
        </p:spPr>
      </p:pic>
      <p:pic>
        <p:nvPicPr>
          <p:cNvPr id="1153" name="图片 2" descr="探百村-logo-标志图形"/>
          <p:cNvPicPr/>
          <p:nvPr/>
        </p:nvPicPr>
        <p:blipFill>
          <a:blip r:embed="rId3"/>
          <a:stretch/>
        </p:blipFill>
        <p:spPr>
          <a:xfrm>
            <a:off x="596880" y="295200"/>
            <a:ext cx="19083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图片 1" descr=""/>
          <p:cNvPicPr/>
          <p:nvPr/>
        </p:nvPicPr>
        <p:blipFill>
          <a:blip r:embed="rId1"/>
          <a:stretch/>
        </p:blipFill>
        <p:spPr>
          <a:xfrm>
            <a:off x="884160" y="1214280"/>
            <a:ext cx="10423440" cy="44294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1" descr=""/>
          <p:cNvPicPr/>
          <p:nvPr/>
        </p:nvPicPr>
        <p:blipFill>
          <a:blip r:embed="rId1"/>
          <a:stretch/>
        </p:blipFill>
        <p:spPr>
          <a:xfrm>
            <a:off x="307800" y="196920"/>
            <a:ext cx="5788080" cy="44290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2" descr=""/>
          <p:cNvPicPr/>
          <p:nvPr/>
        </p:nvPicPr>
        <p:blipFill>
          <a:blip r:embed="rId2"/>
          <a:stretch/>
        </p:blipFill>
        <p:spPr>
          <a:xfrm>
            <a:off x="5062680" y="3703680"/>
            <a:ext cx="6948360" cy="462600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3" descr="探百村-logo-标志图形"/>
          <p:cNvPicPr/>
          <p:nvPr/>
        </p:nvPicPr>
        <p:blipFill>
          <a:blip r:embed="rId3"/>
          <a:stretch/>
        </p:blipFill>
        <p:spPr>
          <a:xfrm>
            <a:off x="9658440" y="352440"/>
            <a:ext cx="1908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图片 1" descr=""/>
          <p:cNvPicPr/>
          <p:nvPr/>
        </p:nvPicPr>
        <p:blipFill>
          <a:blip r:embed="rId1"/>
          <a:srcRect l="0" t="3568" r="0" b="0"/>
          <a:stretch/>
        </p:blipFill>
        <p:spPr>
          <a:xfrm>
            <a:off x="1130400" y="287280"/>
            <a:ext cx="9931320" cy="628344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9828360" y="171360"/>
            <a:ext cx="19065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1" descr=""/>
          <p:cNvPicPr/>
          <p:nvPr/>
        </p:nvPicPr>
        <p:blipFill>
          <a:blip r:embed="rId1"/>
          <a:srcRect l="2259" t="8634" r="0" b="18074"/>
          <a:stretch/>
        </p:blipFill>
        <p:spPr>
          <a:xfrm>
            <a:off x="573120" y="836640"/>
            <a:ext cx="11296440" cy="55800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" descr="探百村-logo-标志图形"/>
          <p:cNvPicPr/>
          <p:nvPr/>
        </p:nvPicPr>
        <p:blipFill>
          <a:blip r:embed="rId2"/>
          <a:stretch/>
        </p:blipFill>
        <p:spPr>
          <a:xfrm>
            <a:off x="9794880" y="237960"/>
            <a:ext cx="190656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文本框 2"/>
          <p:cNvSpPr/>
          <p:nvPr/>
        </p:nvSpPr>
        <p:spPr>
          <a:xfrm>
            <a:off x="7500240" y="156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包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3"/>
          <p:cNvSpPr/>
          <p:nvPr/>
        </p:nvSpPr>
        <p:spPr>
          <a:xfrm>
            <a:off x="6982920" y="391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4"/>
          <p:cNvSpPr/>
          <p:nvPr/>
        </p:nvSpPr>
        <p:spPr>
          <a:xfrm>
            <a:off x="6693840" y="267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包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5"/>
          <p:cNvSpPr/>
          <p:nvPr/>
        </p:nvSpPr>
        <p:spPr>
          <a:xfrm>
            <a:off x="4277880" y="561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"/>
          <p:cNvSpPr/>
          <p:nvPr/>
        </p:nvSpPr>
        <p:spPr>
          <a:xfrm>
            <a:off x="4423680" y="24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营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7"/>
          <p:cNvSpPr/>
          <p:nvPr/>
        </p:nvSpPr>
        <p:spPr>
          <a:xfrm>
            <a:off x="9056160" y="2211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8"/>
          <p:cNvSpPr/>
          <p:nvPr/>
        </p:nvSpPr>
        <p:spPr>
          <a:xfrm>
            <a:off x="7709760" y="5345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9"/>
          <p:cNvSpPr/>
          <p:nvPr/>
        </p:nvSpPr>
        <p:spPr>
          <a:xfrm>
            <a:off x="2932200" y="4448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文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0"/>
          <p:cNvSpPr/>
          <p:nvPr/>
        </p:nvSpPr>
        <p:spPr>
          <a:xfrm>
            <a:off x="4639680" y="3854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直线箭头连接符 14"/>
          <p:cNvCxnSpPr/>
          <p:nvPr/>
        </p:nvCxnSpPr>
        <p:spPr>
          <a:xfrm>
            <a:off x="2082960" y="3409560"/>
            <a:ext cx="8146080" cy="108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18" name="直线箭头连接符 16"/>
          <p:cNvCxnSpPr/>
          <p:nvPr/>
        </p:nvCxnSpPr>
        <p:spPr>
          <a:xfrm flipV="1">
            <a:off x="6095520" y="1301040"/>
            <a:ext cx="1080" cy="4926600"/>
          </a:xfrm>
          <a:prstGeom prst="straightConnector1">
            <a:avLst/>
          </a:prstGeom>
          <a:ln w="47520">
            <a:solidFill>
              <a:srgbClr val="c00000"/>
            </a:solidFill>
            <a:round/>
            <a:tailEnd len="med" type="triangle" w="med"/>
          </a:ln>
        </p:spPr>
      </p:cxnSp>
      <p:sp>
        <p:nvSpPr>
          <p:cNvPr id="619" name="文本框 17"/>
          <p:cNvSpPr/>
          <p:nvPr/>
        </p:nvSpPr>
        <p:spPr>
          <a:xfrm>
            <a:off x="2864880" y="1468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角矩形 18"/>
          <p:cNvSpPr/>
          <p:nvPr/>
        </p:nvSpPr>
        <p:spPr>
          <a:xfrm>
            <a:off x="1836720" y="1346040"/>
            <a:ext cx="8926560" cy="493884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需要爆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图片 1" descr="探百村-logo-标志图形"/>
          <p:cNvPicPr/>
          <p:nvPr/>
        </p:nvPicPr>
        <p:blipFill>
          <a:blip r:embed="rId1"/>
          <a:stretch/>
        </p:blipFill>
        <p:spPr>
          <a:xfrm>
            <a:off x="415800" y="306360"/>
            <a:ext cx="19083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4:10:00Z</dcterms:created>
  <dc:creator>USER</dc:creator>
  <dc:description/>
  <dc:language>en-US</dc:language>
  <cp:lastModifiedBy>涪陵电大</cp:lastModifiedBy>
  <dcterms:modified xsi:type="dcterms:W3CDTF">2020-05-27T05:58:25Z</dcterms:modified>
  <cp:revision>1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