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sng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E491-582A-4BAB-BC19-0F62429AE2E0}" type="datetime">
              <a:rPr b="1" i="1" lang="en-US" sz="1200" spc="-1" strike="sngStrike" u="sng">
                <a:solidFill>
                  <a:srgbClr val="000000"/>
                </a:solidFill>
                <a:uFillTx/>
                <a:latin typeface="Arial"/>
              </a:rPr>
              <a:t>07/30/26</a:t>
            </a:fld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ffffff"/>
                </a:solidFill>
                <a:uFillTx/>
                <a:latin typeface="Arial"/>
              </a:rPr>
              <a:t>Click to move the slide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sngStrike" u="sng">
                <a:solidFill>
                  <a:srgbClr val="ffffff"/>
                </a:solidFill>
                <a:uFillTx/>
                <a:latin typeface="Arial"/>
              </a:rPr>
              <a:t>Click to edit the notes format</a:t>
            </a:r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sng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D271-73B8-49F3-9CE9-03C53542C83C}" type="slidenum">
              <a:rPr b="1" i="1" lang="en-US" sz="1200" spc="-1" strike="sng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sng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2443-9BD7-40A7-9D77-093B2BE2EB7B}" type="slidenum">
              <a:rPr b="1" i="1" lang="en-US" sz="1200" spc="-1" strike="sng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sng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87C5-663B-4826-896A-C85F8C5A56D8}" type="slidenum">
              <a:rPr b="1" i="1" lang="en-US" sz="1200" spc="-1" strike="sng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F4A3-B0FB-42B5-8C95-096AB9AA3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572E-7195-44EE-A9CD-C3457816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FB8E-4A53-4464-ADE5-81DB0567D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F0A6-F070-486A-95DE-4250DB127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6270-22A2-459E-9B79-B34ABE0EA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B0E6-B9B6-4C3A-8951-50B4AE07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46B5-4828-43FC-9425-3AD4D7CD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CAD5-28F0-44FB-A159-C4AFB55A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66C0-0624-4A73-A12F-76DC65FB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2A5A-853E-48F0-87E3-358D5A1B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B32B-81EE-41B5-9097-6A040956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C766-965E-4DC1-AD71-3CD3C2C4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6215-C91E-440C-95E9-769ABD9B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1B5F-71BE-4C3E-B0FB-02847D51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6508-53F3-4433-9D86-D52E52BD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3728-884E-42CF-BB62-A6322D13C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21C5-CDE7-4719-A730-76664F659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EEAC-40CD-42A3-95D7-A94E3A11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9F17-691F-4D18-AAF0-14E36990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EBA8-A7F1-4342-8B08-7ED03306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3952-F579-4D33-AFAE-B12CA50F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C0F5-DF3A-40D4-923E-E0C6785A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EB66-FC44-4BFE-BCA6-F32BFB57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2FEB-E0DA-4C50-8805-A2E78E61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040000">
                  <a:alpha val="38039"/>
                </a:srgbClr>
              </a:gs>
              <a:gs pos="100000">
                <a:srgbClr val="040000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040000">
                  <a:alpha val="38039"/>
                </a:srgbClr>
              </a:gs>
              <a:gs pos="100000">
                <a:srgbClr val="040000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grpSp>
        <p:nvGrpSpPr>
          <p:cNvPr id="2" name="矩形 8"/>
          <p:cNvGrpSpPr/>
          <p:nvPr/>
        </p:nvGrpSpPr>
        <p:grpSpPr>
          <a:xfrm>
            <a:off x="689040" y="3193920"/>
            <a:ext cx="7772040" cy="19080"/>
            <a:chOff x="689040" y="3193920"/>
            <a:chExt cx="7772040" cy="19080"/>
          </a:xfrm>
        </p:grpSpPr>
        <p:pic>
          <p:nvPicPr>
            <p:cNvPr id="3" name="图片模式1" descr=""/>
            <p:cNvPicPr/>
            <p:nvPr/>
          </p:nvPicPr>
          <p:blipFill>
            <a:blip r:embed="rId3"/>
            <a:stretch/>
          </p:blipFill>
          <p:spPr>
            <a:xfrm>
              <a:off x="691920" y="3193920"/>
              <a:ext cx="77691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文本框1"/>
            <p:cNvSpPr/>
            <p:nvPr/>
          </p:nvSpPr>
          <p:spPr>
            <a:xfrm>
              <a:off x="689040" y="3196800"/>
              <a:ext cx="7769520" cy="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ffffff"/>
                </a:solidFill>
                <a:uFillTx/>
                <a:latin typeface="Arial"/>
              </a:rPr>
              <a:t>Click to edit the title text format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2f2f2f"/>
              </a:buClr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Click to edit the outline text format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econ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Thir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3" marL="1600200" indent="-228600">
              <a:buClr>
                <a:srgbClr val="2f2f2f"/>
              </a:buClr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Four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4" marL="2057400" indent="-228600">
              <a:buClr>
                <a:srgbClr val="2f2f2f"/>
              </a:buClr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Fif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ix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even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100" spc="-1" strike="sng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61EE-9370-4394-B687-2A62D2E99169}" type="slidenum">
              <a:rPr b="1" i="1" lang="en-US" sz="1100" spc="-1" strike="sng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1" i="1" lang="en-US" sz="1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040000">
                  <a:alpha val="38039"/>
                </a:srgbClr>
              </a:gs>
              <a:gs pos="100000">
                <a:srgbClr val="040000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040000">
                  <a:alpha val="38039"/>
                </a:srgbClr>
              </a:gs>
              <a:gs pos="100000">
                <a:srgbClr val="040000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grpSp>
        <p:nvGrpSpPr>
          <p:cNvPr id="48" name="矩形 8"/>
          <p:cNvGrpSpPr/>
          <p:nvPr/>
        </p:nvGrpSpPr>
        <p:grpSpPr>
          <a:xfrm>
            <a:off x="457200" y="1414440"/>
            <a:ext cx="8229600" cy="12600"/>
            <a:chOff x="457200" y="1414440"/>
            <a:chExt cx="8229600" cy="12600"/>
          </a:xfrm>
        </p:grpSpPr>
        <p:pic>
          <p:nvPicPr>
            <p:cNvPr id="49" name="图片模式1" descr=""/>
            <p:cNvPicPr/>
            <p:nvPr/>
          </p:nvPicPr>
          <p:blipFill>
            <a:blip r:embed="rId3"/>
            <a:stretch/>
          </p:blipFill>
          <p:spPr>
            <a:xfrm>
              <a:off x="457200" y="1416600"/>
              <a:ext cx="8229600" cy="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文本框1"/>
            <p:cNvSpPr/>
            <p:nvPr/>
          </p:nvSpPr>
          <p:spPr>
            <a:xfrm>
              <a:off x="457200" y="1414440"/>
              <a:ext cx="8229600" cy="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3120" bIns="-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ffffff"/>
                </a:solidFill>
                <a:uFillTx/>
                <a:latin typeface="Arial"/>
              </a:rPr>
              <a:t>Click to edit the title text format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2f2f2f"/>
              </a:buClr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Click to edit the outline text format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econ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Thir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3" marL="1600200" indent="-228600">
              <a:buClr>
                <a:srgbClr val="2f2f2f"/>
              </a:buClr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Four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4" marL="2057400" indent="-228600">
              <a:buClr>
                <a:srgbClr val="2f2f2f"/>
              </a:buClr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Fif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ix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even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100" spc="-1" strike="sng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7B3F-6378-4D71-AA07-2D205335DE28}" type="slidenum">
              <a:rPr b="1" i="1" lang="en-US" sz="1100" spc="-1" strike="sng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1" i="1" lang="en-US" sz="1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6844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小标宋_GBK"/>
              </a:rPr>
              <a:t>习近平总书记关于“三农”工作重要论述及乡村振兴有关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小标宋_GBK"/>
              </a:rPr>
              <a:t>政策法规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62160" y="383220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98989"/>
                </a:solidFill>
                <a:latin typeface="方正楷体_GBK"/>
              </a:rPr>
              <a:t>区乡村振兴局   田罡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文本框1"/>
          <p:cNvSpPr/>
          <p:nvPr/>
        </p:nvSpPr>
        <p:spPr>
          <a:xfrm>
            <a:off x="1308240" y="45990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Times New Roman"/>
              </a:rPr>
              <a:t>2021.09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sngStrike" u="sng">
                <a:solidFill>
                  <a:srgbClr val="ffffff"/>
                </a:solidFill>
                <a:uFillTx/>
                <a:latin typeface="微软雅黑"/>
              </a:rPr>
              <a:t>    </a:t>
            </a: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微软雅黑"/>
              </a:rPr>
              <a:t>二、巩固拓展脱贫攻坚成果、实现同乡村振兴有效衔接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763640" y="2484000"/>
            <a:ext cx="57787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、脱贫攻坚取得决定性胜利，为乡村振兴奠定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了坚实基础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、巩固拓展脱贫攻坚成果任务紧迫而繁重，容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不得半点懈怠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3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、从脱贫攻坚转向全面推进乡村振兴，做好衔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接工作至关重要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方正仿宋_GBK"/>
              </a:rPr>
              <a:t>        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80" name="文本框 1"/>
          <p:cNvSpPr/>
          <p:nvPr/>
        </p:nvSpPr>
        <p:spPr>
          <a:xfrm>
            <a:off x="836640" y="1673280"/>
            <a:ext cx="78501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(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一）深刻认识巩固拓展脱贫攻坚成果同乡村振兴有效衔接的重要意义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6840" y="1406520"/>
            <a:ext cx="81961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sngStrike" u="sng">
                <a:solidFill>
                  <a:srgbClr val="ffffff"/>
                </a:solidFill>
                <a:uFillTx/>
                <a:latin typeface="Arial"/>
              </a:rPr>
              <a:t>            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sngStrike" u="sng">
                <a:solidFill>
                  <a:srgbClr val="ffffff"/>
                </a:solidFill>
                <a:uFillTx/>
                <a:latin typeface="方正楷体_GBK"/>
              </a:rPr>
              <a:t>  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（二）准确把握巩固拓展脱贫攻坚成果同乡村振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兴有效衔接的内在联系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sngStrike" u="sng">
                <a:solidFill>
                  <a:srgbClr val="ffffff"/>
                </a:solidFill>
                <a:uFillTx/>
                <a:latin typeface="方正楷体_GBK"/>
              </a:rPr>
              <a:t>  </a:t>
            </a:r>
            <a:r>
              <a:rPr b="1" i="1" lang="en-US" sz="2800" spc="-1" strike="sngStrike" u="sng">
                <a:solidFill>
                  <a:srgbClr val="ffffff"/>
                </a:solidFill>
                <a:uFillTx/>
                <a:latin typeface="新宋体"/>
              </a:rPr>
              <a:t> 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82" name="文本框1"/>
          <p:cNvSpPr/>
          <p:nvPr/>
        </p:nvSpPr>
        <p:spPr>
          <a:xfrm>
            <a:off x="5975280" y="6059520"/>
            <a:ext cx="3168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sngStrike" u="sng">
                <a:solidFill>
                  <a:srgbClr val="ffffff"/>
                </a:solidFill>
                <a:uFillTx/>
                <a:latin typeface="方正仿宋_GBK"/>
              </a:rPr>
              <a:t>二、我国扶贫取得的成效</a:t>
            </a:r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83" name="标题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sngStrike" u="sng">
                <a:solidFill>
                  <a:srgbClr val="ffffff"/>
                </a:solidFill>
                <a:uFillTx/>
                <a:latin typeface="微软雅黑"/>
              </a:rPr>
              <a:t>    </a:t>
            </a: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微软雅黑"/>
              </a:rPr>
              <a:t>二、巩固拓展脱贫攻坚成果、实现同乡村振兴有效衔接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84" name="图示 1" descr=""/>
          <p:cNvPicPr/>
          <p:nvPr/>
        </p:nvPicPr>
        <p:blipFill>
          <a:blip r:embed="rId2"/>
          <a:stretch/>
        </p:blipFill>
        <p:spPr>
          <a:xfrm>
            <a:off x="1736640" y="2706840"/>
            <a:ext cx="6096240" cy="3333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（二）准确把握巩固拓展脱贫攻坚成果同乡村振兴有效衔接的内在联系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86" name="文本框1"/>
          <p:cNvSpPr/>
          <p:nvPr/>
        </p:nvSpPr>
        <p:spPr>
          <a:xfrm>
            <a:off x="6056280" y="6010200"/>
            <a:ext cx="3168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sngStrike" u="sng">
                <a:solidFill>
                  <a:srgbClr val="ffffff"/>
                </a:solidFill>
                <a:uFillTx/>
                <a:latin typeface="方正仿宋_GBK"/>
              </a:rPr>
              <a:t>二、我国扶贫取得的成效</a:t>
            </a:r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87" name="图示 3" descr=""/>
          <p:cNvPicPr/>
          <p:nvPr/>
        </p:nvPicPr>
        <p:blipFill>
          <a:blip r:embed="rId2"/>
          <a:stretch/>
        </p:blipFill>
        <p:spPr>
          <a:xfrm>
            <a:off x="1560600" y="1805040"/>
            <a:ext cx="6114960" cy="4078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（二）准确把握巩固拓展脱贫攻坚成果同乡村振兴有效衔接的内在联系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26828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           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衔接点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一是设立“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5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年过渡期”。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二是突出“优先位置”。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三是明确“三大任务”。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四是坚持“三方发力”。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五是确保“平稳有序”。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sngStrike" u="sng">
                <a:solidFill>
                  <a:srgbClr val="ffffff"/>
                </a:solidFill>
                <a:uFillTx/>
                <a:latin typeface="方正仿宋_GBK"/>
              </a:rPr>
              <a:t>    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90" name="文本框1"/>
          <p:cNvSpPr/>
          <p:nvPr/>
        </p:nvSpPr>
        <p:spPr>
          <a:xfrm>
            <a:off x="5724360" y="5877000"/>
            <a:ext cx="3168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sngStrike" u="sng">
                <a:solidFill>
                  <a:srgbClr val="ffffff"/>
                </a:solidFill>
                <a:uFillTx/>
                <a:latin typeface="方正仿宋_GBK"/>
              </a:rPr>
              <a:t>二、我国扶贫取得的成效</a:t>
            </a:r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（三）突出抓好巩固拓展脱贫攻坚成果同乡村振兴有效衔接的重点任务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sngStrike" u="sng">
                <a:solidFill>
                  <a:srgbClr val="ffffff"/>
                </a:solidFill>
                <a:uFillTx/>
                <a:latin typeface="Times New Roman"/>
              </a:rPr>
              <a:t>        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1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、保持主要帮扶政策总体稳定。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       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2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、强化防止返贫致贫动态监测和帮扶</a:t>
            </a: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微软雅黑"/>
              </a:rPr>
              <a:t>。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（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）坚持“两不愁三保障”和饮水安全常态化排查调度机制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（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）建立完善农村低收入人口常态化帮扶机制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93" name="文本框1"/>
          <p:cNvSpPr/>
          <p:nvPr/>
        </p:nvSpPr>
        <p:spPr>
          <a:xfrm>
            <a:off x="5724360" y="5877000"/>
            <a:ext cx="3168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sngStrike" u="sng">
                <a:solidFill>
                  <a:srgbClr val="ffffff"/>
                </a:solidFill>
                <a:uFillTx/>
                <a:latin typeface="方正仿宋_GBK"/>
              </a:rPr>
              <a:t>二、我国扶贫取得的成效</a:t>
            </a:r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（三）突出抓好巩固拓展脱贫攻坚成果同乡村振兴有效衔接的重点任务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701640" y="1493640"/>
            <a:ext cx="822960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方正仿宋_GBK"/>
              </a:rPr>
              <a:t>     </a:t>
            </a:r>
            <a:r>
              <a:rPr b="1" i="1" lang="en-US" sz="2800" spc="-1" strike="sngStrike" u="sng">
                <a:solidFill>
                  <a:srgbClr val="ffffff"/>
                </a:solidFill>
                <a:uFillTx/>
                <a:latin typeface="新宋体"/>
              </a:rPr>
              <a:t> 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3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、统筹推进乡村振兴发展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（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）推动脱贫产业提质增效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（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）促进一二三产业深度融合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（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3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）探索建立产业带贫惠贫利益联结机制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4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、持续促进脱贫人口稳定就业。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（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）切实稳定外出就业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（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）拓宽就地就近就业渠道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（三）突出抓好巩固拓展脱贫攻坚成果同乡村振兴有效衔接的重点任务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5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、实施乡村建设行动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（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）持续改善农村基础设施条件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（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）持续开展农村人居环境整治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（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3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）是持续提升农村公共服务水平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6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、统筹推进乡风文明建设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   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（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）开展农村思想道德教育行动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（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）开展乡土文化挖掘传承创新行动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（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3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）开展乡风治理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 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7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、建立乡村振兴重点帮扶机制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文本框1"/>
          <p:cNvSpPr/>
          <p:nvPr/>
        </p:nvSpPr>
        <p:spPr>
          <a:xfrm>
            <a:off x="1311120" y="757080"/>
            <a:ext cx="62629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sngStrike" u="sng">
                <a:solidFill>
                  <a:srgbClr val="ffffff"/>
                </a:solidFill>
                <a:uFillTx/>
                <a:latin typeface="微软雅黑"/>
              </a:rPr>
              <a:t>三、简要解读乡村振兴促进法</a:t>
            </a:r>
            <a:endParaRPr b="1" i="1" lang="en-US" sz="36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微软雅黑"/>
              </a:rPr>
              <a:t>正确理解乡村振兴促进法必须把握三大要领：一是乡村振兴促进法是以增加农民收入、提高农民生活水平、提升农村文明程度为核心的振兴法；二是乡村振兴促进法主要是解决农业农村所承担的三大历史性任务，即保障好农产品供给安全、保护好农村生态屏障安全、传承好中国农村优秀文化传统；三是全面加强农村社会主义精神文明建设，包括思想政治、道德文化、社会文明等方面。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文本框 1"/>
          <p:cNvSpPr/>
          <p:nvPr/>
        </p:nvSpPr>
        <p:spPr>
          <a:xfrm>
            <a:off x="1082520" y="766800"/>
            <a:ext cx="676296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00" name="文本框1"/>
          <p:cNvSpPr/>
          <p:nvPr/>
        </p:nvSpPr>
        <p:spPr>
          <a:xfrm>
            <a:off x="958680" y="766800"/>
            <a:ext cx="7201080" cy="28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微软雅黑"/>
              </a:rPr>
              <a:t>（一）要因地制宜促进乡村产业发展，进一步增加农民收入、提高农民生活水平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第八条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国家实施以我为主、立足国内、确保产能、适度进口、科技支撑的粮食安全战略，坚持藏粮于地、藏粮于技，采取措施不断提高粮食综合生产能力，建设国家粮食安全产业带，完善粮食加工、流通、储备体系，确保谷物基本自给、口粮绝对安全，保障国家粮食安全。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　　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文本框1"/>
          <p:cNvSpPr/>
          <p:nvPr/>
        </p:nvSpPr>
        <p:spPr>
          <a:xfrm>
            <a:off x="0" y="985680"/>
            <a:ext cx="9144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Arial"/>
              </a:rPr>
              <a:t>      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Arial"/>
              </a:rPr>
              <a:t>第十四条 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Arial"/>
              </a:rPr>
              <a:t>国家建立农用地分类管理制度，严格保护耕地，严格控制农用地转为建设用地，严格控制耕地转为林地、园地等其他类型农用地。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Arial"/>
              </a:rPr>
              <a:t>　　国家实行永久基本农田保护制度，建设粮食生产功能区、重要农产品生产保护区，建设并保护高标准农田。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Arial"/>
              </a:rPr>
              <a:t>　　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Arial"/>
              </a:rPr>
              <a:t>　　第十五条 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Arial"/>
              </a:rPr>
              <a:t>国家加强农业种质资源保护利用和种质资源库建设，支持育种基础性、前沿性和应用技术研究，实施农作物和畜禽等良种培育、育种关键技术攻关，鼓励种业科技成果转化和优良品种推广，建立并实施种业国家安全审查机制，促进种业高质量发展。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sngStrike" u="sng">
                <a:solidFill>
                  <a:srgbClr val="ffffff"/>
                </a:solidFill>
                <a:uFillTx/>
                <a:latin typeface="微软雅黑"/>
              </a:rPr>
              <a:t>目 录</a:t>
            </a:r>
            <a:endParaRPr b="1" i="1" lang="en-US" sz="36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05920" y="1628640"/>
            <a:ext cx="8280360" cy="38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微软雅黑"/>
              </a:rPr>
              <a:t>一、简要回顾我国扶贫历程及政策演变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微软雅黑"/>
              </a:rPr>
              <a:t>二、巩固拓展脱贫攻坚成果、实现同乡村振       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        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微软雅黑"/>
              </a:rPr>
              <a:t>兴有效衔接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微软雅黑"/>
              </a:rPr>
              <a:t>三、简要解读乡村振兴促进法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30360" y="456840"/>
            <a:ext cx="31240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（二）要培养造就新型职业农民队伍</a:t>
            </a:r>
            <a:br>
              <a:rPr sz="2800"/>
            </a:b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30360" y="2057400"/>
            <a:ext cx="312408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微软雅黑"/>
              </a:rPr>
              <a:t>“</a:t>
            </a:r>
            <a:r>
              <a:rPr b="0" lang="en-US" sz="2000" spc="-1" strike="noStrike">
                <a:solidFill>
                  <a:srgbClr val="0d0d0d"/>
                </a:solidFill>
                <a:latin typeface="微软雅黑"/>
              </a:rPr>
              <a:t>386199</a:t>
            </a:r>
            <a:r>
              <a:rPr b="0" lang="zh-CN" sz="2000" spc="-1" strike="noStrike">
                <a:solidFill>
                  <a:srgbClr val="0d0d0d"/>
                </a:solidFill>
                <a:latin typeface="微软雅黑"/>
              </a:rPr>
              <a:t>部队”现象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386199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部队”不是一个真正部队的番号，但却是一个有着几亿成员的“特种部队”，这是在中国城市化过程中，农村大量男性青壮年劳动力外出打工后，在中国农村自然而然形成的最庞大的队伍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04" name="文本框 4"/>
          <p:cNvSpPr/>
          <p:nvPr/>
        </p:nvSpPr>
        <p:spPr>
          <a:xfrm>
            <a:off x="4346640" y="998640"/>
            <a:ext cx="45450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“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38”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指“三八”节，这里特指妇女。过去讲妇女能顶半边天，如今农村多数男劳力外出打工去了，许多妇女已经独自撑起了一片天，成为农业生产的主力军，更显巾帼英雄本色。即使在农闲，上有老、下有小，妇女同胞们柔嫩的双肩承受的生活负担也不轻松。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“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61”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指“六一”节，这里特指儿童。儿童本应在父母呵护中成长，如今父亲们都去打工了，许多妈妈也去了，孩子们只能由爷爷婆婆、外公外婆照顾，虽然都说隔代亲隔代亲、隔代很亲，但终不能代替父母之爱。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“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99”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指农历九月九，既是重阳节，也是老人节，这里特指老人。儿子、儿媳打工去了，老人们不得不老当益壮，下地做农活，回家照顾孙儿、孙女，一年到头，难得享清闲。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文本框 1"/>
          <p:cNvSpPr/>
          <p:nvPr/>
        </p:nvSpPr>
        <p:spPr>
          <a:xfrm>
            <a:off x="1665360" y="503280"/>
            <a:ext cx="58132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微软雅黑"/>
              </a:rPr>
              <a:t>三、简要解读乡村振兴促进法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06" name="文本框1"/>
          <p:cNvSpPr/>
          <p:nvPr/>
        </p:nvSpPr>
        <p:spPr>
          <a:xfrm>
            <a:off x="971640" y="1808280"/>
            <a:ext cx="7200720" cy="29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微软雅黑"/>
              </a:rPr>
              <a:t>（三）要传承好农村优秀传统文化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微软雅黑"/>
              </a:rPr>
              <a:t>（四）要加强农村生态环境保护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微软雅黑"/>
              </a:rPr>
              <a:t>（五）要加强农村基层政权建设，巩固和确保党长期执政的基层基础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Arial"/>
              </a:rPr>
              <a:t>把乡镇建设成为乡村治理中心、农村服务中心、乡村经济中心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0400" y="549000"/>
            <a:ext cx="8156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微软雅黑"/>
              </a:rPr>
              <a:t>（六）要保障好维护好农民的合法权益</a:t>
            </a:r>
            <a:br>
              <a:rPr sz="2800"/>
            </a:b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08" name="文本框 4"/>
          <p:cNvSpPr/>
          <p:nvPr/>
        </p:nvSpPr>
        <p:spPr>
          <a:xfrm>
            <a:off x="320760" y="1449360"/>
            <a:ext cx="850572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一是各级政府要承担起应有的职责。各级政府及其相关部门要严格执行法律规定，确保不打折扣、不作变通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二是各级人大要发挥好职能作用。各级人大要高度重视，认真做好听取审议专项工作报告的有关工作，不断完善工作机制，切实履行好这一法定职责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三是加快完善法律制度体系。现有的涉农法律有综合法，要对这些法律进行研究梳理，适应农业农村发展需要，统筹开展制定和修改工作。抓紧制定配套规章制度，将法律确定的重要原则和制度要求等转化为可操作、能考核、能落地的制度措施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四是做好普法宣传。通过多种方式解读法律政策，让广大农村干部群众准确理解把握法律相关规定。抓住领导干部这个关键，加强学习培训，增强运用法治思维和法治方式推进乡村振兴的能力和水平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566640" y="2303280"/>
            <a:ext cx="822960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sngStrike" u="sng">
                <a:solidFill>
                  <a:srgbClr val="ffffff"/>
                </a:solidFill>
                <a:uFillTx/>
                <a:latin typeface="Arial"/>
              </a:rPr>
              <a:t>                 </a:t>
            </a:r>
            <a:endParaRPr b="1" i="1" lang="en-US" sz="5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210" name="矩形 1" descr=""/>
          <p:cNvPicPr/>
          <p:nvPr/>
        </p:nvPicPr>
        <p:blipFill>
          <a:blip r:embed="rId2"/>
          <a:stretch/>
        </p:blipFill>
        <p:spPr>
          <a:xfrm>
            <a:off x="2859120" y="2359080"/>
            <a:ext cx="4578480" cy="1573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单圆角矩形 10"/>
          <p:cNvSpPr/>
          <p:nvPr/>
        </p:nvSpPr>
        <p:spPr>
          <a:xfrm>
            <a:off x="6102360" y="1523880"/>
            <a:ext cx="2519280" cy="6480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cubicBezTo>
                  <a:pt x="0" y="0"/>
                  <a:pt x="19186" y="0"/>
                  <a:pt x="19186" y="0"/>
                </a:cubicBezTo>
                <a:cubicBezTo>
                  <a:pt x="19635" y="0"/>
                  <a:pt x="19999" y="1492"/>
                  <a:pt x="19999" y="3333"/>
                </a:cubicBezTo>
                <a:lnTo>
                  <a:pt x="20000" y="20000"/>
                </a:lnTo>
                <a:lnTo>
                  <a:pt x="0" y="2000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grpSp>
        <p:nvGrpSpPr>
          <p:cNvPr id="105" name="组合 26"/>
          <p:cNvGrpSpPr/>
          <p:nvPr/>
        </p:nvGrpSpPr>
        <p:grpSpPr>
          <a:xfrm>
            <a:off x="4756320" y="2193840"/>
            <a:ext cx="3011400" cy="1015920"/>
            <a:chOff x="4756320" y="2193840"/>
            <a:chExt cx="3011400" cy="1015920"/>
          </a:xfrm>
        </p:grpSpPr>
        <p:sp>
          <p:nvSpPr>
            <p:cNvPr id="106" name="单圆角矩形 27"/>
            <p:cNvSpPr/>
            <p:nvPr/>
          </p:nvSpPr>
          <p:spPr>
            <a:xfrm>
              <a:off x="4756320" y="2561400"/>
              <a:ext cx="3011400" cy="648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cubicBezTo>
                    <a:pt x="0" y="0"/>
                    <a:pt x="19182" y="0"/>
                    <a:pt x="19182" y="0"/>
                  </a:cubicBezTo>
                  <a:cubicBezTo>
                    <a:pt x="19632" y="0"/>
                    <a:pt x="19995" y="1488"/>
                    <a:pt x="19995" y="3330"/>
                  </a:cubicBezTo>
                  <a:lnTo>
                    <a:pt x="20000" y="20000"/>
                  </a:lnTo>
                  <a:lnTo>
                    <a:pt x="0" y="20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dee4"/>
            </a:solidFill>
            <a:ln w="25560">
              <a:solidFill>
                <a:srgbClr val="cede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7" name="上箭头 28"/>
            <p:cNvSpPr/>
            <p:nvPr/>
          </p:nvSpPr>
          <p:spPr>
            <a:xfrm>
              <a:off x="7142040" y="2193840"/>
              <a:ext cx="625680" cy="367560"/>
            </a:xfrm>
            <a:prstGeom prst="upArrow">
              <a:avLst>
                <a:gd name="adj1" fmla="val 50000"/>
                <a:gd name="adj2" fmla="val 52903"/>
              </a:avLst>
            </a:prstGeom>
            <a:solidFill>
              <a:srgbClr val="b6ced7"/>
            </a:solidFill>
            <a:ln w="25560">
              <a:solidFill>
                <a:srgbClr val="ced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grpSp>
        <p:nvGrpSpPr>
          <p:cNvPr id="108" name="组合 23"/>
          <p:cNvGrpSpPr/>
          <p:nvPr/>
        </p:nvGrpSpPr>
        <p:grpSpPr>
          <a:xfrm>
            <a:off x="3243240" y="3205080"/>
            <a:ext cx="2757600" cy="909720"/>
            <a:chOff x="3243240" y="3205080"/>
            <a:chExt cx="2757600" cy="909720"/>
          </a:xfrm>
        </p:grpSpPr>
        <p:sp>
          <p:nvSpPr>
            <p:cNvPr id="109" name="单圆角矩形 24"/>
            <p:cNvSpPr/>
            <p:nvPr/>
          </p:nvSpPr>
          <p:spPr>
            <a:xfrm>
              <a:off x="3243240" y="3720600"/>
              <a:ext cx="2757600" cy="394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cubicBezTo>
                    <a:pt x="0" y="0"/>
                    <a:pt x="19182" y="0"/>
                    <a:pt x="19182" y="0"/>
                  </a:cubicBezTo>
                  <a:cubicBezTo>
                    <a:pt x="19632" y="0"/>
                    <a:pt x="19995" y="1488"/>
                    <a:pt x="19995" y="3330"/>
                  </a:cubicBezTo>
                  <a:lnTo>
                    <a:pt x="20000" y="20000"/>
                  </a:lnTo>
                  <a:lnTo>
                    <a:pt x="0" y="20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dee4"/>
            </a:solidFill>
            <a:ln w="25560">
              <a:solidFill>
                <a:srgbClr val="cede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0" name="上箭头 25"/>
            <p:cNvSpPr/>
            <p:nvPr/>
          </p:nvSpPr>
          <p:spPr>
            <a:xfrm>
              <a:off x="5348880" y="3205080"/>
              <a:ext cx="552240" cy="526680"/>
            </a:xfrm>
            <a:prstGeom prst="upArrow">
              <a:avLst>
                <a:gd name="adj1" fmla="val 50000"/>
                <a:gd name="adj2" fmla="val 36968"/>
              </a:avLst>
            </a:prstGeom>
            <a:solidFill>
              <a:srgbClr val="b6ced7"/>
            </a:solidFill>
            <a:ln w="25560">
              <a:solidFill>
                <a:srgbClr val="ced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grpSp>
        <p:nvGrpSpPr>
          <p:cNvPr id="111" name="组合 20"/>
          <p:cNvGrpSpPr/>
          <p:nvPr/>
        </p:nvGrpSpPr>
        <p:grpSpPr>
          <a:xfrm>
            <a:off x="1827360" y="4132440"/>
            <a:ext cx="2487600" cy="1152360"/>
            <a:chOff x="1827360" y="4132440"/>
            <a:chExt cx="2487600" cy="1152360"/>
          </a:xfrm>
        </p:grpSpPr>
        <p:sp>
          <p:nvSpPr>
            <p:cNvPr id="112" name="单圆角矩形 21"/>
            <p:cNvSpPr/>
            <p:nvPr/>
          </p:nvSpPr>
          <p:spPr>
            <a:xfrm>
              <a:off x="1827360" y="4637160"/>
              <a:ext cx="2487600" cy="6476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cubicBezTo>
                    <a:pt x="0" y="0"/>
                    <a:pt x="19182" y="0"/>
                    <a:pt x="19182" y="0"/>
                  </a:cubicBezTo>
                  <a:cubicBezTo>
                    <a:pt x="19632" y="0"/>
                    <a:pt x="19995" y="1488"/>
                    <a:pt x="19995" y="3330"/>
                  </a:cubicBezTo>
                  <a:lnTo>
                    <a:pt x="20000" y="20000"/>
                  </a:lnTo>
                  <a:lnTo>
                    <a:pt x="0" y="20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dee4"/>
            </a:solidFill>
            <a:ln w="25560">
              <a:solidFill>
                <a:srgbClr val="cede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3" name="上箭头 22"/>
            <p:cNvSpPr/>
            <p:nvPr/>
          </p:nvSpPr>
          <p:spPr>
            <a:xfrm>
              <a:off x="3762360" y="4132440"/>
              <a:ext cx="552240" cy="504720"/>
            </a:xfrm>
            <a:prstGeom prst="upArrow">
              <a:avLst>
                <a:gd name="adj1" fmla="val 50000"/>
                <a:gd name="adj2" fmla="val 38532"/>
              </a:avLst>
            </a:prstGeom>
            <a:solidFill>
              <a:srgbClr val="b6ced7"/>
            </a:solidFill>
            <a:ln w="25560">
              <a:solidFill>
                <a:srgbClr val="ced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grpSp>
        <p:nvGrpSpPr>
          <p:cNvPr id="114" name="组合 18"/>
          <p:cNvGrpSpPr/>
          <p:nvPr/>
        </p:nvGrpSpPr>
        <p:grpSpPr>
          <a:xfrm>
            <a:off x="187200" y="5284800"/>
            <a:ext cx="2659320" cy="1036800"/>
            <a:chOff x="187200" y="5284800"/>
            <a:chExt cx="2659320" cy="1036800"/>
          </a:xfrm>
        </p:grpSpPr>
        <p:sp>
          <p:nvSpPr>
            <p:cNvPr id="115" name="单圆角矩形 7"/>
            <p:cNvSpPr/>
            <p:nvPr/>
          </p:nvSpPr>
          <p:spPr>
            <a:xfrm>
              <a:off x="187200" y="5673600"/>
              <a:ext cx="2659320" cy="648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cubicBezTo>
                    <a:pt x="0" y="0"/>
                    <a:pt x="19182" y="0"/>
                    <a:pt x="19182" y="0"/>
                  </a:cubicBezTo>
                  <a:cubicBezTo>
                    <a:pt x="19632" y="0"/>
                    <a:pt x="19995" y="1488"/>
                    <a:pt x="19995" y="3330"/>
                  </a:cubicBezTo>
                  <a:lnTo>
                    <a:pt x="20000" y="20000"/>
                  </a:lnTo>
                  <a:lnTo>
                    <a:pt x="0" y="20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dee4"/>
            </a:solidFill>
            <a:ln w="25560">
              <a:solidFill>
                <a:srgbClr val="cede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6" name="上箭头 13"/>
            <p:cNvSpPr/>
            <p:nvPr/>
          </p:nvSpPr>
          <p:spPr>
            <a:xfrm>
              <a:off x="2293920" y="5284800"/>
              <a:ext cx="552600" cy="388800"/>
            </a:xfrm>
            <a:prstGeom prst="upArrow">
              <a:avLst>
                <a:gd name="adj1" fmla="val 50000"/>
                <a:gd name="adj2" fmla="val 49986"/>
              </a:avLst>
            </a:prstGeom>
            <a:solidFill>
              <a:srgbClr val="b6ced7"/>
            </a:solidFill>
            <a:ln w="25560">
              <a:solidFill>
                <a:srgbClr val="ced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3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微软雅黑"/>
              </a:rPr>
              <a:t>一、简要回顾我国扶贫历程及政策演变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18" name="文本框 1"/>
          <p:cNvSpPr/>
          <p:nvPr/>
        </p:nvSpPr>
        <p:spPr>
          <a:xfrm>
            <a:off x="189000" y="5813280"/>
            <a:ext cx="265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微软雅黑"/>
              </a:rPr>
              <a:t>广义扶贫（</a:t>
            </a:r>
            <a:r>
              <a:rPr b="1" i="1" lang="en-US" sz="1800" spc="-1" strike="sngStrike" u="sng">
                <a:solidFill>
                  <a:srgbClr val="ffffff"/>
                </a:solidFill>
                <a:uFillTx/>
                <a:latin typeface="微软雅黑"/>
              </a:rPr>
              <a:t>1949-1978</a:t>
            </a: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微软雅黑"/>
              </a:rPr>
              <a:t>）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19" name="文本框 2"/>
          <p:cNvSpPr/>
          <p:nvPr/>
        </p:nvSpPr>
        <p:spPr>
          <a:xfrm>
            <a:off x="1827360" y="4640400"/>
            <a:ext cx="2487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微软雅黑"/>
              </a:rPr>
              <a:t>瞄准农村集中贫困地区（</a:t>
            </a:r>
            <a:r>
              <a:rPr b="1" i="1" lang="en-US" sz="1800" spc="-1" strike="sngStrike" u="sng">
                <a:solidFill>
                  <a:srgbClr val="ffffff"/>
                </a:solidFill>
                <a:uFillTx/>
                <a:latin typeface="微软雅黑"/>
              </a:rPr>
              <a:t>1978-1985</a:t>
            </a: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微软雅黑"/>
              </a:rPr>
              <a:t>）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0" name="文本框 3"/>
          <p:cNvSpPr/>
          <p:nvPr/>
        </p:nvSpPr>
        <p:spPr>
          <a:xfrm>
            <a:off x="3211560" y="3738600"/>
            <a:ext cx="278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微软雅黑"/>
              </a:rPr>
              <a:t>瞄准贫困县（</a:t>
            </a:r>
            <a:r>
              <a:rPr b="1" i="1" lang="en-US" sz="1800" spc="-1" strike="sngStrike" u="sng">
                <a:solidFill>
                  <a:srgbClr val="ffffff"/>
                </a:solidFill>
                <a:uFillTx/>
                <a:latin typeface="微软雅黑"/>
              </a:rPr>
              <a:t>1986-2000</a:t>
            </a: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微软雅黑"/>
              </a:rPr>
              <a:t>）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1" name="文本框 4"/>
          <p:cNvSpPr/>
          <p:nvPr/>
        </p:nvSpPr>
        <p:spPr>
          <a:xfrm>
            <a:off x="4699080" y="2701800"/>
            <a:ext cx="288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微软雅黑"/>
              </a:rPr>
              <a:t>瞄准贫困村（</a:t>
            </a:r>
            <a:r>
              <a:rPr b="1" i="1" lang="en-US" sz="1800" spc="-1" strike="sngStrike" u="sng">
                <a:solidFill>
                  <a:srgbClr val="ffffff"/>
                </a:solidFill>
                <a:uFillTx/>
                <a:latin typeface="微软雅黑"/>
              </a:rPr>
              <a:t>2001-2013</a:t>
            </a: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微软雅黑"/>
              </a:rPr>
              <a:t>）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2" name="文本框 5"/>
          <p:cNvSpPr/>
          <p:nvPr/>
        </p:nvSpPr>
        <p:spPr>
          <a:xfrm>
            <a:off x="6000840" y="1663560"/>
            <a:ext cx="2685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微软雅黑"/>
              </a:rPr>
              <a:t>瞄准贫困户（</a:t>
            </a:r>
            <a:r>
              <a:rPr b="1" i="1" lang="en-US" sz="1800" spc="-1" strike="sngStrike" u="sng">
                <a:solidFill>
                  <a:srgbClr val="ffffff"/>
                </a:solidFill>
                <a:uFillTx/>
                <a:latin typeface="微软雅黑"/>
              </a:rPr>
              <a:t>2013 </a:t>
            </a: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微软雅黑"/>
              </a:rPr>
              <a:t>至今）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75280" y="5876640"/>
            <a:ext cx="3168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sngStrike" u="sng">
                <a:solidFill>
                  <a:srgbClr val="ffffff"/>
                </a:solidFill>
                <a:uFillTx/>
                <a:latin typeface="微软雅黑"/>
              </a:rPr>
              <a:t>一、我国扶贫工作的发展历程</a:t>
            </a:r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79320"/>
            <a:ext cx="822960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农村经济发展措施：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土地制度改革、人民公社集体经济体制、农村财产公有制；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扶贫措施：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小规模的救济式扶贫；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扶贫对象：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边远落后地区、因灾致贫人口和战争伤残人口；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    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扶贫目标：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“救急不救穷”；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扶贫成效：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1978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年，根据我国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1978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年贫困线标准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100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元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/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年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*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人，农村贫困人口规模高达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2. 5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亿人，农村贫困发生率达到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30. 7%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。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5" name="文本框1"/>
          <p:cNvSpPr/>
          <p:nvPr/>
        </p:nvSpPr>
        <p:spPr>
          <a:xfrm>
            <a:off x="297000" y="171360"/>
            <a:ext cx="813564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（一）广义扶贫：实施计划经济体制下的救济式扶贫（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1949—1978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年）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标题 1"/>
          <p:cNvSpPr/>
          <p:nvPr/>
        </p:nvSpPr>
        <p:spPr>
          <a:xfrm>
            <a:off x="557280" y="279360"/>
            <a:ext cx="856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（二）瞄准农村集中贫困地区：通过体制改革下的救济式扶贫（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1978—1985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年）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7" name="文本框 3"/>
          <p:cNvSpPr/>
          <p:nvPr/>
        </p:nvSpPr>
        <p:spPr>
          <a:xfrm>
            <a:off x="1015920" y="1584360"/>
            <a:ext cx="711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农村经济发展措施：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家庭承包经营制度取代人民公社集体经营制度，农产品进入市场，发展工商业增加农民收入；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扶贫措施：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980 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 “支援经济不发达地区发展资金”，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982 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 “三西”专项建设资金；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984 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划定了 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8 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个集中连片贫困区进行重点扶持。直接转移资金的“输血式”扶贫，具有救济性特征；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扶贫对象：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普遍性贫困特征的农村地区、极端贫困集中的连片贫困区。    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扶贫目标：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解决温饱；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扶贫成效：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贫困人口由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978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.5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亿降为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985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的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.25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亿，贫困发生率从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978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的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30.7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％降低至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985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的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4.8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％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8" name="文本框1"/>
          <p:cNvSpPr/>
          <p:nvPr/>
        </p:nvSpPr>
        <p:spPr>
          <a:xfrm>
            <a:off x="6033960" y="6189840"/>
            <a:ext cx="316872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sngStrike" u="sng">
                <a:solidFill>
                  <a:srgbClr val="ffffff"/>
                </a:solidFill>
                <a:uFillTx/>
                <a:latin typeface="方正仿宋_GBK"/>
              </a:rPr>
              <a:t>一、我国扶贫工作的发展历程</a:t>
            </a:r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（三）瞄准贫困县：开发式扶贫制度化和八七扶贫攻坚阶段（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1986- 2000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）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22000" y="1293480"/>
            <a:ext cx="816444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   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      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扶贫措施：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从中央至地方政府设置官方农村扶贫机构，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986 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，中央政府首次确定国定贫困县标准，将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331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个贫困县列入国家重点扶持范围；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994 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，国务院颁布《国家八七扶贫攻坚计划》，贫困县的数量调整为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592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个，实施有组织、有计划、大规模的开发式扶贫，从救济式扶贫转向开发式扶贫；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    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扶贫对象：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以贫困县作为重点扶持范围；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    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扶贫目标：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解决温饱、巩固温饱；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    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扶贫成效：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自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986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－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000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，全国农村贫困人口由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985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的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.25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亿减少到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000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的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3000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万，贫困发生率从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985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的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4.7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％降低至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000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的３％左右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31" name="文本框1"/>
          <p:cNvSpPr/>
          <p:nvPr/>
        </p:nvSpPr>
        <p:spPr>
          <a:xfrm>
            <a:off x="5994360" y="6194520"/>
            <a:ext cx="3168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sngStrike" u="sng">
                <a:solidFill>
                  <a:srgbClr val="ffffff"/>
                </a:solidFill>
                <a:uFillTx/>
                <a:latin typeface="方正仿宋_GBK"/>
              </a:rPr>
              <a:t>一、我国扶贫工作的发展历程</a:t>
            </a:r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（四）瞄准贫困村：“大扶贫”格局的形成和发展阶段 （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2001- 2013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）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79160" y="1493640"/>
            <a:ext cx="843588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      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扶贫措施：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002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党的十六大提出“全面繁荣农村经济”，形成集行业、区域和社会一体的大扶贫格局，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005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十六届五中全会提出建设“社会主义新农村”，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006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全面取消农业税，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007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新型农村合作医疗， 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009 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建立农村最低生活保障制度和农村社会养老保险制度，扶贫政策 “大扶贫格局”的形成和发展；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扶贫对象：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4.8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万个贫困村，整村推进；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扶贫目标：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巩固温饱；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扶贫成效：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根据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008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的标准，贫困人口数量从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001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6102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万降到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010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688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万，脱贫人口规模达到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3414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万，贫困发生率下降到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.8%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，绝对贫困问题得到有效缓解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34" name="文本框1"/>
          <p:cNvSpPr/>
          <p:nvPr/>
        </p:nvSpPr>
        <p:spPr>
          <a:xfrm>
            <a:off x="5985000" y="5950080"/>
            <a:ext cx="316836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sngStrike" u="sng">
                <a:solidFill>
                  <a:srgbClr val="ffffff"/>
                </a:solidFill>
                <a:uFillTx/>
                <a:latin typeface="方正仿宋_GBK"/>
              </a:rPr>
              <a:t>一、我国扶贫工作的发展历程</a:t>
            </a:r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方正黑体_GBK"/>
              </a:rPr>
              <a:t>（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五）瞄准贫困户：脱贫攻坚和精准扶贫阶段 （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2013 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至今）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9640" y="126828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扶贫措施：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建档立卡、“五个一批”、“六个精准”、加大财政投入、完善政策支持体系，实施精准扶贫，解决好扶持谁、谁来扶、怎么扶、如何退问题，把扶贫扶到点上扶到根上；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扶贫对象：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精准到户到人；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        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扶贫目标：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稳定解决“两不愁、三保障”；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扶贫成效：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按照我国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010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贫困线标准，由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013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农村贫困人口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9899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万人减少至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018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160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万人；农村贫困发生率由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0.2%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下降至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.7%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37" name="文本框1"/>
          <p:cNvSpPr/>
          <p:nvPr/>
        </p:nvSpPr>
        <p:spPr>
          <a:xfrm>
            <a:off x="5975280" y="6080040"/>
            <a:ext cx="3168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sngStrike" u="sng">
                <a:solidFill>
                  <a:srgbClr val="ffffff"/>
                </a:solidFill>
                <a:uFillTx/>
                <a:latin typeface="方正仿宋_GBK"/>
              </a:rPr>
              <a:t>一、我国扶贫工作的发展历程</a:t>
            </a:r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2"/>
          <a:srcRect l="19306" t="20720" r="18476" b="22175"/>
          <a:stretch/>
        </p:blipFill>
        <p:spPr>
          <a:xfrm>
            <a:off x="6551640" y="2022480"/>
            <a:ext cx="1370160" cy="1471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椭圆 35"/>
          <p:cNvSpPr/>
          <p:nvPr/>
        </p:nvSpPr>
        <p:spPr>
          <a:xfrm>
            <a:off x="485640" y="4734000"/>
            <a:ext cx="935280" cy="936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994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40" name="椭圆 34"/>
          <p:cNvSpPr/>
          <p:nvPr/>
        </p:nvSpPr>
        <p:spPr>
          <a:xfrm>
            <a:off x="450720" y="3330720"/>
            <a:ext cx="935280" cy="936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994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41" name="椭圆 33"/>
          <p:cNvSpPr/>
          <p:nvPr/>
        </p:nvSpPr>
        <p:spPr>
          <a:xfrm>
            <a:off x="457200" y="1866960"/>
            <a:ext cx="936720" cy="936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994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42" name="圆角矩形 31" descr=""/>
          <p:cNvPicPr/>
          <p:nvPr/>
        </p:nvPicPr>
        <p:blipFill>
          <a:blip r:embed="rId2"/>
          <a:stretch/>
        </p:blipFill>
        <p:spPr>
          <a:xfrm>
            <a:off x="6062760" y="4840200"/>
            <a:ext cx="2825640" cy="644760"/>
          </a:xfrm>
          <a:prstGeom prst="rect">
            <a:avLst/>
          </a:prstGeom>
          <a:ln w="0">
            <a:noFill/>
          </a:ln>
        </p:spPr>
      </p:pic>
      <p:pic>
        <p:nvPicPr>
          <p:cNvPr id="143" name="圆角矩形 30" descr=""/>
          <p:cNvPicPr/>
          <p:nvPr/>
        </p:nvPicPr>
        <p:blipFill>
          <a:blip r:embed="rId3"/>
          <a:stretch/>
        </p:blipFill>
        <p:spPr>
          <a:xfrm>
            <a:off x="3730680" y="4876920"/>
            <a:ext cx="1574640" cy="571320"/>
          </a:xfrm>
          <a:prstGeom prst="rect">
            <a:avLst/>
          </a:prstGeom>
          <a:ln w="0">
            <a:noFill/>
          </a:ln>
        </p:spPr>
      </p:pic>
      <p:pic>
        <p:nvPicPr>
          <p:cNvPr id="144" name="圆角矩形 29" descr=""/>
          <p:cNvPicPr/>
          <p:nvPr/>
        </p:nvPicPr>
        <p:blipFill>
          <a:blip r:embed="rId4"/>
          <a:stretch/>
        </p:blipFill>
        <p:spPr>
          <a:xfrm>
            <a:off x="1481040" y="4876920"/>
            <a:ext cx="1575000" cy="571320"/>
          </a:xfrm>
          <a:prstGeom prst="rect">
            <a:avLst/>
          </a:prstGeom>
          <a:ln w="0">
            <a:noFill/>
          </a:ln>
        </p:spPr>
      </p:pic>
      <p:pic>
        <p:nvPicPr>
          <p:cNvPr id="145" name="圆角矩形 26" descr=""/>
          <p:cNvPicPr/>
          <p:nvPr/>
        </p:nvPicPr>
        <p:blipFill>
          <a:blip r:embed="rId5"/>
          <a:stretch/>
        </p:blipFill>
        <p:spPr>
          <a:xfrm>
            <a:off x="6275520" y="3413160"/>
            <a:ext cx="1574640" cy="571320"/>
          </a:xfrm>
          <a:prstGeom prst="rect">
            <a:avLst/>
          </a:prstGeom>
          <a:ln w="0">
            <a:noFill/>
          </a:ln>
        </p:spPr>
      </p:pic>
      <p:pic>
        <p:nvPicPr>
          <p:cNvPr id="146" name="圆角矩形 27" descr=""/>
          <p:cNvPicPr/>
          <p:nvPr/>
        </p:nvPicPr>
        <p:blipFill>
          <a:blip r:embed="rId6"/>
          <a:stretch/>
        </p:blipFill>
        <p:spPr>
          <a:xfrm>
            <a:off x="3781440" y="3413160"/>
            <a:ext cx="1574640" cy="571320"/>
          </a:xfrm>
          <a:prstGeom prst="rect">
            <a:avLst/>
          </a:prstGeom>
          <a:ln w="0">
            <a:noFill/>
          </a:ln>
        </p:spPr>
      </p:pic>
      <p:pic>
        <p:nvPicPr>
          <p:cNvPr id="147" name="圆角矩形 28" descr=""/>
          <p:cNvPicPr/>
          <p:nvPr/>
        </p:nvPicPr>
        <p:blipFill>
          <a:blip r:embed="rId7"/>
          <a:stretch/>
        </p:blipFill>
        <p:spPr>
          <a:xfrm>
            <a:off x="1376280" y="3413160"/>
            <a:ext cx="1575000" cy="571320"/>
          </a:xfrm>
          <a:prstGeom prst="rect">
            <a:avLst/>
          </a:prstGeom>
          <a:ln w="0">
            <a:noFill/>
          </a:ln>
        </p:spPr>
      </p:pic>
      <p:pic>
        <p:nvPicPr>
          <p:cNvPr id="148" name="圆角矩形 22" descr=""/>
          <p:cNvPicPr/>
          <p:nvPr/>
        </p:nvPicPr>
        <p:blipFill>
          <a:blip r:embed="rId8"/>
          <a:stretch/>
        </p:blipFill>
        <p:spPr>
          <a:xfrm>
            <a:off x="7248600" y="2006640"/>
            <a:ext cx="1185840" cy="573120"/>
          </a:xfrm>
          <a:prstGeom prst="rect">
            <a:avLst/>
          </a:prstGeom>
          <a:ln w="0">
            <a:noFill/>
          </a:ln>
        </p:spPr>
      </p:pic>
      <p:pic>
        <p:nvPicPr>
          <p:cNvPr id="149" name="圆角矩形 23" descr=""/>
          <p:cNvPicPr/>
          <p:nvPr/>
        </p:nvPicPr>
        <p:blipFill>
          <a:blip r:embed="rId9"/>
          <a:stretch/>
        </p:blipFill>
        <p:spPr>
          <a:xfrm>
            <a:off x="5830920" y="2016000"/>
            <a:ext cx="1214280" cy="571680"/>
          </a:xfrm>
          <a:prstGeom prst="rect">
            <a:avLst/>
          </a:prstGeom>
          <a:ln w="0">
            <a:noFill/>
          </a:ln>
        </p:spPr>
      </p:pic>
      <p:pic>
        <p:nvPicPr>
          <p:cNvPr id="150" name="圆角矩形 24" descr=""/>
          <p:cNvPicPr/>
          <p:nvPr/>
        </p:nvPicPr>
        <p:blipFill>
          <a:blip r:embed="rId10"/>
          <a:stretch/>
        </p:blipFill>
        <p:spPr>
          <a:xfrm>
            <a:off x="4343400" y="2006640"/>
            <a:ext cx="1284120" cy="571320"/>
          </a:xfrm>
          <a:prstGeom prst="rect">
            <a:avLst/>
          </a:prstGeom>
          <a:ln w="0">
            <a:noFill/>
          </a:ln>
        </p:spPr>
      </p:pic>
      <p:pic>
        <p:nvPicPr>
          <p:cNvPr id="151" name="圆角矩形 25" descr=""/>
          <p:cNvPicPr/>
          <p:nvPr/>
        </p:nvPicPr>
        <p:blipFill>
          <a:blip r:embed="rId11"/>
          <a:stretch/>
        </p:blipFill>
        <p:spPr>
          <a:xfrm>
            <a:off x="2952720" y="2006640"/>
            <a:ext cx="1155600" cy="571320"/>
          </a:xfrm>
          <a:prstGeom prst="rect">
            <a:avLst/>
          </a:prstGeom>
          <a:ln w="0">
            <a:noFill/>
          </a:ln>
        </p:spPr>
      </p:pic>
      <p:pic>
        <p:nvPicPr>
          <p:cNvPr id="152" name="圆角矩形 19" descr=""/>
          <p:cNvPicPr/>
          <p:nvPr/>
        </p:nvPicPr>
        <p:blipFill>
          <a:blip r:embed="rId12"/>
          <a:stretch/>
        </p:blipFill>
        <p:spPr>
          <a:xfrm>
            <a:off x="1403280" y="2006640"/>
            <a:ext cx="1346400" cy="5713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方正仿宋_GBK"/>
              </a:rPr>
              <a:t>总体情况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54" name="标题 1"/>
          <p:cNvSpPr/>
          <p:nvPr/>
        </p:nvSpPr>
        <p:spPr>
          <a:xfrm>
            <a:off x="5724360" y="5877000"/>
            <a:ext cx="3168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sngStrike" u="sng">
                <a:solidFill>
                  <a:srgbClr val="ffffff"/>
                </a:solidFill>
                <a:uFillTx/>
                <a:latin typeface="方正仿宋_GBK"/>
              </a:rPr>
              <a:t>一、我国扶贫工作的发展历程</a:t>
            </a:r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55" name="文本框 1"/>
          <p:cNvSpPr/>
          <p:nvPr/>
        </p:nvSpPr>
        <p:spPr>
          <a:xfrm>
            <a:off x="1446120" y="2151000"/>
            <a:ext cx="1452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Arial"/>
              </a:rPr>
              <a:t>救急不救穷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56" name="文本框 2"/>
          <p:cNvSpPr/>
          <p:nvPr/>
        </p:nvSpPr>
        <p:spPr>
          <a:xfrm>
            <a:off x="2981160" y="2117880"/>
            <a:ext cx="1100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Arial"/>
              </a:rPr>
              <a:t>贫困地区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57" name="文本框 4"/>
          <p:cNvSpPr/>
          <p:nvPr/>
        </p:nvSpPr>
        <p:spPr>
          <a:xfrm>
            <a:off x="4473720" y="2119320"/>
            <a:ext cx="996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Arial"/>
              </a:rPr>
              <a:t>贫困县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58" name="文本框 5"/>
          <p:cNvSpPr/>
          <p:nvPr/>
        </p:nvSpPr>
        <p:spPr>
          <a:xfrm>
            <a:off x="5904000" y="2117880"/>
            <a:ext cx="1158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Arial"/>
              </a:rPr>
              <a:t>整村推进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59" name="文本框 6"/>
          <p:cNvSpPr/>
          <p:nvPr/>
        </p:nvSpPr>
        <p:spPr>
          <a:xfrm>
            <a:off x="7283520" y="2076480"/>
            <a:ext cx="1158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Arial"/>
              </a:rPr>
              <a:t>精准到户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0" name="文本框 7"/>
          <p:cNvSpPr/>
          <p:nvPr/>
        </p:nvSpPr>
        <p:spPr>
          <a:xfrm>
            <a:off x="1550880" y="3514680"/>
            <a:ext cx="1557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Arial"/>
              </a:rPr>
              <a:t>救济式扶贫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1" name="文本框 8"/>
          <p:cNvSpPr/>
          <p:nvPr/>
        </p:nvSpPr>
        <p:spPr>
          <a:xfrm>
            <a:off x="3851280" y="3514680"/>
            <a:ext cx="133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Arial"/>
              </a:rPr>
              <a:t>开发式扶贫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2" name="文本框 9"/>
          <p:cNvSpPr/>
          <p:nvPr/>
        </p:nvSpPr>
        <p:spPr>
          <a:xfrm>
            <a:off x="6510240" y="3514680"/>
            <a:ext cx="1201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Arial"/>
              </a:rPr>
              <a:t>多维扶贫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3" name="文本框 10"/>
          <p:cNvSpPr/>
          <p:nvPr/>
        </p:nvSpPr>
        <p:spPr>
          <a:xfrm>
            <a:off x="1619280" y="5010120"/>
            <a:ext cx="1225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Arial"/>
              </a:rPr>
              <a:t>解决温饱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4" name="文本框 12"/>
          <p:cNvSpPr/>
          <p:nvPr/>
        </p:nvSpPr>
        <p:spPr>
          <a:xfrm>
            <a:off x="3924360" y="5010120"/>
            <a:ext cx="1431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Arial"/>
              </a:rPr>
              <a:t>巩固温饱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5" name="文本框 13"/>
          <p:cNvSpPr/>
          <p:nvPr/>
        </p:nvSpPr>
        <p:spPr>
          <a:xfrm>
            <a:off x="6073920" y="4973760"/>
            <a:ext cx="2749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Arial"/>
              </a:rPr>
              <a:t>稳定解决“两不愁三保障”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6" name="文本框 14"/>
          <p:cNvSpPr/>
          <p:nvPr/>
        </p:nvSpPr>
        <p:spPr>
          <a:xfrm>
            <a:off x="604800" y="2011320"/>
            <a:ext cx="841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Arial"/>
              </a:rPr>
              <a:t>对象精准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7" name="文本框 15"/>
          <p:cNvSpPr/>
          <p:nvPr/>
        </p:nvSpPr>
        <p:spPr>
          <a:xfrm>
            <a:off x="500040" y="3514680"/>
            <a:ext cx="81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Arial"/>
              </a:rPr>
              <a:t>方式多元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8" name="文本框 16"/>
          <p:cNvSpPr/>
          <p:nvPr/>
        </p:nvSpPr>
        <p:spPr>
          <a:xfrm>
            <a:off x="619200" y="4883040"/>
            <a:ext cx="81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Arial"/>
              </a:rPr>
              <a:t>目标提高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9" name="文本框 44"/>
          <p:cNvSpPr/>
          <p:nvPr/>
        </p:nvSpPr>
        <p:spPr>
          <a:xfrm>
            <a:off x="2055960" y="1555920"/>
            <a:ext cx="511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微软雅黑 Light"/>
              </a:rPr>
              <a:t>探索更加符合国情和发展阶段的扶贫脱贫之路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717640" y="2260440"/>
            <a:ext cx="255600" cy="9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c47546"/>
            </a:solidFill>
            <a:miter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087800" y="2244600"/>
            <a:ext cx="255600" cy="9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c47546"/>
            </a:solidFill>
            <a:miter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589720" y="2281320"/>
            <a:ext cx="255600" cy="9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c47546"/>
            </a:solidFill>
            <a:miter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010280" y="2254320"/>
            <a:ext cx="254160" cy="9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c47546"/>
            </a:solidFill>
            <a:miter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337000" y="3605040"/>
            <a:ext cx="935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c47546"/>
            </a:solidFill>
            <a:miter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981160" y="5065560"/>
            <a:ext cx="800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c47546"/>
            </a:solidFill>
            <a:miter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895480" y="3605040"/>
            <a:ext cx="935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c47546"/>
            </a:solidFill>
            <a:miter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273640" y="5043600"/>
            <a:ext cx="839880" cy="25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c47546"/>
            </a:solidFill>
            <a:miter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9-27T04:09:02Z</dcterms:created>
  <dc:creator/>
  <dc:description/>
  <dc:language>en-US</dc:language>
  <cp:lastModifiedBy/>
  <dcterms:modified xsi:type="dcterms:W3CDTF">2021-09-27T15:56:28Z</dcterms:modified>
  <cp:revision>0</cp:revision>
  <dc:subject/>
  <dc:title>巩固拓展脱贫攻坚成果全面推进乡村振兴</dc:title>
</cp:coreProperties>
</file>