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7F4-9E9D-43A3-9D09-CE32DC2B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646-563D-4E58-9DFB-73D5CB3F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9333-A8CC-4650-937B-A4A49E28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4EA-FFB1-416C-8B93-9006F24A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495D-2851-4A44-B001-1115BC2B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8560-8074-4943-AFDB-F84E5D41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57B4-C9A3-4683-8D3B-A5919BC7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5ACB-C036-4F3C-A3D2-1FA472C4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B4A3-8B3F-4AB3-B4CF-960851F9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DC02-A30C-4713-AB13-E4663DC5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199A-0B69-4F86-AC0E-77780EFA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F40-B1F0-485E-8862-E65322D2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C044-45C1-47C5-B845-96AD61D6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5A39-C78C-419F-80E3-51E98D64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399C-158B-4E28-B965-8DB2BF8B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D683-87FB-400C-A110-20DEAB61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7DD8-7916-4B05-9B9B-79B1C027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21B8-90D5-489B-8413-577D538A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F4B-777D-46CF-82EB-4C46A780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6590-A99F-40DB-B92F-5DC02B79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EB4-91F6-4E13-BF8A-D3F23AC7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2EC-138D-4C09-AEDA-3E2BECDF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24B-F29F-4143-80C3-9DC3C850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FFB-BCFF-437F-944D-FC53C8D1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11BD-56BA-4DB4-AF2E-9C7AD96A6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C170-BEA4-43A0-B7A7-E8193CA2CEC3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2514600" y="32925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重庆市涪陵区扶贫开发办公室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62520" y="3886200"/>
            <a:ext cx="1447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田</a:t>
            </a:r>
            <a:r>
              <a:rPr b="0" lang="en-US" sz="24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</a:t>
            </a:r>
            <a:r>
              <a:rPr b="0" lang="zh-CN" sz="24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罡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685800" y="2514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帮扶干部入户走访“六看六问”工作法</a:t>
            </a:r>
            <a:r>
              <a:rPr b="0" lang="en-US" sz="36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04920" y="2209680"/>
            <a:ext cx="8534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三问教育资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家庭子女义务教育阶段享受教育资助情况，问资助是否到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457200" y="236232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四问饮水安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能否正常饮水，水量、水质以及用水方便程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04920" y="990720"/>
            <a:ext cx="83818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五问小额信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扶贫小额信贷获贷情况、投入产业发展情况、扶贫小额信贷政策的知晓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1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什么是扶贫小额信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2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扶贫小额信贷的对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3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扶贫小额信贷的主要用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4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扶贫小额信贷中的实施主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5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帮扶干部在扶贫小额信贷中的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533520" y="220968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六问帮扶需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致贫原因、生产生活中存在实际困难以及亟需解决的突出问题，问对帮扶工作是否满意、还有什么诉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429000" y="28195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谢谢！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120" y="205704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          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一看环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贫困户周边环境是否存在“脏乱差”现象、室内室外房前屋后是否清洁卫生、院坝庭院生产生活工具是否分类摆放整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533520" y="1981080"/>
            <a:ext cx="830556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二看住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贫困户所住房屋是否存在安全隐患、是否是唯一住房、是否有经济能力改造、是否长期无人居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979a5"/>
                </a:solidFill>
                <a:latin typeface="方正楷体_GBK"/>
                <a:ea typeface="方正楷体_GBK"/>
              </a:rPr>
              <a:t>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80880" y="2057400"/>
            <a:ext cx="8534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三看吃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贫困户家里有无满足基本生活需求的口粮及其他必要营养食品、家庭成员有无四季换洗衣服和棉被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457200" y="1752480"/>
            <a:ext cx="8381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四看专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户专栏上明白卡基础信息是否真实准确、联心卡基本信息是否真实准确、扶贫惠民政策摘编是否表述准确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57200" y="19051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五看手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《重庆市脱贫攻坚帮扶手册》帮扶措施是否齐全、帮扶成效是否明显、填写是否规范、收入台账是否前后一致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57200" y="205740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六看资料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看有无贫困户收入调查表、扶贫到户政策汇编、医疗服务协议、各类保险单据、帮扶手册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457200" y="137160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一问家庭收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家庭成员所从事职业及家庭经营性、工资性、财产性、保障性收入等情况，问收入是否达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743200" y="3886200"/>
            <a:ext cx="4648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1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发展扶贫产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2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开展就业扶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3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做好兜底保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979a5"/>
                </a:solidFill>
                <a:latin typeface="Times New Roman"/>
                <a:ea typeface="方正仿宋_GBK"/>
              </a:rPr>
              <a:t>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533520" y="1066680"/>
            <a:ext cx="8001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二问医疗救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        </a:t>
            </a:r>
            <a:r>
              <a:rPr b="0" lang="zh-CN" sz="3200" spc="-1" strike="noStrike">
                <a:solidFill>
                  <a:srgbClr val="7979a5"/>
                </a:solidFill>
                <a:latin typeface="方正小标宋_GBK"/>
                <a:ea typeface="方正小标宋_GBK"/>
              </a:rPr>
              <a:t>详细了解贫困户家庭成员医保参保情况、特病卡办理情况、就医门诊和住院报销的比例和金额，问救助是否到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1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建卡贫户参加医疗保险情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2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建卡贫困户慢病患者特病卡办理情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3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建卡贫困户医疗救助的重大政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4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建卡贫困户家庭医生签约服务情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       </a:t>
            </a:r>
            <a:r>
              <a:rPr b="0" lang="en-US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5</a:t>
            </a:r>
            <a:r>
              <a:rPr b="0" lang="zh-CN" sz="3200" spc="-1" strike="noStrike">
                <a:solidFill>
                  <a:srgbClr val="7979a5"/>
                </a:solidFill>
                <a:latin typeface="Times New Roman"/>
                <a:ea typeface="方正黑体_GBK"/>
              </a:rPr>
              <a:t>、建卡贫困户门诊和住院自付比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19T04:46:16Z</dcterms:created>
  <dc:creator>Administrator</dc:creator>
  <dc:description/>
  <dc:language>en-US</dc:language>
  <cp:lastModifiedBy>王兴洪</cp:lastModifiedBy>
  <dcterms:modified xsi:type="dcterms:W3CDTF">2019-09-04T03:25:4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